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57.png" ContentType="image/png"/>
  <Override PartName="/ppt/media/image53.png" ContentType="image/png"/>
  <Override PartName="/ppt/media/image56.jpeg" ContentType="image/jpeg"/>
  <Override PartName="/ppt/media/image52.jpeg" ContentType="image/jpeg"/>
  <Override PartName="/ppt/media/image1.png" ContentType="image/png"/>
  <Override PartName="/ppt/media/image51.png" ContentType="image/png"/>
  <Override PartName="/ppt/media/image50.png" ContentType="image/png"/>
  <Override PartName="/ppt/media/image13.jpeg" ContentType="image/jpeg"/>
  <Override PartName="/ppt/media/image44.png" ContentType="image/png"/>
  <Override PartName="/ppt/media/image54.jpeg" ContentType="image/jpeg"/>
  <Override PartName="/ppt/media/image20.gif" ContentType="image/gif"/>
  <Override PartName="/ppt/media/image23.png" ContentType="image/png"/>
  <Override PartName="/ppt/media/image34.png" ContentType="image/png"/>
  <Override PartName="/ppt/media/image4.png" ContentType="image/png"/>
  <Override PartName="/ppt/media/image32.png" ContentType="image/png"/>
  <Override PartName="/ppt/media/image25.jpeg" ContentType="image/jpeg"/>
  <Override PartName="/ppt/media/image2.png" ContentType="image/png"/>
  <Override PartName="/ppt/media/image14.png" ContentType="image/png"/>
  <Override PartName="/ppt/media/image15.jpeg" ContentType="image/jpeg"/>
  <Override PartName="/ppt/media/image21.jpeg" ContentType="image/jpeg"/>
  <Override PartName="/ppt/media/image29.png" ContentType="image/png"/>
  <Override PartName="/ppt/media/image16.jpeg" ContentType="image/jpeg"/>
  <Override PartName="/ppt/media/image62.png" ContentType="image/png"/>
  <Override PartName="/ppt/media/image3.png" ContentType="image/png"/>
  <Override PartName="/ppt/media/chimes.wav" ContentType="audio/x-wav"/>
  <Override PartName="/ppt/media/image17.jpeg" ContentType="image/jpeg"/>
  <Override PartName="/ppt/media/image61.jpeg" ContentType="image/jpeg"/>
  <Override PartName="/ppt/media/image40.png" ContentType="image/png"/>
  <Override PartName="/ppt/media/image59.jpeg" ContentType="image/jpeg"/>
  <Override PartName="/ppt/media/image24.wmf" ContentType="image/x-wmf"/>
  <Override PartName="/ppt/media/image63.png" ContentType="image/png"/>
  <Override PartName="/ppt/media/image60.gif" ContentType="image/gif"/>
  <Override PartName="/ppt/media/image58.jpeg" ContentType="image/jpeg"/>
  <Override PartName="/ppt/media/image31.png" ContentType="image/png"/>
  <Override PartName="/ppt/media/image26.jpeg" ContentType="image/jpeg"/>
  <Override PartName="/ppt/media/image42.png" ContentType="image/png"/>
  <Override PartName="/ppt/media/image19.jpeg" ContentType="image/jpeg"/>
  <Override PartName="/ppt/media/image1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type.wav" ContentType="audio/x-wav"/>
  <Override PartName="/ppt/media/image8.png" ContentType="image/png"/>
  <Override PartName="/ppt/media/image38.png" ContentType="image/png"/>
  <Override PartName="/ppt/media/image45.gif" ContentType="image/gif"/>
  <Override PartName="/ppt/media/image11.jpeg" ContentType="image/jpeg"/>
  <Override PartName="/ppt/media/image22.jpeg" ContentType="image/jpeg"/>
  <Override PartName="/ppt/media/image39.png" ContentType="image/png"/>
  <Override PartName="/ppt/media/image64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30.png" ContentType="image/png"/>
  <Override PartName="/ppt/media/image9.jpeg" ContentType="image/jpeg"/>
  <Override PartName="/ppt/media/image33.gif" ContentType="image/gif"/>
  <Override PartName="/ppt/media/image36.png" ContentType="image/png"/>
  <Override PartName="/ppt/media/image41.png" ContentType="image/png"/>
  <Override PartName="/ppt/media/image55.gif" ContentType="image/gif"/>
  <Override PartName="/ppt/media/image46.jpeg" ContentType="image/jpeg"/>
  <Override PartName="/ppt/media/image47.jpeg" ContentType="image/jpeg"/>
  <Override PartName="/ppt/media/image4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0151-BF84-48BD-B005-B1E12EF27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能够用英语询问颜色，并能够做出相应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的问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能够说出一些日常用品的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能够正确读、写英语字母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–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4. 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能够辨认英语字母缩写的商标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B6FC-55DF-478A-BEBF-799B09E5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AFBC-2198-4D39-914C-8182D263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71DE9-DEEA-4D7D-8185-0E9EFD6C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E59AD-F233-4856-A119-05FAB6B2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C4654-3D0D-4ADB-88CA-A561066C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D69BF-EBAF-418D-AEBF-70327BE9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92D6D-0B3A-4801-84A2-61E7204C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61ACC-7CD0-431D-9B56-31BA5749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AF857-559C-4483-9BB1-2263E71D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0BD41-6223-4797-888A-97C0EB46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FC4AD-0936-4680-9214-1CDB663B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E2C84-ADA4-4113-A526-2AD3A2B1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98CD-DB39-4CA4-A6D5-34BDA903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0C0D0-5B4D-40D6-8854-DB40C39E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5FC59-DC31-4C8A-A67B-22C6D17E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ABE1E-D3FA-4734-A466-95E798D0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0C654-AD23-449A-A359-411FA607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D0666-F8D0-4827-9BED-7796B0FF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6B7A2-2079-450B-A45A-5A82468B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59F80-37BC-44B6-881A-67E7A5CB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4A925-A34E-4587-AF34-AE53FA9C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F08CA-ABE8-43E3-AA36-204EF19F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8535B-669A-46BE-9FE2-57D2BEE7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9F9-0F27-44A5-B40A-D7C9B6F4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D3EB2-B7D5-4541-BF91-73034612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6559B-AF37-46BE-88E1-352D9A8A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63C4C-5F87-4F9C-B695-F3F7F27E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CD4FA-2F12-46D2-9C47-423AE472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CC462-CDCD-4CAF-8AF0-47745AF9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CCDD0-331C-4286-8F80-31081C5F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166B2-7998-41EB-AF81-4153404F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7EB45-BDF9-48C9-9131-9D04977F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2310C-E1B8-42E5-9C34-BDF52EA7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11021-7870-43B9-8989-C80EB57B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3B1B-295B-4245-94AF-0041EA1F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BAEC1-2E49-4186-8FD3-CC5ED31A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6DCFC-FE31-424A-8C1F-B6E057E9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969E3-D86B-4870-8013-27DCF2BE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4787D-1595-4B5F-BB04-AB61BE63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2CE05-A2B0-46B1-8F41-A1D1507A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92763-2765-4B86-ACD2-767906F7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FF38D-F242-4FD3-8784-C0EC2D59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50A46-B4CA-4070-8444-136EB876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3EBBC-6602-42E0-BFC0-BC43E515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732ED-14EA-4514-9EFB-A4A5962D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07DE-F01F-4790-B262-513220CA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EBAFF-EF01-4CB8-BFE2-B47C4CE1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F2B30-D7A5-41B3-86F2-D2E1658B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07734-65DF-49F4-ACC5-7EE46C85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D2E23-EF40-4C33-BC0E-6F8351E2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5F4AD-ED96-42E6-9F1F-E9FBF23A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A2BE52-97E0-40CA-A2FE-AA18EB51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ACDAFA-7E50-46DD-B6B2-1D8E4DD2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5658BF-B6D9-49E1-BBF7-888C469C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8271A5-FAA2-4ACA-A976-3360E61A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BD14D-92D2-4A75-81C4-C4EA59F9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6C22-B7A1-41BF-AB7A-C3BEE136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A9D252-523D-438F-A559-7AED6B96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9DF4C6-FDA6-4B36-AAEA-7B3A414D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F2A24-CC15-404F-9EB4-01B2D9F2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7AD43-94FC-4368-A129-81DF394D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4993DF-D6AD-4C36-90D7-0A923A7B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6134A-2C07-4C53-B4C6-D38617C2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1A6EE-5C35-4F34-8CCA-84ED8F34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F5E49-519E-4CC8-8EF3-1156E560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11C09-EB2A-424F-B07F-C8C3A069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03E4A7-EE3B-4411-86F1-94E1150D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F79C-1EB9-4D6C-B206-0A9E1A2D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1AB7A-590B-4C7A-A684-CACFDF38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652314-FD68-4798-AA1E-781F85DE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DEEAFE-19AA-456F-8E99-7707CB99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F3E63-C354-44E9-AFC1-B9E7D0F2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D721BF-0E04-4CD3-B0AF-C16347A7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AEFDAE-8A60-4380-B744-4EB1C95A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FB3D2-5F7D-4B3B-97E4-739E6866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5F902-E254-4EF0-A199-98BF5F1E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26261-4FF4-4C1F-8320-31196D14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F7FBC9-0F68-493B-AF1F-9CD40E58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D5B2-9BE8-4334-AD06-24FFAC77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D8AF80-C5A6-4387-AF49-5C5D96C9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5F1056-06A4-46CC-8F04-9E2C3110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8058D9-445A-417E-83CC-416A6B58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6AB2D9-A4D3-4762-B517-7291530E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6D707C-2D3B-4045-80B5-8354B05C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005C0C-621F-4973-AD4F-2798DCB8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4423DA-F443-42FF-8A09-95262FB0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976CAC-EEDB-4DE1-8F4A-836AB4A3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EE4885-B96A-4F6C-8C83-5BFB6637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132A2E-6479-4DD5-B445-24E119E6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149A-7D45-4B77-98FD-E92D58D3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58287-32DD-48FE-8E7D-A0A4EEEC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CB7EA5-ABF0-46AC-98B8-A12E0B65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3AF6EA-52FA-42D2-892D-7644718A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EB6DE6-A682-4675-AE9F-F1CC1FD7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2218DF-23A4-469A-AE13-3FD66643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170AAE-E9CC-427D-A483-ADBDBC0B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7492BE-81A6-4DD0-A181-67CAD295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9F6586-CE7F-469D-A661-9030B2BA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A685F8-0690-4DCB-B415-4D456771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909344-3147-4366-9609-DB8D45AF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8281-6CFE-496C-BA45-25BC09DE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7CF2D-6CBA-4F8B-94A5-7CEA0A33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8F2A95-9FC7-4762-AEEC-E7E92DF8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92E0FD-FB65-4F97-A8DB-249CE379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ECC-D41F-4014-87C3-12C0CCE2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8A62-A527-4D08-B166-90BD4650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D339-5339-4905-AA6E-2F182CCC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2BE9-2AF4-46D7-AA10-10BD4047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0C0F-B5AC-40A0-9665-59919E88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543A-D213-4469-9B1A-9E934404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1E546-D28A-4583-B3AB-4CE03CC9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2D0D2-603D-48DA-84AE-B5F43254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3A5E8-F394-442C-8FAD-8F8FDDEA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17CE7-A504-4906-97AC-09BDA02F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5594B-8687-4D98-BEAF-38A45282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A56-947F-43F4-9F11-C28C33AE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F3C24-7C63-4B79-9F2C-737F1E4B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B3B1C-9A5A-4A71-B799-12FDAA8F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C925D-6622-43F7-B91E-3FAD18F6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54AB9-2B13-409E-BD0E-374A196C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FA00C-71DD-471E-AF46-D73F987D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20464-8033-4461-BB41-1159521D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C9AEF-F844-47D2-88CD-45EDE6E6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15AE8-0D54-44BA-AF44-B74E0268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0941F-B1C8-48CB-A890-BDD92BA7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3D5F3-23EE-4538-8280-C67B9482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9D69-7134-4FAC-960A-F99FFC28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EC076-0F44-476D-8FD1-04594F59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624D8-97B5-4C22-9F2B-3CF7EF48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D7AD6-70F7-4F1A-BE3E-41952912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F11E2-5FE5-4F4A-915C-A761F98D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C445D-0B1A-455A-8A15-3DC33E74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3B507-CE3B-4226-ADAF-52C67D81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16FDB-81FC-4E48-A2D2-AAF1C7F1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F6EA2-329B-4976-8489-81197363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FBDEF-75C4-4082-A228-A090061B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2AE85-89C6-4301-9EFC-23B30080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284C-1390-4511-A35B-8DA581F2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90985-2735-486E-851E-83F8611C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49EAD-A58B-4A32-B39C-8826AFC1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729A2-4221-4FF5-AA11-1B233A5D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E347B-97AB-4868-B2F9-70102895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6BDAD-1F0E-4A6C-9824-D3E6DDD0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61A3F-5CAB-4FBB-BCDF-67231D43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9A6F6-7327-4F34-BD79-D4285BFF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C726A-7D16-47AA-A6B9-3E423104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8D010-1249-44A1-A4EF-916D2F5C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8594C-0A56-447C-A782-FA0D34A6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7A4-7911-4BD7-90C5-B43F0950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CF3A5-7668-4EF8-A7F1-F146FF4E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2F91A-49D6-477C-8359-E18845CC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44444-DD5C-4055-A843-F24EBD8C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1489F-C31E-4438-BC3D-CB316E47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97087-49EF-44CC-9481-0E6157CD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B591D-31BD-4955-B2EE-1B698E24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54CD3-6D21-4368-BAD7-718DEE42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4282C-80AD-49B9-B7D7-ACEBEF81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3E2C0-FF74-4794-BA41-6D990202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5B945-204A-494D-A82D-90002DC4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8133-44B3-4CFF-A183-DA890E1C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C500F-6A1D-4C9A-8892-FA383B88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CF562-D612-446B-9F46-D71060C1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4FF1B-FF09-429D-9C6C-0E8702D0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DD2D8-7C24-4DDF-81B3-93AF5A23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DEA05-C600-4B54-86D6-E711390A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F13DE-2FBC-40F9-AC24-78B40316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661D1-137F-42B4-AE0E-F22A0059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365D9-9899-4E00-9CCD-FE1E9BD8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4EB37-B01D-47F4-90FF-9E4E7A12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02452-3310-4673-84E4-E66547DD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206-3A1A-4DE5-B2DC-BB452E10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93BE5-8EF7-4206-92EA-690F262C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8515E-7B43-4546-953F-426B4548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60D93-657E-4080-A564-E08997EB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50058-6F0B-44C5-80B6-0E267C98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360AC-69AE-4455-B0EE-1E2FA712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22AF3-CCEB-444F-A146-E150EE6B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107F7-DC80-4376-B2DA-42F1B6EE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E1DFA-0C9C-491F-82BD-2BE0F3AC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79921-B1B8-457E-8045-2B25DC05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985F1-A451-4164-94DC-0ED44301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4D2D-8ED0-4FB2-A460-7CC358C6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663560" y="365040"/>
            <a:ext cx="581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63A82-88D0-418E-9370-BC8F4ECE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06FCB-E0C6-4945-8D7C-6447BDE0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E9C26-AAA1-4EEA-B498-8B979011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58565-68A8-462B-9FCA-46BD67DC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2DD67-76F3-4CA8-83EC-E90F35CC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4F916-D721-4592-8E09-3177B7D9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32404-FCC3-4C5D-A688-70555EDF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3D7CC-74EE-41C8-A7FF-82311C82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09805-0227-4CE1-9DB8-3AC5E40E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BB5AC-A8D5-43E3-BD46-EAD92FA7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1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5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8EEC-B077-49FD-9259-D596B4AE8CD6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465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469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任意多边形 30"/>
          <p:cNvGrpSpPr/>
          <p:nvPr/>
        </p:nvGrpSpPr>
        <p:grpSpPr>
          <a:xfrm>
            <a:off x="6357960" y="649800"/>
            <a:ext cx="1001160" cy="721800"/>
            <a:chOff x="6357960" y="649800"/>
            <a:chExt cx="1001160" cy="721800"/>
          </a:xfrm>
        </p:grpSpPr>
        <p:pic>
          <p:nvPicPr>
            <p:cNvPr id="474" name="任意多边形 30" descr=""/>
            <p:cNvPicPr/>
            <p:nvPr/>
          </p:nvPicPr>
          <p:blipFill>
            <a:blip r:embed="rId2"/>
            <a:stretch/>
          </p:blipFill>
          <p:spPr>
            <a:xfrm>
              <a:off x="6357960" y="853920"/>
              <a:ext cx="936360" cy="4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 rot="20700000">
              <a:off x="6424920" y="755280"/>
              <a:ext cx="8830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组合 16"/>
          <p:cNvGrpSpPr/>
          <p:nvPr/>
        </p:nvGrpSpPr>
        <p:grpSpPr>
          <a:xfrm>
            <a:off x="581040" y="3287520"/>
            <a:ext cx="1171440" cy="268200"/>
            <a:chOff x="581040" y="3287520"/>
            <a:chExt cx="1171440" cy="268200"/>
          </a:xfrm>
        </p:grpSpPr>
        <p:sp>
          <p:nvSpPr>
            <p:cNvPr id="477" name="椭圆 21"/>
            <p:cNvSpPr/>
            <p:nvPr/>
          </p:nvSpPr>
          <p:spPr>
            <a:xfrm rot="10800000">
              <a:off x="581040" y="3287520"/>
              <a:ext cx="266400" cy="26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椭圆 22"/>
            <p:cNvSpPr/>
            <p:nvPr/>
          </p:nvSpPr>
          <p:spPr>
            <a:xfrm rot="10800000">
              <a:off x="1173240" y="3321000"/>
              <a:ext cx="201600" cy="2016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椭圆 23"/>
            <p:cNvSpPr/>
            <p:nvPr/>
          </p:nvSpPr>
          <p:spPr>
            <a:xfrm rot="10800000">
              <a:off x="1619280" y="3354120"/>
              <a:ext cx="133200" cy="135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组合 17"/>
          <p:cNvGrpSpPr/>
          <p:nvPr/>
        </p:nvGrpSpPr>
        <p:grpSpPr>
          <a:xfrm>
            <a:off x="7386120" y="3295800"/>
            <a:ext cx="1173600" cy="266400"/>
            <a:chOff x="7386120" y="3295800"/>
            <a:chExt cx="1173600" cy="266400"/>
          </a:xfrm>
        </p:grpSpPr>
        <p:sp>
          <p:nvSpPr>
            <p:cNvPr id="481" name="椭圆 25"/>
            <p:cNvSpPr/>
            <p:nvPr/>
          </p:nvSpPr>
          <p:spPr>
            <a:xfrm flipH="1" rot="10800000">
              <a:off x="8292600" y="3295800"/>
              <a:ext cx="266760" cy="26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椭圆 19"/>
            <p:cNvSpPr/>
            <p:nvPr/>
          </p:nvSpPr>
          <p:spPr>
            <a:xfrm flipH="1" rot="10800000">
              <a:off x="7765920" y="3328560"/>
              <a:ext cx="199800" cy="1998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椭圆 27"/>
            <p:cNvSpPr/>
            <p:nvPr/>
          </p:nvSpPr>
          <p:spPr>
            <a:xfrm flipH="1" rot="10800000">
              <a:off x="7386120" y="3362400"/>
              <a:ext cx="133200" cy="13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任意多边形: 形状 6"/>
          <p:cNvSpPr/>
          <p:nvPr/>
        </p:nvSpPr>
        <p:spPr>
          <a:xfrm>
            <a:off x="0" y="4888080"/>
            <a:ext cx="9144000" cy="1969920"/>
          </a:xfrm>
          <a:custGeom>
            <a:avLst/>
            <a:gdLst/>
            <a:ahLst/>
            <a:rect l="l" t="t" r="r" b="b"/>
            <a:pathLst>
              <a:path w="12192001" h="1975365">
                <a:moveTo>
                  <a:pt x="4761693" y="0"/>
                </a:moveTo>
                <a:cubicBezTo>
                  <a:pt x="5276735" y="0"/>
                  <a:pt x="5736923" y="214716"/>
                  <a:pt x="6041005" y="551581"/>
                </a:cubicBezTo>
                <a:lnTo>
                  <a:pt x="6051129" y="563959"/>
                </a:lnTo>
                <a:lnTo>
                  <a:pt x="6073942" y="553912"/>
                </a:lnTo>
                <a:cubicBezTo>
                  <a:pt x="6272289" y="477212"/>
                  <a:pt x="6490362" y="434799"/>
                  <a:pt x="6719270" y="434799"/>
                </a:cubicBezTo>
                <a:cubicBezTo>
                  <a:pt x="7177084" y="434799"/>
                  <a:pt x="7591557" y="604452"/>
                  <a:pt x="7891577" y="878743"/>
                </a:cubicBezTo>
                <a:lnTo>
                  <a:pt x="7956994" y="944547"/>
                </a:lnTo>
                <a:lnTo>
                  <a:pt x="7985842" y="901137"/>
                </a:lnTo>
                <a:cubicBezTo>
                  <a:pt x="8335549" y="427892"/>
                  <a:pt x="8927773" y="116746"/>
                  <a:pt x="9599486" y="116746"/>
                </a:cubicBezTo>
                <a:cubicBezTo>
                  <a:pt x="10271198" y="116746"/>
                  <a:pt x="10863422" y="427892"/>
                  <a:pt x="11213130" y="901137"/>
                </a:cubicBezTo>
                <a:lnTo>
                  <a:pt x="11218027" y="908506"/>
                </a:lnTo>
                <a:lnTo>
                  <a:pt x="11301959" y="824077"/>
                </a:lnTo>
                <a:cubicBezTo>
                  <a:pt x="11526974" y="618359"/>
                  <a:pt x="11816369" y="471500"/>
                  <a:pt x="12140144" y="410927"/>
                </a:cubicBezTo>
                <a:lnTo>
                  <a:pt x="12192001" y="403692"/>
                </a:lnTo>
                <a:lnTo>
                  <a:pt x="12192001" y="1975365"/>
                </a:lnTo>
                <a:lnTo>
                  <a:pt x="0" y="1975365"/>
                </a:lnTo>
                <a:lnTo>
                  <a:pt x="0" y="204727"/>
                </a:lnTo>
                <a:lnTo>
                  <a:pt x="60384" y="207862"/>
                </a:lnTo>
                <a:cubicBezTo>
                  <a:pt x="573648" y="261507"/>
                  <a:pt x="1026243" y="497713"/>
                  <a:pt x="1338550" y="843689"/>
                </a:cubicBezTo>
                <a:lnTo>
                  <a:pt x="1434547" y="961054"/>
                </a:lnTo>
                <a:lnTo>
                  <a:pt x="1439685" y="955887"/>
                </a:lnTo>
                <a:cubicBezTo>
                  <a:pt x="1791839" y="633932"/>
                  <a:pt x="2278336" y="434799"/>
                  <a:pt x="2815706" y="434799"/>
                </a:cubicBezTo>
                <a:cubicBezTo>
                  <a:pt x="3017220" y="434799"/>
                  <a:pt x="3211580" y="462802"/>
                  <a:pt x="3394383" y="514784"/>
                </a:cubicBezTo>
                <a:lnTo>
                  <a:pt x="3487865" y="546065"/>
                </a:lnTo>
                <a:lnTo>
                  <a:pt x="3589385" y="443944"/>
                </a:lnTo>
                <a:cubicBezTo>
                  <a:pt x="3889406" y="169652"/>
                  <a:pt x="4303879" y="0"/>
                  <a:pt x="4761693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任意多边形: 形状 7"/>
          <p:cNvSpPr/>
          <p:nvPr/>
        </p:nvSpPr>
        <p:spPr>
          <a:xfrm>
            <a:off x="0" y="5421240"/>
            <a:ext cx="9144000" cy="1436760"/>
          </a:xfrm>
          <a:custGeom>
            <a:avLst/>
            <a:gdLst/>
            <a:ahLst/>
            <a:rect l="l" t="t" r="r" b="b"/>
            <a:pathLst>
              <a:path w="12192000" h="1445191">
                <a:moveTo>
                  <a:pt x="1825119" y="0"/>
                </a:moveTo>
                <a:cubicBezTo>
                  <a:pt x="2179406" y="0"/>
                  <a:pt x="2491766" y="133083"/>
                  <a:pt x="2676215" y="335498"/>
                </a:cubicBezTo>
                <a:lnTo>
                  <a:pt x="2725007" y="402142"/>
                </a:lnTo>
                <a:lnTo>
                  <a:pt x="2887042" y="336937"/>
                </a:lnTo>
                <a:cubicBezTo>
                  <a:pt x="3009837" y="298430"/>
                  <a:pt x="3144843" y="277137"/>
                  <a:pt x="3286558" y="277137"/>
                </a:cubicBezTo>
                <a:cubicBezTo>
                  <a:pt x="3640842" y="277137"/>
                  <a:pt x="3953203" y="410220"/>
                  <a:pt x="4137654" y="612635"/>
                </a:cubicBezTo>
                <a:lnTo>
                  <a:pt x="4137762" y="612785"/>
                </a:lnTo>
                <a:lnTo>
                  <a:pt x="4173314" y="564223"/>
                </a:lnTo>
                <a:cubicBezTo>
                  <a:pt x="4408621" y="305997"/>
                  <a:pt x="4807103" y="136221"/>
                  <a:pt x="5259074" y="136221"/>
                </a:cubicBezTo>
                <a:cubicBezTo>
                  <a:pt x="5485056" y="136221"/>
                  <a:pt x="5697670" y="178665"/>
                  <a:pt x="5883199" y="253387"/>
                </a:cubicBezTo>
                <a:lnTo>
                  <a:pt x="5937700" y="277935"/>
                </a:lnTo>
                <a:lnTo>
                  <a:pt x="5998970" y="222879"/>
                </a:lnTo>
                <a:cubicBezTo>
                  <a:pt x="6184708" y="85173"/>
                  <a:pt x="6441306" y="0"/>
                  <a:pt x="6724734" y="0"/>
                </a:cubicBezTo>
                <a:cubicBezTo>
                  <a:pt x="7008162" y="0"/>
                  <a:pt x="7264760" y="85173"/>
                  <a:pt x="7450498" y="222879"/>
                </a:cubicBezTo>
                <a:lnTo>
                  <a:pt x="7504128" y="271069"/>
                </a:lnTo>
                <a:lnTo>
                  <a:pt x="7515578" y="265911"/>
                </a:lnTo>
                <a:cubicBezTo>
                  <a:pt x="7701109" y="191189"/>
                  <a:pt x="7913723" y="148745"/>
                  <a:pt x="8139707" y="148745"/>
                </a:cubicBezTo>
                <a:cubicBezTo>
                  <a:pt x="8535178" y="148745"/>
                  <a:pt x="8889702" y="278730"/>
                  <a:pt x="9129790" y="484217"/>
                </a:cubicBezTo>
                <a:lnTo>
                  <a:pt x="9258974" y="615575"/>
                </a:lnTo>
                <a:lnTo>
                  <a:pt x="9261126" y="612634"/>
                </a:lnTo>
                <a:cubicBezTo>
                  <a:pt x="9445576" y="410219"/>
                  <a:pt x="9757936" y="277136"/>
                  <a:pt x="10112222" y="277136"/>
                </a:cubicBezTo>
                <a:cubicBezTo>
                  <a:pt x="10324793" y="277136"/>
                  <a:pt x="10522273" y="325046"/>
                  <a:pt x="10686084" y="407095"/>
                </a:cubicBezTo>
                <a:lnTo>
                  <a:pt x="10698420" y="414641"/>
                </a:lnTo>
                <a:lnTo>
                  <a:pt x="10756361" y="335498"/>
                </a:lnTo>
                <a:cubicBezTo>
                  <a:pt x="10940811" y="133083"/>
                  <a:pt x="11253171" y="0"/>
                  <a:pt x="11607457" y="0"/>
                </a:cubicBezTo>
                <a:cubicBezTo>
                  <a:pt x="11784600" y="0"/>
                  <a:pt x="11951262" y="33271"/>
                  <a:pt x="12096693" y="91844"/>
                </a:cubicBezTo>
                <a:lnTo>
                  <a:pt x="12192000" y="135942"/>
                </a:lnTo>
                <a:lnTo>
                  <a:pt x="12192000" y="1445191"/>
                </a:lnTo>
                <a:lnTo>
                  <a:pt x="0" y="1445191"/>
                </a:lnTo>
                <a:lnTo>
                  <a:pt x="0" y="326970"/>
                </a:lnTo>
                <a:lnTo>
                  <a:pt x="2069" y="326409"/>
                </a:lnTo>
                <a:cubicBezTo>
                  <a:pt x="105629" y="302528"/>
                  <a:pt x="215735" y="289663"/>
                  <a:pt x="329894" y="289663"/>
                </a:cubicBezTo>
                <a:cubicBezTo>
                  <a:pt x="529672" y="289663"/>
                  <a:pt x="717038" y="329061"/>
                  <a:pt x="878628" y="397949"/>
                </a:cubicBezTo>
                <a:lnTo>
                  <a:pt x="914726" y="416495"/>
                </a:lnTo>
                <a:lnTo>
                  <a:pt x="974025" y="335498"/>
                </a:lnTo>
                <a:cubicBezTo>
                  <a:pt x="1158473" y="133083"/>
                  <a:pt x="1470835" y="0"/>
                  <a:pt x="1825119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1372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: 形状 8"/>
          <p:cNvSpPr/>
          <p:nvPr/>
        </p:nvSpPr>
        <p:spPr>
          <a:xfrm>
            <a:off x="0" y="5722920"/>
            <a:ext cx="9144000" cy="1135080"/>
          </a:xfrm>
          <a:custGeom>
            <a:avLst/>
            <a:gdLst/>
            <a:ahLst/>
            <a:rect l="l" t="t" r="r" b="b"/>
            <a:pathLst>
              <a:path w="12192000" h="1133339">
                <a:moveTo>
                  <a:pt x="4165443" y="0"/>
                </a:moveTo>
                <a:cubicBezTo>
                  <a:pt x="4427005" y="0"/>
                  <a:pt x="4657616" y="106424"/>
                  <a:pt x="4793789" y="268294"/>
                </a:cubicBezTo>
                <a:lnTo>
                  <a:pt x="4822897" y="311359"/>
                </a:lnTo>
                <a:lnTo>
                  <a:pt x="4850903" y="309092"/>
                </a:lnTo>
                <a:cubicBezTo>
                  <a:pt x="5075099" y="309092"/>
                  <a:pt x="5272766" y="400313"/>
                  <a:pt x="5389486" y="539058"/>
                </a:cubicBezTo>
                <a:lnTo>
                  <a:pt x="5423004" y="588645"/>
                </a:lnTo>
                <a:lnTo>
                  <a:pt x="5512341" y="549703"/>
                </a:lnTo>
                <a:cubicBezTo>
                  <a:pt x="5590047" y="523309"/>
                  <a:pt x="5675481" y="508714"/>
                  <a:pt x="5765161" y="508714"/>
                </a:cubicBezTo>
                <a:lnTo>
                  <a:pt x="5820259" y="512618"/>
                </a:lnTo>
                <a:lnTo>
                  <a:pt x="5859170" y="474742"/>
                </a:lnTo>
                <a:cubicBezTo>
                  <a:pt x="5976709" y="380352"/>
                  <a:pt x="6139086" y="321971"/>
                  <a:pt x="6318443" y="321971"/>
                </a:cubicBezTo>
                <a:cubicBezTo>
                  <a:pt x="6408121" y="321971"/>
                  <a:pt x="6493555" y="336566"/>
                  <a:pt x="6571261" y="362960"/>
                </a:cubicBezTo>
                <a:lnTo>
                  <a:pt x="6669499" y="405780"/>
                </a:lnTo>
                <a:lnTo>
                  <a:pt x="6680980" y="398172"/>
                </a:lnTo>
                <a:cubicBezTo>
                  <a:pt x="6784641" y="341931"/>
                  <a:pt x="6909609" y="309092"/>
                  <a:pt x="7044125" y="309092"/>
                </a:cubicBezTo>
                <a:cubicBezTo>
                  <a:pt x="7223481" y="309092"/>
                  <a:pt x="7385858" y="367473"/>
                  <a:pt x="7503396" y="461863"/>
                </a:cubicBezTo>
                <a:lnTo>
                  <a:pt x="7549263" y="506507"/>
                </a:lnTo>
                <a:lnTo>
                  <a:pt x="7557270" y="501203"/>
                </a:lnTo>
                <a:cubicBezTo>
                  <a:pt x="7660931" y="444962"/>
                  <a:pt x="7785899" y="412123"/>
                  <a:pt x="7920415" y="412123"/>
                </a:cubicBezTo>
                <a:cubicBezTo>
                  <a:pt x="8189451" y="412123"/>
                  <a:pt x="8420281" y="543481"/>
                  <a:pt x="8518883" y="730689"/>
                </a:cubicBezTo>
                <a:lnTo>
                  <a:pt x="8523397" y="742369"/>
                </a:lnTo>
                <a:lnTo>
                  <a:pt x="8530242" y="732242"/>
                </a:lnTo>
                <a:cubicBezTo>
                  <a:pt x="8646964" y="593497"/>
                  <a:pt x="8844630" y="502276"/>
                  <a:pt x="9068825" y="502276"/>
                </a:cubicBezTo>
                <a:cubicBezTo>
                  <a:pt x="9147294" y="502276"/>
                  <a:pt x="9222512" y="513450"/>
                  <a:pt x="9292147" y="533926"/>
                </a:cubicBezTo>
                <a:lnTo>
                  <a:pt x="9381057" y="567236"/>
                </a:lnTo>
                <a:lnTo>
                  <a:pt x="9408408" y="526771"/>
                </a:lnTo>
                <a:cubicBezTo>
                  <a:pt x="9490847" y="428776"/>
                  <a:pt x="9630456" y="364348"/>
                  <a:pt x="9788804" y="364348"/>
                </a:cubicBezTo>
                <a:cubicBezTo>
                  <a:pt x="9947151" y="364348"/>
                  <a:pt x="10086761" y="428776"/>
                  <a:pt x="10169201" y="526771"/>
                </a:cubicBezTo>
                <a:lnTo>
                  <a:pt x="10193126" y="562169"/>
                </a:lnTo>
                <a:lnTo>
                  <a:pt x="10221725" y="549703"/>
                </a:lnTo>
                <a:cubicBezTo>
                  <a:pt x="10299432" y="523309"/>
                  <a:pt x="10384865" y="508714"/>
                  <a:pt x="10474543" y="508714"/>
                </a:cubicBezTo>
                <a:cubicBezTo>
                  <a:pt x="10709949" y="508714"/>
                  <a:pt x="10916105" y="609285"/>
                  <a:pt x="11030020" y="759843"/>
                </a:cubicBezTo>
                <a:lnTo>
                  <a:pt x="11042281" y="779672"/>
                </a:lnTo>
                <a:lnTo>
                  <a:pt x="11058727" y="737128"/>
                </a:lnTo>
                <a:cubicBezTo>
                  <a:pt x="11157327" y="549920"/>
                  <a:pt x="11388158" y="418562"/>
                  <a:pt x="11657193" y="418562"/>
                </a:cubicBezTo>
                <a:cubicBezTo>
                  <a:pt x="11746871" y="418562"/>
                  <a:pt x="11832305" y="433157"/>
                  <a:pt x="11910011" y="459551"/>
                </a:cubicBezTo>
                <a:lnTo>
                  <a:pt x="12013158" y="504512"/>
                </a:lnTo>
                <a:lnTo>
                  <a:pt x="12070208" y="448985"/>
                </a:lnTo>
                <a:cubicBezTo>
                  <a:pt x="12099592" y="425388"/>
                  <a:pt x="12131779" y="404041"/>
                  <a:pt x="12166333" y="385294"/>
                </a:cubicBezTo>
                <a:lnTo>
                  <a:pt x="12192000" y="374106"/>
                </a:lnTo>
                <a:lnTo>
                  <a:pt x="12192000" y="1133339"/>
                </a:lnTo>
                <a:lnTo>
                  <a:pt x="0" y="1133339"/>
                </a:lnTo>
                <a:lnTo>
                  <a:pt x="0" y="486996"/>
                </a:lnTo>
                <a:lnTo>
                  <a:pt x="71" y="486956"/>
                </a:lnTo>
                <a:cubicBezTo>
                  <a:pt x="100055" y="443338"/>
                  <a:pt x="214635" y="418562"/>
                  <a:pt x="336420" y="418562"/>
                </a:cubicBezTo>
                <a:cubicBezTo>
                  <a:pt x="433848" y="418562"/>
                  <a:pt x="526664" y="434418"/>
                  <a:pt x="611086" y="463094"/>
                </a:cubicBezTo>
                <a:lnTo>
                  <a:pt x="684818" y="495232"/>
                </a:lnTo>
                <a:lnTo>
                  <a:pt x="719102" y="461863"/>
                </a:lnTo>
                <a:cubicBezTo>
                  <a:pt x="836640" y="367473"/>
                  <a:pt x="999017" y="309092"/>
                  <a:pt x="1178373" y="309092"/>
                </a:cubicBezTo>
                <a:cubicBezTo>
                  <a:pt x="1268052" y="309092"/>
                  <a:pt x="1353485" y="323687"/>
                  <a:pt x="1431191" y="350081"/>
                </a:cubicBezTo>
                <a:lnTo>
                  <a:pt x="1535098" y="395372"/>
                </a:lnTo>
                <a:lnTo>
                  <a:pt x="1601328" y="366503"/>
                </a:lnTo>
                <a:cubicBezTo>
                  <a:pt x="1685751" y="337827"/>
                  <a:pt x="1778567" y="321971"/>
                  <a:pt x="1875994" y="321971"/>
                </a:cubicBezTo>
                <a:cubicBezTo>
                  <a:pt x="2168280" y="321971"/>
                  <a:pt x="2419060" y="464681"/>
                  <a:pt x="2526182" y="668067"/>
                </a:cubicBezTo>
                <a:lnTo>
                  <a:pt x="2552597" y="736404"/>
                </a:lnTo>
                <a:lnTo>
                  <a:pt x="2571015" y="731813"/>
                </a:lnTo>
                <a:cubicBezTo>
                  <a:pt x="2613296" y="724865"/>
                  <a:pt x="2657074" y="721216"/>
                  <a:pt x="2701915" y="721216"/>
                </a:cubicBezTo>
                <a:lnTo>
                  <a:pt x="2724369" y="722353"/>
                </a:lnTo>
                <a:lnTo>
                  <a:pt x="2760974" y="627658"/>
                </a:lnTo>
                <a:cubicBezTo>
                  <a:pt x="2859573" y="440450"/>
                  <a:pt x="3090405" y="309092"/>
                  <a:pt x="3359439" y="309092"/>
                </a:cubicBezTo>
                <a:cubicBezTo>
                  <a:pt x="3404279" y="309092"/>
                  <a:pt x="3448056" y="312741"/>
                  <a:pt x="3490338" y="319689"/>
                </a:cubicBezTo>
                <a:lnTo>
                  <a:pt x="3500624" y="322253"/>
                </a:lnTo>
                <a:lnTo>
                  <a:pt x="3537095" y="268294"/>
                </a:lnTo>
                <a:cubicBezTo>
                  <a:pt x="3673270" y="106424"/>
                  <a:pt x="3903880" y="0"/>
                  <a:pt x="41654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CEFE-B0AE-435E-AE83-AF6BA0E50B5E}" type="slidenum">
              <a:rPr b="0" lang="en-US" sz="1200" spc="-1" strike="noStrike">
                <a:solidFill>
                  <a:srgbClr val="7f7f7f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529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533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直接连接符 15"/>
          <p:cNvSpPr/>
          <p:nvPr/>
        </p:nvSpPr>
        <p:spPr>
          <a:xfrm>
            <a:off x="3213000" y="3433680"/>
            <a:ext cx="3861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0"/>
          <p:cNvGrpSpPr/>
          <p:nvPr/>
        </p:nvGrpSpPr>
        <p:grpSpPr>
          <a:xfrm>
            <a:off x="581040" y="3287520"/>
            <a:ext cx="1171440" cy="268200"/>
            <a:chOff x="581040" y="3287520"/>
            <a:chExt cx="1171440" cy="268200"/>
          </a:xfrm>
        </p:grpSpPr>
        <p:sp>
          <p:nvSpPr>
            <p:cNvPr id="539" name="椭圆 21"/>
            <p:cNvSpPr/>
            <p:nvPr/>
          </p:nvSpPr>
          <p:spPr>
            <a:xfrm rot="10800000">
              <a:off x="581040" y="3287520"/>
              <a:ext cx="266400" cy="26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椭圆 22"/>
            <p:cNvSpPr/>
            <p:nvPr/>
          </p:nvSpPr>
          <p:spPr>
            <a:xfrm rot="10800000">
              <a:off x="1173240" y="3321000"/>
              <a:ext cx="201600" cy="2016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椭圆 23"/>
            <p:cNvSpPr/>
            <p:nvPr/>
          </p:nvSpPr>
          <p:spPr>
            <a:xfrm rot="10800000">
              <a:off x="1619280" y="3354120"/>
              <a:ext cx="133200" cy="135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14"/>
          <p:cNvGrpSpPr/>
          <p:nvPr/>
        </p:nvGrpSpPr>
        <p:grpSpPr>
          <a:xfrm>
            <a:off x="7386120" y="3295800"/>
            <a:ext cx="1173600" cy="266400"/>
            <a:chOff x="7386120" y="3295800"/>
            <a:chExt cx="1173600" cy="266400"/>
          </a:xfrm>
        </p:grpSpPr>
        <p:sp>
          <p:nvSpPr>
            <p:cNvPr id="543" name="椭圆 25"/>
            <p:cNvSpPr/>
            <p:nvPr/>
          </p:nvSpPr>
          <p:spPr>
            <a:xfrm flipH="1" rot="10800000">
              <a:off x="8292600" y="3295800"/>
              <a:ext cx="266760" cy="26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椭圆 26"/>
            <p:cNvSpPr/>
            <p:nvPr/>
          </p:nvSpPr>
          <p:spPr>
            <a:xfrm flipH="1" rot="10800000">
              <a:off x="7765920" y="3328560"/>
              <a:ext cx="199800" cy="1998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椭圆 27"/>
            <p:cNvSpPr/>
            <p:nvPr/>
          </p:nvSpPr>
          <p:spPr>
            <a:xfrm flipH="1" rot="10800000">
              <a:off x="7386120" y="3362400"/>
              <a:ext cx="133200" cy="13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任意多边形: 形状 6"/>
          <p:cNvSpPr/>
          <p:nvPr/>
        </p:nvSpPr>
        <p:spPr>
          <a:xfrm>
            <a:off x="0" y="4883040"/>
            <a:ext cx="9144000" cy="1974960"/>
          </a:xfrm>
          <a:custGeom>
            <a:avLst/>
            <a:gdLst/>
            <a:ahLst/>
            <a:rect l="l" t="t" r="r" b="b"/>
            <a:pathLst>
              <a:path w="12191999" h="1975365">
                <a:moveTo>
                  <a:pt x="4408996" y="0"/>
                </a:moveTo>
                <a:cubicBezTo>
                  <a:pt x="4965206" y="0"/>
                  <a:pt x="5462174" y="214716"/>
                  <a:pt x="5790561" y="551581"/>
                </a:cubicBezTo>
                <a:lnTo>
                  <a:pt x="5801495" y="563959"/>
                </a:lnTo>
                <a:lnTo>
                  <a:pt x="5826131" y="553912"/>
                </a:lnTo>
                <a:cubicBezTo>
                  <a:pt x="6040333" y="477212"/>
                  <a:pt x="6275835" y="434799"/>
                  <a:pt x="6523038" y="434799"/>
                </a:cubicBezTo>
                <a:cubicBezTo>
                  <a:pt x="7017445" y="434799"/>
                  <a:pt x="7465046" y="604452"/>
                  <a:pt x="7789046" y="878743"/>
                </a:cubicBezTo>
                <a:lnTo>
                  <a:pt x="7859692" y="944547"/>
                </a:lnTo>
                <a:lnTo>
                  <a:pt x="7890845" y="901137"/>
                </a:lnTo>
                <a:cubicBezTo>
                  <a:pt x="8268504" y="427892"/>
                  <a:pt x="8908064" y="116746"/>
                  <a:pt x="9633465" y="116746"/>
                </a:cubicBezTo>
                <a:cubicBezTo>
                  <a:pt x="10358867" y="116746"/>
                  <a:pt x="10998426" y="427892"/>
                  <a:pt x="11376086" y="901137"/>
                </a:cubicBezTo>
                <a:lnTo>
                  <a:pt x="11381374" y="908506"/>
                </a:lnTo>
                <a:lnTo>
                  <a:pt x="11472015" y="824077"/>
                </a:lnTo>
                <a:cubicBezTo>
                  <a:pt x="11634015" y="686932"/>
                  <a:pt x="11826915" y="575946"/>
                  <a:pt x="12041117" y="499246"/>
                </a:cubicBezTo>
                <a:lnTo>
                  <a:pt x="12191999" y="452495"/>
                </a:lnTo>
                <a:lnTo>
                  <a:pt x="12191999" y="1975365"/>
                </a:lnTo>
                <a:lnTo>
                  <a:pt x="0" y="1975365"/>
                </a:lnTo>
                <a:lnTo>
                  <a:pt x="0" y="373214"/>
                </a:lnTo>
                <a:lnTo>
                  <a:pt x="103466" y="416152"/>
                </a:lnTo>
                <a:cubicBezTo>
                  <a:pt x="337103" y="525156"/>
                  <a:pt x="543613" y="670701"/>
                  <a:pt x="712248" y="843689"/>
                </a:cubicBezTo>
                <a:lnTo>
                  <a:pt x="815917" y="961054"/>
                </a:lnTo>
                <a:lnTo>
                  <a:pt x="821465" y="955887"/>
                </a:lnTo>
                <a:cubicBezTo>
                  <a:pt x="1201766" y="633932"/>
                  <a:pt x="1727148" y="434799"/>
                  <a:pt x="2307470" y="434799"/>
                </a:cubicBezTo>
                <a:cubicBezTo>
                  <a:pt x="2525090" y="434799"/>
                  <a:pt x="2734985" y="462802"/>
                  <a:pt x="2932400" y="514784"/>
                </a:cubicBezTo>
                <a:lnTo>
                  <a:pt x="3033353" y="546065"/>
                </a:lnTo>
                <a:lnTo>
                  <a:pt x="3142988" y="443944"/>
                </a:lnTo>
                <a:cubicBezTo>
                  <a:pt x="3466988" y="169652"/>
                  <a:pt x="3914590" y="0"/>
                  <a:pt x="4408996" y="0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任意多边形: 形状 7"/>
          <p:cNvSpPr/>
          <p:nvPr/>
        </p:nvSpPr>
        <p:spPr>
          <a:xfrm>
            <a:off x="0" y="5413320"/>
            <a:ext cx="9144000" cy="1444680"/>
          </a:xfrm>
          <a:custGeom>
            <a:avLst/>
            <a:gdLst/>
            <a:ahLst/>
            <a:rect l="l" t="t" r="r" b="b"/>
            <a:pathLst>
              <a:path w="12192001" h="1445191">
                <a:moveTo>
                  <a:pt x="3246538" y="0"/>
                </a:moveTo>
                <a:cubicBezTo>
                  <a:pt x="3513718" y="0"/>
                  <a:pt x="3749281" y="133083"/>
                  <a:pt x="3888381" y="335498"/>
                </a:cubicBezTo>
                <a:lnTo>
                  <a:pt x="3925176" y="402142"/>
                </a:lnTo>
                <a:lnTo>
                  <a:pt x="4047372" y="336937"/>
                </a:lnTo>
                <a:cubicBezTo>
                  <a:pt x="4139977" y="298430"/>
                  <a:pt x="4241791" y="277137"/>
                  <a:pt x="4348662" y="277137"/>
                </a:cubicBezTo>
                <a:cubicBezTo>
                  <a:pt x="4615842" y="277137"/>
                  <a:pt x="4851406" y="410220"/>
                  <a:pt x="4990506" y="612635"/>
                </a:cubicBezTo>
                <a:lnTo>
                  <a:pt x="4990587" y="612785"/>
                </a:lnTo>
                <a:lnTo>
                  <a:pt x="5017399" y="564223"/>
                </a:lnTo>
                <a:cubicBezTo>
                  <a:pt x="5194852" y="305997"/>
                  <a:pt x="5495363" y="136221"/>
                  <a:pt x="5836210" y="136221"/>
                </a:cubicBezTo>
                <a:cubicBezTo>
                  <a:pt x="6006632" y="136221"/>
                  <a:pt x="6166972" y="178665"/>
                  <a:pt x="6306886" y="253387"/>
                </a:cubicBezTo>
                <a:lnTo>
                  <a:pt x="6347988" y="277935"/>
                </a:lnTo>
                <a:lnTo>
                  <a:pt x="6394194" y="222879"/>
                </a:lnTo>
                <a:cubicBezTo>
                  <a:pt x="6534266" y="85173"/>
                  <a:pt x="6727776" y="0"/>
                  <a:pt x="6941520" y="0"/>
                </a:cubicBezTo>
                <a:cubicBezTo>
                  <a:pt x="7155263" y="0"/>
                  <a:pt x="7348773" y="85173"/>
                  <a:pt x="7488846" y="222879"/>
                </a:cubicBezTo>
                <a:lnTo>
                  <a:pt x="7529289" y="271069"/>
                </a:lnTo>
                <a:lnTo>
                  <a:pt x="7537925" y="265911"/>
                </a:lnTo>
                <a:cubicBezTo>
                  <a:pt x="7677840" y="191189"/>
                  <a:pt x="7838181" y="148745"/>
                  <a:pt x="8008603" y="148745"/>
                </a:cubicBezTo>
                <a:cubicBezTo>
                  <a:pt x="8306843" y="148745"/>
                  <a:pt x="8574203" y="278730"/>
                  <a:pt x="8755262" y="484217"/>
                </a:cubicBezTo>
                <a:lnTo>
                  <a:pt x="8852685" y="615575"/>
                </a:lnTo>
                <a:lnTo>
                  <a:pt x="8854308" y="612634"/>
                </a:lnTo>
                <a:cubicBezTo>
                  <a:pt x="8993408" y="410219"/>
                  <a:pt x="9228971" y="277136"/>
                  <a:pt x="9496151" y="277136"/>
                </a:cubicBezTo>
                <a:cubicBezTo>
                  <a:pt x="9656459" y="277136"/>
                  <a:pt x="9805385" y="325046"/>
                  <a:pt x="9928922" y="407095"/>
                </a:cubicBezTo>
                <a:lnTo>
                  <a:pt x="9938225" y="414641"/>
                </a:lnTo>
                <a:lnTo>
                  <a:pt x="9981920" y="335498"/>
                </a:lnTo>
                <a:cubicBezTo>
                  <a:pt x="10121021" y="133083"/>
                  <a:pt x="10356583" y="0"/>
                  <a:pt x="10623763" y="0"/>
                </a:cubicBezTo>
                <a:cubicBezTo>
                  <a:pt x="10890944" y="0"/>
                  <a:pt x="11126506" y="133083"/>
                  <a:pt x="11265607" y="335498"/>
                </a:cubicBezTo>
                <a:lnTo>
                  <a:pt x="11291202" y="381858"/>
                </a:lnTo>
                <a:lnTo>
                  <a:pt x="11306415" y="369518"/>
                </a:lnTo>
                <a:cubicBezTo>
                  <a:pt x="11429952" y="287469"/>
                  <a:pt x="11578878" y="239559"/>
                  <a:pt x="11739186" y="239559"/>
                </a:cubicBezTo>
                <a:cubicBezTo>
                  <a:pt x="11899494" y="239559"/>
                  <a:pt x="12048420" y="287469"/>
                  <a:pt x="12171956" y="369518"/>
                </a:cubicBezTo>
                <a:lnTo>
                  <a:pt x="12192001" y="385777"/>
                </a:lnTo>
                <a:lnTo>
                  <a:pt x="12192001" y="1445191"/>
                </a:lnTo>
                <a:lnTo>
                  <a:pt x="0" y="1445191"/>
                </a:lnTo>
                <a:lnTo>
                  <a:pt x="0" y="160691"/>
                </a:lnTo>
                <a:lnTo>
                  <a:pt x="41876" y="184935"/>
                </a:lnTo>
                <a:lnTo>
                  <a:pt x="134451" y="253847"/>
                </a:lnTo>
                <a:lnTo>
                  <a:pt x="135221" y="253387"/>
                </a:lnTo>
                <a:cubicBezTo>
                  <a:pt x="275136" y="178665"/>
                  <a:pt x="435476" y="136221"/>
                  <a:pt x="605900" y="136221"/>
                </a:cubicBezTo>
                <a:cubicBezTo>
                  <a:pt x="963788" y="136221"/>
                  <a:pt x="1277208" y="323399"/>
                  <a:pt x="1450394" y="603610"/>
                </a:cubicBezTo>
                <a:lnTo>
                  <a:pt x="1457193" y="617070"/>
                </a:lnTo>
                <a:lnTo>
                  <a:pt x="1531063" y="529051"/>
                </a:lnTo>
                <a:cubicBezTo>
                  <a:pt x="1681511" y="381145"/>
                  <a:pt x="1889354" y="289663"/>
                  <a:pt x="2118933" y="289663"/>
                </a:cubicBezTo>
                <a:cubicBezTo>
                  <a:pt x="2269592" y="289663"/>
                  <a:pt x="2410892" y="329061"/>
                  <a:pt x="2532753" y="397949"/>
                </a:cubicBezTo>
                <a:lnTo>
                  <a:pt x="2559976" y="416495"/>
                </a:lnTo>
                <a:lnTo>
                  <a:pt x="2604696" y="335498"/>
                </a:lnTo>
                <a:cubicBezTo>
                  <a:pt x="2743795" y="133083"/>
                  <a:pt x="2979358" y="0"/>
                  <a:pt x="3246538" y="0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任意多边形: 形状 8"/>
          <p:cNvSpPr/>
          <p:nvPr/>
        </p:nvSpPr>
        <p:spPr>
          <a:xfrm>
            <a:off x="0" y="5724360"/>
            <a:ext cx="9144000" cy="1133640"/>
          </a:xfrm>
          <a:custGeom>
            <a:avLst/>
            <a:gdLst/>
            <a:ahLst/>
            <a:rect l="l" t="t" r="r" b="b"/>
            <a:pathLst>
              <a:path w="12192001" h="1133339">
                <a:moveTo>
                  <a:pt x="4783442" y="0"/>
                </a:moveTo>
                <a:cubicBezTo>
                  <a:pt x="5036157" y="0"/>
                  <a:pt x="5258967" y="106424"/>
                  <a:pt x="5390536" y="268294"/>
                </a:cubicBezTo>
                <a:lnTo>
                  <a:pt x="5418659" y="311359"/>
                </a:lnTo>
                <a:lnTo>
                  <a:pt x="5445718" y="309092"/>
                </a:lnTo>
                <a:cubicBezTo>
                  <a:pt x="5662331" y="309092"/>
                  <a:pt x="5853314" y="400313"/>
                  <a:pt x="5966086" y="539058"/>
                </a:cubicBezTo>
                <a:lnTo>
                  <a:pt x="5998471" y="588645"/>
                </a:lnTo>
                <a:lnTo>
                  <a:pt x="6084786" y="549703"/>
                </a:lnTo>
                <a:cubicBezTo>
                  <a:pt x="6159865" y="523309"/>
                  <a:pt x="6242409" y="508714"/>
                  <a:pt x="6329055" y="508714"/>
                </a:cubicBezTo>
                <a:lnTo>
                  <a:pt x="6382291" y="512618"/>
                </a:lnTo>
                <a:lnTo>
                  <a:pt x="6419886" y="474742"/>
                </a:lnTo>
                <a:cubicBezTo>
                  <a:pt x="6533449" y="380352"/>
                  <a:pt x="6690336" y="321971"/>
                  <a:pt x="6863627" y="321971"/>
                </a:cubicBezTo>
                <a:cubicBezTo>
                  <a:pt x="6950273" y="321971"/>
                  <a:pt x="7032817" y="336566"/>
                  <a:pt x="7107895" y="362960"/>
                </a:cubicBezTo>
                <a:lnTo>
                  <a:pt x="7202810" y="405780"/>
                </a:lnTo>
                <a:lnTo>
                  <a:pt x="7213903" y="398172"/>
                </a:lnTo>
                <a:cubicBezTo>
                  <a:pt x="7314059" y="341931"/>
                  <a:pt x="7434800" y="309092"/>
                  <a:pt x="7564766" y="309092"/>
                </a:cubicBezTo>
                <a:cubicBezTo>
                  <a:pt x="7738057" y="309092"/>
                  <a:pt x="7894943" y="367473"/>
                  <a:pt x="8008506" y="461863"/>
                </a:cubicBezTo>
                <a:lnTo>
                  <a:pt x="8052822" y="506507"/>
                </a:lnTo>
                <a:lnTo>
                  <a:pt x="8060557" y="501203"/>
                </a:lnTo>
                <a:cubicBezTo>
                  <a:pt x="8160713" y="444962"/>
                  <a:pt x="8281454" y="412123"/>
                  <a:pt x="8411422" y="412123"/>
                </a:cubicBezTo>
                <a:cubicBezTo>
                  <a:pt x="8671358" y="412123"/>
                  <a:pt x="8894382" y="543481"/>
                  <a:pt x="8989649" y="730689"/>
                </a:cubicBezTo>
                <a:lnTo>
                  <a:pt x="8994011" y="742369"/>
                </a:lnTo>
                <a:lnTo>
                  <a:pt x="9000624" y="732242"/>
                </a:lnTo>
                <a:cubicBezTo>
                  <a:pt x="9113399" y="593497"/>
                  <a:pt x="9304380" y="502276"/>
                  <a:pt x="9520993" y="502276"/>
                </a:cubicBezTo>
                <a:cubicBezTo>
                  <a:pt x="9596808" y="502276"/>
                  <a:pt x="9669483" y="513450"/>
                  <a:pt x="9736762" y="533926"/>
                </a:cubicBezTo>
                <a:lnTo>
                  <a:pt x="9822666" y="567236"/>
                </a:lnTo>
                <a:lnTo>
                  <a:pt x="9849091" y="526771"/>
                </a:lnTo>
                <a:cubicBezTo>
                  <a:pt x="9928743" y="428776"/>
                  <a:pt x="10063630" y="364348"/>
                  <a:pt x="10216623" y="364348"/>
                </a:cubicBezTo>
                <a:cubicBezTo>
                  <a:pt x="10369615" y="364348"/>
                  <a:pt x="10504503" y="428776"/>
                  <a:pt x="10584155" y="526771"/>
                </a:cubicBezTo>
                <a:lnTo>
                  <a:pt x="10607270" y="562169"/>
                </a:lnTo>
                <a:lnTo>
                  <a:pt x="10634903" y="549703"/>
                </a:lnTo>
                <a:cubicBezTo>
                  <a:pt x="10709981" y="523309"/>
                  <a:pt x="10792525" y="508714"/>
                  <a:pt x="10879171" y="508714"/>
                </a:cubicBezTo>
                <a:cubicBezTo>
                  <a:pt x="11106615" y="508714"/>
                  <a:pt x="11305799" y="609285"/>
                  <a:pt x="11415862" y="759843"/>
                </a:cubicBezTo>
                <a:lnTo>
                  <a:pt x="11427708" y="779672"/>
                </a:lnTo>
                <a:lnTo>
                  <a:pt x="11443598" y="737128"/>
                </a:lnTo>
                <a:cubicBezTo>
                  <a:pt x="11538863" y="549920"/>
                  <a:pt x="11761888" y="418562"/>
                  <a:pt x="12021824" y="418562"/>
                </a:cubicBezTo>
                <a:cubicBezTo>
                  <a:pt x="12065147" y="418562"/>
                  <a:pt x="12107444" y="422211"/>
                  <a:pt x="12148296" y="429159"/>
                </a:cubicBezTo>
                <a:lnTo>
                  <a:pt x="12192001" y="440435"/>
                </a:lnTo>
                <a:lnTo>
                  <a:pt x="12192001" y="1133339"/>
                </a:lnTo>
                <a:lnTo>
                  <a:pt x="0" y="1133339"/>
                </a:lnTo>
                <a:lnTo>
                  <a:pt x="0" y="510365"/>
                </a:lnTo>
                <a:lnTo>
                  <a:pt x="22512" y="508714"/>
                </a:lnTo>
                <a:cubicBezTo>
                  <a:pt x="212048" y="508714"/>
                  <a:pt x="381960" y="578555"/>
                  <a:pt x="497027" y="688964"/>
                </a:cubicBezTo>
                <a:lnTo>
                  <a:pt x="501680" y="694269"/>
                </a:lnTo>
                <a:lnTo>
                  <a:pt x="518573" y="668401"/>
                </a:lnTo>
                <a:cubicBezTo>
                  <a:pt x="641094" y="517666"/>
                  <a:pt x="848579" y="418562"/>
                  <a:pt x="1083912" y="418562"/>
                </a:cubicBezTo>
                <a:cubicBezTo>
                  <a:pt x="1178045" y="418562"/>
                  <a:pt x="1267722" y="434418"/>
                  <a:pt x="1349289" y="463094"/>
                </a:cubicBezTo>
                <a:lnTo>
                  <a:pt x="1420528" y="495232"/>
                </a:lnTo>
                <a:lnTo>
                  <a:pt x="1453652" y="461863"/>
                </a:lnTo>
                <a:cubicBezTo>
                  <a:pt x="1567215" y="367473"/>
                  <a:pt x="1724100" y="309092"/>
                  <a:pt x="1897391" y="309092"/>
                </a:cubicBezTo>
                <a:cubicBezTo>
                  <a:pt x="1984036" y="309092"/>
                  <a:pt x="2066580" y="323687"/>
                  <a:pt x="2141659" y="350081"/>
                </a:cubicBezTo>
                <a:lnTo>
                  <a:pt x="2242051" y="395372"/>
                </a:lnTo>
                <a:lnTo>
                  <a:pt x="2306042" y="366503"/>
                </a:lnTo>
                <a:cubicBezTo>
                  <a:pt x="2387609" y="337827"/>
                  <a:pt x="2477286" y="321971"/>
                  <a:pt x="2571419" y="321971"/>
                </a:cubicBezTo>
                <a:cubicBezTo>
                  <a:pt x="2853820" y="321971"/>
                  <a:pt x="3096119" y="464681"/>
                  <a:pt x="3199618" y="668067"/>
                </a:cubicBezTo>
                <a:lnTo>
                  <a:pt x="3225139" y="736404"/>
                </a:lnTo>
                <a:lnTo>
                  <a:pt x="3242934" y="731813"/>
                </a:lnTo>
                <a:cubicBezTo>
                  <a:pt x="3283786" y="724865"/>
                  <a:pt x="3326083" y="721216"/>
                  <a:pt x="3369406" y="721216"/>
                </a:cubicBezTo>
                <a:lnTo>
                  <a:pt x="3391102" y="722353"/>
                </a:lnTo>
                <a:lnTo>
                  <a:pt x="3426468" y="627658"/>
                </a:lnTo>
                <a:cubicBezTo>
                  <a:pt x="3521734" y="440450"/>
                  <a:pt x="3744758" y="309092"/>
                  <a:pt x="4004695" y="309092"/>
                </a:cubicBezTo>
                <a:cubicBezTo>
                  <a:pt x="4048018" y="309092"/>
                  <a:pt x="4090315" y="312741"/>
                  <a:pt x="4131167" y="319689"/>
                </a:cubicBezTo>
                <a:lnTo>
                  <a:pt x="4141105" y="322253"/>
                </a:lnTo>
                <a:lnTo>
                  <a:pt x="4176342" y="268294"/>
                </a:lnTo>
                <a:cubicBezTo>
                  <a:pt x="4307913" y="106424"/>
                  <a:pt x="4530723" y="0"/>
                  <a:pt x="4783442" y="0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任意多边形 19"/>
          <p:cNvSpPr/>
          <p:nvPr/>
        </p:nvSpPr>
        <p:spPr>
          <a:xfrm flipH="1" rot="20700000">
            <a:off x="5864040" y="726840"/>
            <a:ext cx="887400" cy="612720"/>
          </a:xfrm>
          <a:custGeom>
            <a:avLst/>
            <a:gdLst/>
            <a:ahLst/>
            <a:rect l="l" t="t" r="r" b="b"/>
            <a:pathLst>
              <a:path w="815110" h="753851">
                <a:moveTo>
                  <a:pt x="811844" y="0"/>
                </a:moveTo>
                <a:lnTo>
                  <a:pt x="811221" y="3357"/>
                </a:lnTo>
                <a:lnTo>
                  <a:pt x="815110" y="1718"/>
                </a:lnTo>
                <a:lnTo>
                  <a:pt x="810512" y="7176"/>
                </a:lnTo>
                <a:lnTo>
                  <a:pt x="674407" y="740510"/>
                </a:lnTo>
                <a:lnTo>
                  <a:pt x="421276" y="621270"/>
                </a:lnTo>
                <a:lnTo>
                  <a:pt x="293771" y="753851"/>
                </a:lnTo>
                <a:lnTo>
                  <a:pt x="336279" y="581231"/>
                </a:lnTo>
                <a:lnTo>
                  <a:pt x="335005" y="580631"/>
                </a:lnTo>
                <a:lnTo>
                  <a:pt x="337035" y="578159"/>
                </a:lnTo>
                <a:lnTo>
                  <a:pt x="337278" y="577173"/>
                </a:lnTo>
                <a:lnTo>
                  <a:pt x="337691" y="577360"/>
                </a:lnTo>
                <a:lnTo>
                  <a:pt x="628627" y="223097"/>
                </a:lnTo>
                <a:lnTo>
                  <a:pt x="609342" y="245991"/>
                </a:lnTo>
                <a:lnTo>
                  <a:pt x="266398" y="517542"/>
                </a:lnTo>
                <a:lnTo>
                  <a:pt x="0" y="345175"/>
                </a:lnTo>
                <a:lnTo>
                  <a:pt x="807958" y="4731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6F42-7945-4654-82A9-F8FDE881B70D}" type="slidenum">
              <a:rPr b="0" lang="en-US" sz="1200" spc="-1" strike="noStrike">
                <a:solidFill>
                  <a:srgbClr val="7f7f7f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592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596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组合 5"/>
          <p:cNvGrpSpPr/>
          <p:nvPr/>
        </p:nvGrpSpPr>
        <p:grpSpPr>
          <a:xfrm>
            <a:off x="1142640" y="3287520"/>
            <a:ext cx="1173600" cy="268200"/>
            <a:chOff x="1142640" y="3287520"/>
            <a:chExt cx="1173600" cy="268200"/>
          </a:xfrm>
        </p:grpSpPr>
        <p:sp>
          <p:nvSpPr>
            <p:cNvPr id="601" name="椭圆 20"/>
            <p:cNvSpPr/>
            <p:nvPr/>
          </p:nvSpPr>
          <p:spPr>
            <a:xfrm rot="10800000">
              <a:off x="1142640" y="3287520"/>
              <a:ext cx="266760" cy="26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椭圆 21"/>
            <p:cNvSpPr/>
            <p:nvPr/>
          </p:nvSpPr>
          <p:spPr>
            <a:xfrm rot="10800000">
              <a:off x="1736280" y="3321000"/>
              <a:ext cx="199800" cy="2016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椭圆 22"/>
            <p:cNvSpPr/>
            <p:nvPr/>
          </p:nvSpPr>
          <p:spPr>
            <a:xfrm rot="10800000">
              <a:off x="2183040" y="3354120"/>
              <a:ext cx="133200" cy="135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组合 9"/>
          <p:cNvGrpSpPr/>
          <p:nvPr/>
        </p:nvGrpSpPr>
        <p:grpSpPr>
          <a:xfrm>
            <a:off x="6815160" y="3295800"/>
            <a:ext cx="1171440" cy="266400"/>
            <a:chOff x="6815160" y="3295800"/>
            <a:chExt cx="1171440" cy="266400"/>
          </a:xfrm>
        </p:grpSpPr>
        <p:sp>
          <p:nvSpPr>
            <p:cNvPr id="605" name="椭圆 24"/>
            <p:cNvSpPr/>
            <p:nvPr/>
          </p:nvSpPr>
          <p:spPr>
            <a:xfrm flipH="1" rot="10800000">
              <a:off x="7720200" y="3295800"/>
              <a:ext cx="266400" cy="26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椭圆 25"/>
            <p:cNvSpPr/>
            <p:nvPr/>
          </p:nvSpPr>
          <p:spPr>
            <a:xfrm flipH="1" rot="10800000">
              <a:off x="7192800" y="3328560"/>
              <a:ext cx="201600" cy="1998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椭圆 26"/>
            <p:cNvSpPr/>
            <p:nvPr/>
          </p:nvSpPr>
          <p:spPr>
            <a:xfrm flipH="1" rot="10800000">
              <a:off x="6815160" y="3362400"/>
              <a:ext cx="133200" cy="13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任意多边形: 形状 13"/>
          <p:cNvSpPr/>
          <p:nvPr/>
        </p:nvSpPr>
        <p:spPr>
          <a:xfrm>
            <a:off x="0" y="4888080"/>
            <a:ext cx="9144000" cy="1969920"/>
          </a:xfrm>
          <a:custGeom>
            <a:avLst/>
            <a:gdLst/>
            <a:ahLst/>
            <a:rect l="l" t="t" r="r" b="b"/>
            <a:pathLst>
              <a:path w="12192001" h="1975365">
                <a:moveTo>
                  <a:pt x="4761693" y="0"/>
                </a:moveTo>
                <a:cubicBezTo>
                  <a:pt x="5276735" y="0"/>
                  <a:pt x="5736923" y="214716"/>
                  <a:pt x="6041005" y="551581"/>
                </a:cubicBezTo>
                <a:lnTo>
                  <a:pt x="6051129" y="563959"/>
                </a:lnTo>
                <a:lnTo>
                  <a:pt x="6073942" y="553912"/>
                </a:lnTo>
                <a:cubicBezTo>
                  <a:pt x="6272289" y="477212"/>
                  <a:pt x="6490362" y="434799"/>
                  <a:pt x="6719270" y="434799"/>
                </a:cubicBezTo>
                <a:cubicBezTo>
                  <a:pt x="7177084" y="434799"/>
                  <a:pt x="7591557" y="604452"/>
                  <a:pt x="7891577" y="878743"/>
                </a:cubicBezTo>
                <a:lnTo>
                  <a:pt x="7956994" y="944547"/>
                </a:lnTo>
                <a:lnTo>
                  <a:pt x="7985842" y="901137"/>
                </a:lnTo>
                <a:cubicBezTo>
                  <a:pt x="8335549" y="427892"/>
                  <a:pt x="8927773" y="116746"/>
                  <a:pt x="9599486" y="116746"/>
                </a:cubicBezTo>
                <a:cubicBezTo>
                  <a:pt x="10271198" y="116746"/>
                  <a:pt x="10863422" y="427892"/>
                  <a:pt x="11213130" y="901137"/>
                </a:cubicBezTo>
                <a:lnTo>
                  <a:pt x="11218027" y="908506"/>
                </a:lnTo>
                <a:lnTo>
                  <a:pt x="11301959" y="824077"/>
                </a:lnTo>
                <a:cubicBezTo>
                  <a:pt x="11526974" y="618359"/>
                  <a:pt x="11816369" y="471500"/>
                  <a:pt x="12140144" y="410927"/>
                </a:cubicBezTo>
                <a:lnTo>
                  <a:pt x="12192001" y="403692"/>
                </a:lnTo>
                <a:lnTo>
                  <a:pt x="12192001" y="1975365"/>
                </a:lnTo>
                <a:lnTo>
                  <a:pt x="0" y="1975365"/>
                </a:lnTo>
                <a:lnTo>
                  <a:pt x="0" y="204727"/>
                </a:lnTo>
                <a:lnTo>
                  <a:pt x="60384" y="207862"/>
                </a:lnTo>
                <a:cubicBezTo>
                  <a:pt x="573648" y="261507"/>
                  <a:pt x="1026243" y="497713"/>
                  <a:pt x="1338550" y="843689"/>
                </a:cubicBezTo>
                <a:lnTo>
                  <a:pt x="1434547" y="961054"/>
                </a:lnTo>
                <a:lnTo>
                  <a:pt x="1439685" y="955887"/>
                </a:lnTo>
                <a:cubicBezTo>
                  <a:pt x="1791839" y="633932"/>
                  <a:pt x="2278336" y="434799"/>
                  <a:pt x="2815706" y="434799"/>
                </a:cubicBezTo>
                <a:cubicBezTo>
                  <a:pt x="3017220" y="434799"/>
                  <a:pt x="3211580" y="462802"/>
                  <a:pt x="3394383" y="514784"/>
                </a:cubicBezTo>
                <a:lnTo>
                  <a:pt x="3487865" y="546065"/>
                </a:lnTo>
                <a:lnTo>
                  <a:pt x="3589385" y="443944"/>
                </a:lnTo>
                <a:cubicBezTo>
                  <a:pt x="3889406" y="169652"/>
                  <a:pt x="4303879" y="0"/>
                  <a:pt x="4761693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任意多边形: 形状 14"/>
          <p:cNvSpPr/>
          <p:nvPr/>
        </p:nvSpPr>
        <p:spPr>
          <a:xfrm>
            <a:off x="0" y="5421240"/>
            <a:ext cx="9144000" cy="1436760"/>
          </a:xfrm>
          <a:custGeom>
            <a:avLst/>
            <a:gdLst/>
            <a:ahLst/>
            <a:rect l="l" t="t" r="r" b="b"/>
            <a:pathLst>
              <a:path w="12192000" h="1445191">
                <a:moveTo>
                  <a:pt x="1825119" y="0"/>
                </a:moveTo>
                <a:cubicBezTo>
                  <a:pt x="2179406" y="0"/>
                  <a:pt x="2491766" y="133083"/>
                  <a:pt x="2676215" y="335498"/>
                </a:cubicBezTo>
                <a:lnTo>
                  <a:pt x="2725007" y="402142"/>
                </a:lnTo>
                <a:lnTo>
                  <a:pt x="2887042" y="336937"/>
                </a:lnTo>
                <a:cubicBezTo>
                  <a:pt x="3009837" y="298430"/>
                  <a:pt x="3144843" y="277137"/>
                  <a:pt x="3286558" y="277137"/>
                </a:cubicBezTo>
                <a:cubicBezTo>
                  <a:pt x="3640842" y="277137"/>
                  <a:pt x="3953203" y="410220"/>
                  <a:pt x="4137654" y="612635"/>
                </a:cubicBezTo>
                <a:lnTo>
                  <a:pt x="4137762" y="612785"/>
                </a:lnTo>
                <a:lnTo>
                  <a:pt x="4173314" y="564223"/>
                </a:lnTo>
                <a:cubicBezTo>
                  <a:pt x="4408621" y="305997"/>
                  <a:pt x="4807103" y="136221"/>
                  <a:pt x="5259074" y="136221"/>
                </a:cubicBezTo>
                <a:cubicBezTo>
                  <a:pt x="5485056" y="136221"/>
                  <a:pt x="5697670" y="178665"/>
                  <a:pt x="5883199" y="253387"/>
                </a:cubicBezTo>
                <a:lnTo>
                  <a:pt x="5937700" y="277935"/>
                </a:lnTo>
                <a:lnTo>
                  <a:pt x="5998970" y="222879"/>
                </a:lnTo>
                <a:cubicBezTo>
                  <a:pt x="6184708" y="85173"/>
                  <a:pt x="6441306" y="0"/>
                  <a:pt x="6724734" y="0"/>
                </a:cubicBezTo>
                <a:cubicBezTo>
                  <a:pt x="7008162" y="0"/>
                  <a:pt x="7264760" y="85173"/>
                  <a:pt x="7450498" y="222879"/>
                </a:cubicBezTo>
                <a:lnTo>
                  <a:pt x="7504128" y="271069"/>
                </a:lnTo>
                <a:lnTo>
                  <a:pt x="7515578" y="265911"/>
                </a:lnTo>
                <a:cubicBezTo>
                  <a:pt x="7701109" y="191189"/>
                  <a:pt x="7913723" y="148745"/>
                  <a:pt x="8139707" y="148745"/>
                </a:cubicBezTo>
                <a:cubicBezTo>
                  <a:pt x="8535178" y="148745"/>
                  <a:pt x="8889702" y="278730"/>
                  <a:pt x="9129790" y="484217"/>
                </a:cubicBezTo>
                <a:lnTo>
                  <a:pt x="9258974" y="615575"/>
                </a:lnTo>
                <a:lnTo>
                  <a:pt x="9261126" y="612634"/>
                </a:lnTo>
                <a:cubicBezTo>
                  <a:pt x="9445576" y="410219"/>
                  <a:pt x="9757936" y="277136"/>
                  <a:pt x="10112222" y="277136"/>
                </a:cubicBezTo>
                <a:cubicBezTo>
                  <a:pt x="10324793" y="277136"/>
                  <a:pt x="10522273" y="325046"/>
                  <a:pt x="10686084" y="407095"/>
                </a:cubicBezTo>
                <a:lnTo>
                  <a:pt x="10698420" y="414641"/>
                </a:lnTo>
                <a:lnTo>
                  <a:pt x="10756361" y="335498"/>
                </a:lnTo>
                <a:cubicBezTo>
                  <a:pt x="10940811" y="133083"/>
                  <a:pt x="11253171" y="0"/>
                  <a:pt x="11607457" y="0"/>
                </a:cubicBezTo>
                <a:cubicBezTo>
                  <a:pt x="11784600" y="0"/>
                  <a:pt x="11951262" y="33271"/>
                  <a:pt x="12096693" y="91844"/>
                </a:cubicBezTo>
                <a:lnTo>
                  <a:pt x="12192000" y="135942"/>
                </a:lnTo>
                <a:lnTo>
                  <a:pt x="12192000" y="1445191"/>
                </a:lnTo>
                <a:lnTo>
                  <a:pt x="0" y="1445191"/>
                </a:lnTo>
                <a:lnTo>
                  <a:pt x="0" y="326970"/>
                </a:lnTo>
                <a:lnTo>
                  <a:pt x="2069" y="326409"/>
                </a:lnTo>
                <a:cubicBezTo>
                  <a:pt x="105629" y="302528"/>
                  <a:pt x="215735" y="289663"/>
                  <a:pt x="329894" y="289663"/>
                </a:cubicBezTo>
                <a:cubicBezTo>
                  <a:pt x="529672" y="289663"/>
                  <a:pt x="717038" y="329061"/>
                  <a:pt x="878628" y="397949"/>
                </a:cubicBezTo>
                <a:lnTo>
                  <a:pt x="914726" y="416495"/>
                </a:lnTo>
                <a:lnTo>
                  <a:pt x="974025" y="335498"/>
                </a:lnTo>
                <a:cubicBezTo>
                  <a:pt x="1158473" y="133083"/>
                  <a:pt x="1470835" y="0"/>
                  <a:pt x="1825119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1372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: 形状 15"/>
          <p:cNvSpPr/>
          <p:nvPr/>
        </p:nvSpPr>
        <p:spPr>
          <a:xfrm>
            <a:off x="0" y="5722920"/>
            <a:ext cx="9144000" cy="1135080"/>
          </a:xfrm>
          <a:custGeom>
            <a:avLst/>
            <a:gdLst/>
            <a:ahLst/>
            <a:rect l="l" t="t" r="r" b="b"/>
            <a:pathLst>
              <a:path w="12192000" h="1133339">
                <a:moveTo>
                  <a:pt x="4165443" y="0"/>
                </a:moveTo>
                <a:cubicBezTo>
                  <a:pt x="4427005" y="0"/>
                  <a:pt x="4657616" y="106424"/>
                  <a:pt x="4793789" y="268294"/>
                </a:cubicBezTo>
                <a:lnTo>
                  <a:pt x="4822897" y="311359"/>
                </a:lnTo>
                <a:lnTo>
                  <a:pt x="4850903" y="309092"/>
                </a:lnTo>
                <a:cubicBezTo>
                  <a:pt x="5075099" y="309092"/>
                  <a:pt x="5272766" y="400313"/>
                  <a:pt x="5389486" y="539058"/>
                </a:cubicBezTo>
                <a:lnTo>
                  <a:pt x="5423004" y="588645"/>
                </a:lnTo>
                <a:lnTo>
                  <a:pt x="5512341" y="549703"/>
                </a:lnTo>
                <a:cubicBezTo>
                  <a:pt x="5590047" y="523309"/>
                  <a:pt x="5675481" y="508714"/>
                  <a:pt x="5765161" y="508714"/>
                </a:cubicBezTo>
                <a:lnTo>
                  <a:pt x="5820259" y="512618"/>
                </a:lnTo>
                <a:lnTo>
                  <a:pt x="5859170" y="474742"/>
                </a:lnTo>
                <a:cubicBezTo>
                  <a:pt x="5976709" y="380352"/>
                  <a:pt x="6139086" y="321971"/>
                  <a:pt x="6318443" y="321971"/>
                </a:cubicBezTo>
                <a:cubicBezTo>
                  <a:pt x="6408121" y="321971"/>
                  <a:pt x="6493555" y="336566"/>
                  <a:pt x="6571261" y="362960"/>
                </a:cubicBezTo>
                <a:lnTo>
                  <a:pt x="6669499" y="405780"/>
                </a:lnTo>
                <a:lnTo>
                  <a:pt x="6680980" y="398172"/>
                </a:lnTo>
                <a:cubicBezTo>
                  <a:pt x="6784641" y="341931"/>
                  <a:pt x="6909609" y="309092"/>
                  <a:pt x="7044125" y="309092"/>
                </a:cubicBezTo>
                <a:cubicBezTo>
                  <a:pt x="7223481" y="309092"/>
                  <a:pt x="7385858" y="367473"/>
                  <a:pt x="7503396" y="461863"/>
                </a:cubicBezTo>
                <a:lnTo>
                  <a:pt x="7549263" y="506507"/>
                </a:lnTo>
                <a:lnTo>
                  <a:pt x="7557270" y="501203"/>
                </a:lnTo>
                <a:cubicBezTo>
                  <a:pt x="7660931" y="444962"/>
                  <a:pt x="7785899" y="412123"/>
                  <a:pt x="7920415" y="412123"/>
                </a:cubicBezTo>
                <a:cubicBezTo>
                  <a:pt x="8189451" y="412123"/>
                  <a:pt x="8420281" y="543481"/>
                  <a:pt x="8518883" y="730689"/>
                </a:cubicBezTo>
                <a:lnTo>
                  <a:pt x="8523397" y="742369"/>
                </a:lnTo>
                <a:lnTo>
                  <a:pt x="8530242" y="732242"/>
                </a:lnTo>
                <a:cubicBezTo>
                  <a:pt x="8646964" y="593497"/>
                  <a:pt x="8844630" y="502276"/>
                  <a:pt x="9068825" y="502276"/>
                </a:cubicBezTo>
                <a:cubicBezTo>
                  <a:pt x="9147294" y="502276"/>
                  <a:pt x="9222512" y="513450"/>
                  <a:pt x="9292147" y="533926"/>
                </a:cubicBezTo>
                <a:lnTo>
                  <a:pt x="9381057" y="567236"/>
                </a:lnTo>
                <a:lnTo>
                  <a:pt x="9408408" y="526771"/>
                </a:lnTo>
                <a:cubicBezTo>
                  <a:pt x="9490847" y="428776"/>
                  <a:pt x="9630456" y="364348"/>
                  <a:pt x="9788804" y="364348"/>
                </a:cubicBezTo>
                <a:cubicBezTo>
                  <a:pt x="9947151" y="364348"/>
                  <a:pt x="10086761" y="428776"/>
                  <a:pt x="10169201" y="526771"/>
                </a:cubicBezTo>
                <a:lnTo>
                  <a:pt x="10193126" y="562169"/>
                </a:lnTo>
                <a:lnTo>
                  <a:pt x="10221725" y="549703"/>
                </a:lnTo>
                <a:cubicBezTo>
                  <a:pt x="10299432" y="523309"/>
                  <a:pt x="10384865" y="508714"/>
                  <a:pt x="10474543" y="508714"/>
                </a:cubicBezTo>
                <a:cubicBezTo>
                  <a:pt x="10709949" y="508714"/>
                  <a:pt x="10916105" y="609285"/>
                  <a:pt x="11030020" y="759843"/>
                </a:cubicBezTo>
                <a:lnTo>
                  <a:pt x="11042281" y="779672"/>
                </a:lnTo>
                <a:lnTo>
                  <a:pt x="11058727" y="737128"/>
                </a:lnTo>
                <a:cubicBezTo>
                  <a:pt x="11157327" y="549920"/>
                  <a:pt x="11388158" y="418562"/>
                  <a:pt x="11657193" y="418562"/>
                </a:cubicBezTo>
                <a:cubicBezTo>
                  <a:pt x="11746871" y="418562"/>
                  <a:pt x="11832305" y="433157"/>
                  <a:pt x="11910011" y="459551"/>
                </a:cubicBezTo>
                <a:lnTo>
                  <a:pt x="12013158" y="504512"/>
                </a:lnTo>
                <a:lnTo>
                  <a:pt x="12070208" y="448985"/>
                </a:lnTo>
                <a:cubicBezTo>
                  <a:pt x="12099592" y="425388"/>
                  <a:pt x="12131779" y="404041"/>
                  <a:pt x="12166333" y="385294"/>
                </a:cubicBezTo>
                <a:lnTo>
                  <a:pt x="12192000" y="374106"/>
                </a:lnTo>
                <a:lnTo>
                  <a:pt x="12192000" y="1133339"/>
                </a:lnTo>
                <a:lnTo>
                  <a:pt x="0" y="1133339"/>
                </a:lnTo>
                <a:lnTo>
                  <a:pt x="0" y="486996"/>
                </a:lnTo>
                <a:lnTo>
                  <a:pt x="71" y="486956"/>
                </a:lnTo>
                <a:cubicBezTo>
                  <a:pt x="100055" y="443338"/>
                  <a:pt x="214635" y="418562"/>
                  <a:pt x="336420" y="418562"/>
                </a:cubicBezTo>
                <a:cubicBezTo>
                  <a:pt x="433848" y="418562"/>
                  <a:pt x="526664" y="434418"/>
                  <a:pt x="611086" y="463094"/>
                </a:cubicBezTo>
                <a:lnTo>
                  <a:pt x="684818" y="495232"/>
                </a:lnTo>
                <a:lnTo>
                  <a:pt x="719102" y="461863"/>
                </a:lnTo>
                <a:cubicBezTo>
                  <a:pt x="836640" y="367473"/>
                  <a:pt x="999017" y="309092"/>
                  <a:pt x="1178373" y="309092"/>
                </a:cubicBezTo>
                <a:cubicBezTo>
                  <a:pt x="1268052" y="309092"/>
                  <a:pt x="1353485" y="323687"/>
                  <a:pt x="1431191" y="350081"/>
                </a:cubicBezTo>
                <a:lnTo>
                  <a:pt x="1535098" y="395372"/>
                </a:lnTo>
                <a:lnTo>
                  <a:pt x="1601328" y="366503"/>
                </a:lnTo>
                <a:cubicBezTo>
                  <a:pt x="1685751" y="337827"/>
                  <a:pt x="1778567" y="321971"/>
                  <a:pt x="1875994" y="321971"/>
                </a:cubicBezTo>
                <a:cubicBezTo>
                  <a:pt x="2168280" y="321971"/>
                  <a:pt x="2419060" y="464681"/>
                  <a:pt x="2526182" y="668067"/>
                </a:cubicBezTo>
                <a:lnTo>
                  <a:pt x="2552597" y="736404"/>
                </a:lnTo>
                <a:lnTo>
                  <a:pt x="2571015" y="731813"/>
                </a:lnTo>
                <a:cubicBezTo>
                  <a:pt x="2613296" y="724865"/>
                  <a:pt x="2657074" y="721216"/>
                  <a:pt x="2701915" y="721216"/>
                </a:cubicBezTo>
                <a:lnTo>
                  <a:pt x="2724369" y="722353"/>
                </a:lnTo>
                <a:lnTo>
                  <a:pt x="2760974" y="627658"/>
                </a:lnTo>
                <a:cubicBezTo>
                  <a:pt x="2859573" y="440450"/>
                  <a:pt x="3090405" y="309092"/>
                  <a:pt x="3359439" y="309092"/>
                </a:cubicBezTo>
                <a:cubicBezTo>
                  <a:pt x="3404279" y="309092"/>
                  <a:pt x="3448056" y="312741"/>
                  <a:pt x="3490338" y="319689"/>
                </a:cubicBezTo>
                <a:lnTo>
                  <a:pt x="3500624" y="322253"/>
                </a:lnTo>
                <a:lnTo>
                  <a:pt x="3537095" y="268294"/>
                </a:lnTo>
                <a:cubicBezTo>
                  <a:pt x="3673270" y="106424"/>
                  <a:pt x="3903880" y="0"/>
                  <a:pt x="41654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任意多边形 30"/>
          <p:cNvGrpSpPr/>
          <p:nvPr/>
        </p:nvGrpSpPr>
        <p:grpSpPr>
          <a:xfrm>
            <a:off x="4054320" y="1704240"/>
            <a:ext cx="1001520" cy="720720"/>
            <a:chOff x="4054320" y="1704240"/>
            <a:chExt cx="1001520" cy="720720"/>
          </a:xfrm>
        </p:grpSpPr>
        <p:pic>
          <p:nvPicPr>
            <p:cNvPr id="612" name="任意多边形 30" descr=""/>
            <p:cNvPicPr/>
            <p:nvPr/>
          </p:nvPicPr>
          <p:blipFill>
            <a:blip r:embed="rId2"/>
            <a:stretch/>
          </p:blipFill>
          <p:spPr>
            <a:xfrm>
              <a:off x="4054320" y="1908720"/>
              <a:ext cx="936720" cy="4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 rot="20700000">
              <a:off x="4122720" y="1809360"/>
              <a:ext cx="882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EE15-53A3-4CB0-BBDF-2328B4B5EB72}" type="slidenum">
              <a:rPr b="0" lang="en-US" sz="1200" spc="-1" strike="noStrike">
                <a:solidFill>
                  <a:srgbClr val="7f7f7f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B22B-AB83-4728-9980-7F958EED15C2}" type="slidenum">
              <a:rPr b="0" lang="en-US" sz="1200" spc="-1" strike="noStrike">
                <a:solidFill>
                  <a:srgbClr val="7f7f7f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C2C8-111F-4F27-A6F6-CF7E0C7AC87F}" type="slidenum">
              <a:rPr b="0" lang="en-US" sz="1200" spc="-1" strike="noStrike">
                <a:solidFill>
                  <a:srgbClr val="7f7f7f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C889-7F39-47EE-9E5C-79E71450E550}" type="slidenum">
              <a:rPr b="0" lang="en-US" sz="1200" spc="-1" strike="noStrike">
                <a:solidFill>
                  <a:srgbClr val="7f7f7f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779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783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FAE5-0345-4A6B-A27A-146F584AE0A5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51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55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F021-283E-4141-8E0D-81A0B6C7408D}" type="slidenum">
              <a:rPr b="0" lang="en-US" sz="1200" spc="-1" strike="noStrike">
                <a:solidFill>
                  <a:srgbClr val="7f7f7f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101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105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任意多边形 30"/>
          <p:cNvGrpSpPr/>
          <p:nvPr/>
        </p:nvGrpSpPr>
        <p:grpSpPr>
          <a:xfrm>
            <a:off x="6357960" y="649800"/>
            <a:ext cx="1001160" cy="721800"/>
            <a:chOff x="6357960" y="649800"/>
            <a:chExt cx="1001160" cy="721800"/>
          </a:xfrm>
        </p:grpSpPr>
        <p:pic>
          <p:nvPicPr>
            <p:cNvPr id="110" name="任意多边形 30" descr=""/>
            <p:cNvPicPr/>
            <p:nvPr/>
          </p:nvPicPr>
          <p:blipFill>
            <a:blip r:embed="rId2"/>
            <a:stretch/>
          </p:blipFill>
          <p:spPr>
            <a:xfrm>
              <a:off x="6357960" y="853920"/>
              <a:ext cx="936360" cy="4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 rot="20700000">
              <a:off x="6424920" y="755280"/>
              <a:ext cx="8830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6"/>
          <p:cNvGrpSpPr/>
          <p:nvPr/>
        </p:nvGrpSpPr>
        <p:grpSpPr>
          <a:xfrm>
            <a:off x="581040" y="3287520"/>
            <a:ext cx="1171440" cy="268200"/>
            <a:chOff x="581040" y="3287520"/>
            <a:chExt cx="1171440" cy="268200"/>
          </a:xfrm>
        </p:grpSpPr>
        <p:sp>
          <p:nvSpPr>
            <p:cNvPr id="113" name="椭圆 21"/>
            <p:cNvSpPr/>
            <p:nvPr/>
          </p:nvSpPr>
          <p:spPr>
            <a:xfrm rot="10800000">
              <a:off x="581040" y="3287520"/>
              <a:ext cx="266400" cy="26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22"/>
            <p:cNvSpPr/>
            <p:nvPr/>
          </p:nvSpPr>
          <p:spPr>
            <a:xfrm rot="10800000">
              <a:off x="1173240" y="3321000"/>
              <a:ext cx="201600" cy="2016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23"/>
            <p:cNvSpPr/>
            <p:nvPr/>
          </p:nvSpPr>
          <p:spPr>
            <a:xfrm rot="10800000">
              <a:off x="1619280" y="3354120"/>
              <a:ext cx="133200" cy="135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17"/>
          <p:cNvGrpSpPr/>
          <p:nvPr/>
        </p:nvGrpSpPr>
        <p:grpSpPr>
          <a:xfrm>
            <a:off x="7386120" y="3295800"/>
            <a:ext cx="1173600" cy="266400"/>
            <a:chOff x="7386120" y="3295800"/>
            <a:chExt cx="1173600" cy="266400"/>
          </a:xfrm>
        </p:grpSpPr>
        <p:sp>
          <p:nvSpPr>
            <p:cNvPr id="117" name="椭圆 25"/>
            <p:cNvSpPr/>
            <p:nvPr/>
          </p:nvSpPr>
          <p:spPr>
            <a:xfrm flipH="1" rot="10800000">
              <a:off x="8292600" y="3295800"/>
              <a:ext cx="266760" cy="26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19"/>
            <p:cNvSpPr/>
            <p:nvPr/>
          </p:nvSpPr>
          <p:spPr>
            <a:xfrm flipH="1" rot="10800000">
              <a:off x="7765920" y="3328560"/>
              <a:ext cx="199800" cy="1998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27"/>
            <p:cNvSpPr/>
            <p:nvPr/>
          </p:nvSpPr>
          <p:spPr>
            <a:xfrm flipH="1" rot="10800000">
              <a:off x="7386120" y="3362400"/>
              <a:ext cx="133200" cy="13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任意多边形: 形状 6"/>
          <p:cNvSpPr/>
          <p:nvPr/>
        </p:nvSpPr>
        <p:spPr>
          <a:xfrm>
            <a:off x="0" y="4888080"/>
            <a:ext cx="9144000" cy="1969920"/>
          </a:xfrm>
          <a:custGeom>
            <a:avLst/>
            <a:gdLst/>
            <a:ahLst/>
            <a:rect l="l" t="t" r="r" b="b"/>
            <a:pathLst>
              <a:path w="12192001" h="1975365">
                <a:moveTo>
                  <a:pt x="4761693" y="0"/>
                </a:moveTo>
                <a:cubicBezTo>
                  <a:pt x="5276735" y="0"/>
                  <a:pt x="5736923" y="214716"/>
                  <a:pt x="6041005" y="551581"/>
                </a:cubicBezTo>
                <a:lnTo>
                  <a:pt x="6051129" y="563959"/>
                </a:lnTo>
                <a:lnTo>
                  <a:pt x="6073942" y="553912"/>
                </a:lnTo>
                <a:cubicBezTo>
                  <a:pt x="6272289" y="477212"/>
                  <a:pt x="6490362" y="434799"/>
                  <a:pt x="6719270" y="434799"/>
                </a:cubicBezTo>
                <a:cubicBezTo>
                  <a:pt x="7177084" y="434799"/>
                  <a:pt x="7591557" y="604452"/>
                  <a:pt x="7891577" y="878743"/>
                </a:cubicBezTo>
                <a:lnTo>
                  <a:pt x="7956994" y="944547"/>
                </a:lnTo>
                <a:lnTo>
                  <a:pt x="7985842" y="901137"/>
                </a:lnTo>
                <a:cubicBezTo>
                  <a:pt x="8335549" y="427892"/>
                  <a:pt x="8927773" y="116746"/>
                  <a:pt x="9599486" y="116746"/>
                </a:cubicBezTo>
                <a:cubicBezTo>
                  <a:pt x="10271198" y="116746"/>
                  <a:pt x="10863422" y="427892"/>
                  <a:pt x="11213130" y="901137"/>
                </a:cubicBezTo>
                <a:lnTo>
                  <a:pt x="11218027" y="908506"/>
                </a:lnTo>
                <a:lnTo>
                  <a:pt x="11301959" y="824077"/>
                </a:lnTo>
                <a:cubicBezTo>
                  <a:pt x="11526974" y="618359"/>
                  <a:pt x="11816369" y="471500"/>
                  <a:pt x="12140144" y="410927"/>
                </a:cubicBezTo>
                <a:lnTo>
                  <a:pt x="12192001" y="403692"/>
                </a:lnTo>
                <a:lnTo>
                  <a:pt x="12192001" y="1975365"/>
                </a:lnTo>
                <a:lnTo>
                  <a:pt x="0" y="1975365"/>
                </a:lnTo>
                <a:lnTo>
                  <a:pt x="0" y="204727"/>
                </a:lnTo>
                <a:lnTo>
                  <a:pt x="60384" y="207862"/>
                </a:lnTo>
                <a:cubicBezTo>
                  <a:pt x="573648" y="261507"/>
                  <a:pt x="1026243" y="497713"/>
                  <a:pt x="1338550" y="843689"/>
                </a:cubicBezTo>
                <a:lnTo>
                  <a:pt x="1434547" y="961054"/>
                </a:lnTo>
                <a:lnTo>
                  <a:pt x="1439685" y="955887"/>
                </a:lnTo>
                <a:cubicBezTo>
                  <a:pt x="1791839" y="633932"/>
                  <a:pt x="2278336" y="434799"/>
                  <a:pt x="2815706" y="434799"/>
                </a:cubicBezTo>
                <a:cubicBezTo>
                  <a:pt x="3017220" y="434799"/>
                  <a:pt x="3211580" y="462802"/>
                  <a:pt x="3394383" y="514784"/>
                </a:cubicBezTo>
                <a:lnTo>
                  <a:pt x="3487865" y="546065"/>
                </a:lnTo>
                <a:lnTo>
                  <a:pt x="3589385" y="443944"/>
                </a:lnTo>
                <a:cubicBezTo>
                  <a:pt x="3889406" y="169652"/>
                  <a:pt x="4303879" y="0"/>
                  <a:pt x="4761693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任意多边形: 形状 7"/>
          <p:cNvSpPr/>
          <p:nvPr/>
        </p:nvSpPr>
        <p:spPr>
          <a:xfrm>
            <a:off x="0" y="5421240"/>
            <a:ext cx="9144000" cy="1436760"/>
          </a:xfrm>
          <a:custGeom>
            <a:avLst/>
            <a:gdLst/>
            <a:ahLst/>
            <a:rect l="l" t="t" r="r" b="b"/>
            <a:pathLst>
              <a:path w="12192000" h="1445191">
                <a:moveTo>
                  <a:pt x="1825119" y="0"/>
                </a:moveTo>
                <a:cubicBezTo>
                  <a:pt x="2179406" y="0"/>
                  <a:pt x="2491766" y="133083"/>
                  <a:pt x="2676215" y="335498"/>
                </a:cubicBezTo>
                <a:lnTo>
                  <a:pt x="2725007" y="402142"/>
                </a:lnTo>
                <a:lnTo>
                  <a:pt x="2887042" y="336937"/>
                </a:lnTo>
                <a:cubicBezTo>
                  <a:pt x="3009837" y="298430"/>
                  <a:pt x="3144843" y="277137"/>
                  <a:pt x="3286558" y="277137"/>
                </a:cubicBezTo>
                <a:cubicBezTo>
                  <a:pt x="3640842" y="277137"/>
                  <a:pt x="3953203" y="410220"/>
                  <a:pt x="4137654" y="612635"/>
                </a:cubicBezTo>
                <a:lnTo>
                  <a:pt x="4137762" y="612785"/>
                </a:lnTo>
                <a:lnTo>
                  <a:pt x="4173314" y="564223"/>
                </a:lnTo>
                <a:cubicBezTo>
                  <a:pt x="4408621" y="305997"/>
                  <a:pt x="4807103" y="136221"/>
                  <a:pt x="5259074" y="136221"/>
                </a:cubicBezTo>
                <a:cubicBezTo>
                  <a:pt x="5485056" y="136221"/>
                  <a:pt x="5697670" y="178665"/>
                  <a:pt x="5883199" y="253387"/>
                </a:cubicBezTo>
                <a:lnTo>
                  <a:pt x="5937700" y="277935"/>
                </a:lnTo>
                <a:lnTo>
                  <a:pt x="5998970" y="222879"/>
                </a:lnTo>
                <a:cubicBezTo>
                  <a:pt x="6184708" y="85173"/>
                  <a:pt x="6441306" y="0"/>
                  <a:pt x="6724734" y="0"/>
                </a:cubicBezTo>
                <a:cubicBezTo>
                  <a:pt x="7008162" y="0"/>
                  <a:pt x="7264760" y="85173"/>
                  <a:pt x="7450498" y="222879"/>
                </a:cubicBezTo>
                <a:lnTo>
                  <a:pt x="7504128" y="271069"/>
                </a:lnTo>
                <a:lnTo>
                  <a:pt x="7515578" y="265911"/>
                </a:lnTo>
                <a:cubicBezTo>
                  <a:pt x="7701109" y="191189"/>
                  <a:pt x="7913723" y="148745"/>
                  <a:pt x="8139707" y="148745"/>
                </a:cubicBezTo>
                <a:cubicBezTo>
                  <a:pt x="8535178" y="148745"/>
                  <a:pt x="8889702" y="278730"/>
                  <a:pt x="9129790" y="484217"/>
                </a:cubicBezTo>
                <a:lnTo>
                  <a:pt x="9258974" y="615575"/>
                </a:lnTo>
                <a:lnTo>
                  <a:pt x="9261126" y="612634"/>
                </a:lnTo>
                <a:cubicBezTo>
                  <a:pt x="9445576" y="410219"/>
                  <a:pt x="9757936" y="277136"/>
                  <a:pt x="10112222" y="277136"/>
                </a:cubicBezTo>
                <a:cubicBezTo>
                  <a:pt x="10324793" y="277136"/>
                  <a:pt x="10522273" y="325046"/>
                  <a:pt x="10686084" y="407095"/>
                </a:cubicBezTo>
                <a:lnTo>
                  <a:pt x="10698420" y="414641"/>
                </a:lnTo>
                <a:lnTo>
                  <a:pt x="10756361" y="335498"/>
                </a:lnTo>
                <a:cubicBezTo>
                  <a:pt x="10940811" y="133083"/>
                  <a:pt x="11253171" y="0"/>
                  <a:pt x="11607457" y="0"/>
                </a:cubicBezTo>
                <a:cubicBezTo>
                  <a:pt x="11784600" y="0"/>
                  <a:pt x="11951262" y="33271"/>
                  <a:pt x="12096693" y="91844"/>
                </a:cubicBezTo>
                <a:lnTo>
                  <a:pt x="12192000" y="135942"/>
                </a:lnTo>
                <a:lnTo>
                  <a:pt x="12192000" y="1445191"/>
                </a:lnTo>
                <a:lnTo>
                  <a:pt x="0" y="1445191"/>
                </a:lnTo>
                <a:lnTo>
                  <a:pt x="0" y="326970"/>
                </a:lnTo>
                <a:lnTo>
                  <a:pt x="2069" y="326409"/>
                </a:lnTo>
                <a:cubicBezTo>
                  <a:pt x="105629" y="302528"/>
                  <a:pt x="215735" y="289663"/>
                  <a:pt x="329894" y="289663"/>
                </a:cubicBezTo>
                <a:cubicBezTo>
                  <a:pt x="529672" y="289663"/>
                  <a:pt x="717038" y="329061"/>
                  <a:pt x="878628" y="397949"/>
                </a:cubicBezTo>
                <a:lnTo>
                  <a:pt x="914726" y="416495"/>
                </a:lnTo>
                <a:lnTo>
                  <a:pt x="974025" y="335498"/>
                </a:lnTo>
                <a:cubicBezTo>
                  <a:pt x="1158473" y="133083"/>
                  <a:pt x="1470835" y="0"/>
                  <a:pt x="1825119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1372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: 形状 8"/>
          <p:cNvSpPr/>
          <p:nvPr/>
        </p:nvSpPr>
        <p:spPr>
          <a:xfrm>
            <a:off x="0" y="5722920"/>
            <a:ext cx="9144000" cy="1135080"/>
          </a:xfrm>
          <a:custGeom>
            <a:avLst/>
            <a:gdLst/>
            <a:ahLst/>
            <a:rect l="l" t="t" r="r" b="b"/>
            <a:pathLst>
              <a:path w="12192000" h="1133339">
                <a:moveTo>
                  <a:pt x="4165443" y="0"/>
                </a:moveTo>
                <a:cubicBezTo>
                  <a:pt x="4427005" y="0"/>
                  <a:pt x="4657616" y="106424"/>
                  <a:pt x="4793789" y="268294"/>
                </a:cubicBezTo>
                <a:lnTo>
                  <a:pt x="4822897" y="311359"/>
                </a:lnTo>
                <a:lnTo>
                  <a:pt x="4850903" y="309092"/>
                </a:lnTo>
                <a:cubicBezTo>
                  <a:pt x="5075099" y="309092"/>
                  <a:pt x="5272766" y="400313"/>
                  <a:pt x="5389486" y="539058"/>
                </a:cubicBezTo>
                <a:lnTo>
                  <a:pt x="5423004" y="588645"/>
                </a:lnTo>
                <a:lnTo>
                  <a:pt x="5512341" y="549703"/>
                </a:lnTo>
                <a:cubicBezTo>
                  <a:pt x="5590047" y="523309"/>
                  <a:pt x="5675481" y="508714"/>
                  <a:pt x="5765161" y="508714"/>
                </a:cubicBezTo>
                <a:lnTo>
                  <a:pt x="5820259" y="512618"/>
                </a:lnTo>
                <a:lnTo>
                  <a:pt x="5859170" y="474742"/>
                </a:lnTo>
                <a:cubicBezTo>
                  <a:pt x="5976709" y="380352"/>
                  <a:pt x="6139086" y="321971"/>
                  <a:pt x="6318443" y="321971"/>
                </a:cubicBezTo>
                <a:cubicBezTo>
                  <a:pt x="6408121" y="321971"/>
                  <a:pt x="6493555" y="336566"/>
                  <a:pt x="6571261" y="362960"/>
                </a:cubicBezTo>
                <a:lnTo>
                  <a:pt x="6669499" y="405780"/>
                </a:lnTo>
                <a:lnTo>
                  <a:pt x="6680980" y="398172"/>
                </a:lnTo>
                <a:cubicBezTo>
                  <a:pt x="6784641" y="341931"/>
                  <a:pt x="6909609" y="309092"/>
                  <a:pt x="7044125" y="309092"/>
                </a:cubicBezTo>
                <a:cubicBezTo>
                  <a:pt x="7223481" y="309092"/>
                  <a:pt x="7385858" y="367473"/>
                  <a:pt x="7503396" y="461863"/>
                </a:cubicBezTo>
                <a:lnTo>
                  <a:pt x="7549263" y="506507"/>
                </a:lnTo>
                <a:lnTo>
                  <a:pt x="7557270" y="501203"/>
                </a:lnTo>
                <a:cubicBezTo>
                  <a:pt x="7660931" y="444962"/>
                  <a:pt x="7785899" y="412123"/>
                  <a:pt x="7920415" y="412123"/>
                </a:cubicBezTo>
                <a:cubicBezTo>
                  <a:pt x="8189451" y="412123"/>
                  <a:pt x="8420281" y="543481"/>
                  <a:pt x="8518883" y="730689"/>
                </a:cubicBezTo>
                <a:lnTo>
                  <a:pt x="8523397" y="742369"/>
                </a:lnTo>
                <a:lnTo>
                  <a:pt x="8530242" y="732242"/>
                </a:lnTo>
                <a:cubicBezTo>
                  <a:pt x="8646964" y="593497"/>
                  <a:pt x="8844630" y="502276"/>
                  <a:pt x="9068825" y="502276"/>
                </a:cubicBezTo>
                <a:cubicBezTo>
                  <a:pt x="9147294" y="502276"/>
                  <a:pt x="9222512" y="513450"/>
                  <a:pt x="9292147" y="533926"/>
                </a:cubicBezTo>
                <a:lnTo>
                  <a:pt x="9381057" y="567236"/>
                </a:lnTo>
                <a:lnTo>
                  <a:pt x="9408408" y="526771"/>
                </a:lnTo>
                <a:cubicBezTo>
                  <a:pt x="9490847" y="428776"/>
                  <a:pt x="9630456" y="364348"/>
                  <a:pt x="9788804" y="364348"/>
                </a:cubicBezTo>
                <a:cubicBezTo>
                  <a:pt x="9947151" y="364348"/>
                  <a:pt x="10086761" y="428776"/>
                  <a:pt x="10169201" y="526771"/>
                </a:cubicBezTo>
                <a:lnTo>
                  <a:pt x="10193126" y="562169"/>
                </a:lnTo>
                <a:lnTo>
                  <a:pt x="10221725" y="549703"/>
                </a:lnTo>
                <a:cubicBezTo>
                  <a:pt x="10299432" y="523309"/>
                  <a:pt x="10384865" y="508714"/>
                  <a:pt x="10474543" y="508714"/>
                </a:cubicBezTo>
                <a:cubicBezTo>
                  <a:pt x="10709949" y="508714"/>
                  <a:pt x="10916105" y="609285"/>
                  <a:pt x="11030020" y="759843"/>
                </a:cubicBezTo>
                <a:lnTo>
                  <a:pt x="11042281" y="779672"/>
                </a:lnTo>
                <a:lnTo>
                  <a:pt x="11058727" y="737128"/>
                </a:lnTo>
                <a:cubicBezTo>
                  <a:pt x="11157327" y="549920"/>
                  <a:pt x="11388158" y="418562"/>
                  <a:pt x="11657193" y="418562"/>
                </a:cubicBezTo>
                <a:cubicBezTo>
                  <a:pt x="11746871" y="418562"/>
                  <a:pt x="11832305" y="433157"/>
                  <a:pt x="11910011" y="459551"/>
                </a:cubicBezTo>
                <a:lnTo>
                  <a:pt x="12013158" y="504512"/>
                </a:lnTo>
                <a:lnTo>
                  <a:pt x="12070208" y="448985"/>
                </a:lnTo>
                <a:cubicBezTo>
                  <a:pt x="12099592" y="425388"/>
                  <a:pt x="12131779" y="404041"/>
                  <a:pt x="12166333" y="385294"/>
                </a:cubicBezTo>
                <a:lnTo>
                  <a:pt x="12192000" y="374106"/>
                </a:lnTo>
                <a:lnTo>
                  <a:pt x="12192000" y="1133339"/>
                </a:lnTo>
                <a:lnTo>
                  <a:pt x="0" y="1133339"/>
                </a:lnTo>
                <a:lnTo>
                  <a:pt x="0" y="486996"/>
                </a:lnTo>
                <a:lnTo>
                  <a:pt x="71" y="486956"/>
                </a:lnTo>
                <a:cubicBezTo>
                  <a:pt x="100055" y="443338"/>
                  <a:pt x="214635" y="418562"/>
                  <a:pt x="336420" y="418562"/>
                </a:cubicBezTo>
                <a:cubicBezTo>
                  <a:pt x="433848" y="418562"/>
                  <a:pt x="526664" y="434418"/>
                  <a:pt x="611086" y="463094"/>
                </a:cubicBezTo>
                <a:lnTo>
                  <a:pt x="684818" y="495232"/>
                </a:lnTo>
                <a:lnTo>
                  <a:pt x="719102" y="461863"/>
                </a:lnTo>
                <a:cubicBezTo>
                  <a:pt x="836640" y="367473"/>
                  <a:pt x="999017" y="309092"/>
                  <a:pt x="1178373" y="309092"/>
                </a:cubicBezTo>
                <a:cubicBezTo>
                  <a:pt x="1268052" y="309092"/>
                  <a:pt x="1353485" y="323687"/>
                  <a:pt x="1431191" y="350081"/>
                </a:cubicBezTo>
                <a:lnTo>
                  <a:pt x="1535098" y="395372"/>
                </a:lnTo>
                <a:lnTo>
                  <a:pt x="1601328" y="366503"/>
                </a:lnTo>
                <a:cubicBezTo>
                  <a:pt x="1685751" y="337827"/>
                  <a:pt x="1778567" y="321971"/>
                  <a:pt x="1875994" y="321971"/>
                </a:cubicBezTo>
                <a:cubicBezTo>
                  <a:pt x="2168280" y="321971"/>
                  <a:pt x="2419060" y="464681"/>
                  <a:pt x="2526182" y="668067"/>
                </a:cubicBezTo>
                <a:lnTo>
                  <a:pt x="2552597" y="736404"/>
                </a:lnTo>
                <a:lnTo>
                  <a:pt x="2571015" y="731813"/>
                </a:lnTo>
                <a:cubicBezTo>
                  <a:pt x="2613296" y="724865"/>
                  <a:pt x="2657074" y="721216"/>
                  <a:pt x="2701915" y="721216"/>
                </a:cubicBezTo>
                <a:lnTo>
                  <a:pt x="2724369" y="722353"/>
                </a:lnTo>
                <a:lnTo>
                  <a:pt x="2760974" y="627658"/>
                </a:lnTo>
                <a:cubicBezTo>
                  <a:pt x="2859573" y="440450"/>
                  <a:pt x="3090405" y="309092"/>
                  <a:pt x="3359439" y="309092"/>
                </a:cubicBezTo>
                <a:cubicBezTo>
                  <a:pt x="3404279" y="309092"/>
                  <a:pt x="3448056" y="312741"/>
                  <a:pt x="3490338" y="319689"/>
                </a:cubicBezTo>
                <a:lnTo>
                  <a:pt x="3500624" y="322253"/>
                </a:lnTo>
                <a:lnTo>
                  <a:pt x="3537095" y="268294"/>
                </a:lnTo>
                <a:cubicBezTo>
                  <a:pt x="3673270" y="106424"/>
                  <a:pt x="3903880" y="0"/>
                  <a:pt x="41654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CCE1-9827-423F-B89F-33F23AD5611B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165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169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5"/>
          <p:cNvSpPr/>
          <p:nvPr/>
        </p:nvSpPr>
        <p:spPr>
          <a:xfrm>
            <a:off x="3213000" y="3433680"/>
            <a:ext cx="3861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10"/>
          <p:cNvGrpSpPr/>
          <p:nvPr/>
        </p:nvGrpSpPr>
        <p:grpSpPr>
          <a:xfrm>
            <a:off x="581040" y="3287520"/>
            <a:ext cx="1171440" cy="268200"/>
            <a:chOff x="581040" y="3287520"/>
            <a:chExt cx="1171440" cy="268200"/>
          </a:xfrm>
        </p:grpSpPr>
        <p:sp>
          <p:nvSpPr>
            <p:cNvPr id="175" name="椭圆 21"/>
            <p:cNvSpPr/>
            <p:nvPr/>
          </p:nvSpPr>
          <p:spPr>
            <a:xfrm rot="10800000">
              <a:off x="581040" y="3287520"/>
              <a:ext cx="266400" cy="26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22"/>
            <p:cNvSpPr/>
            <p:nvPr/>
          </p:nvSpPr>
          <p:spPr>
            <a:xfrm rot="10800000">
              <a:off x="1173240" y="3321000"/>
              <a:ext cx="201600" cy="2016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23"/>
            <p:cNvSpPr/>
            <p:nvPr/>
          </p:nvSpPr>
          <p:spPr>
            <a:xfrm rot="10800000">
              <a:off x="1619280" y="3354120"/>
              <a:ext cx="133200" cy="135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4"/>
          <p:cNvGrpSpPr/>
          <p:nvPr/>
        </p:nvGrpSpPr>
        <p:grpSpPr>
          <a:xfrm>
            <a:off x="7386120" y="3295800"/>
            <a:ext cx="1173600" cy="266400"/>
            <a:chOff x="7386120" y="3295800"/>
            <a:chExt cx="1173600" cy="266400"/>
          </a:xfrm>
        </p:grpSpPr>
        <p:sp>
          <p:nvSpPr>
            <p:cNvPr id="179" name="椭圆 25"/>
            <p:cNvSpPr/>
            <p:nvPr/>
          </p:nvSpPr>
          <p:spPr>
            <a:xfrm flipH="1" rot="10800000">
              <a:off x="8292600" y="3295800"/>
              <a:ext cx="266760" cy="26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椭圆 26"/>
            <p:cNvSpPr/>
            <p:nvPr/>
          </p:nvSpPr>
          <p:spPr>
            <a:xfrm flipH="1" rot="10800000">
              <a:off x="7765920" y="3328560"/>
              <a:ext cx="199800" cy="1998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 27"/>
            <p:cNvSpPr/>
            <p:nvPr/>
          </p:nvSpPr>
          <p:spPr>
            <a:xfrm flipH="1" rot="10800000">
              <a:off x="7386120" y="3362400"/>
              <a:ext cx="133200" cy="13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任意多边形: 形状 6"/>
          <p:cNvSpPr/>
          <p:nvPr/>
        </p:nvSpPr>
        <p:spPr>
          <a:xfrm>
            <a:off x="0" y="4883040"/>
            <a:ext cx="9144000" cy="1974960"/>
          </a:xfrm>
          <a:custGeom>
            <a:avLst/>
            <a:gdLst/>
            <a:ahLst/>
            <a:rect l="l" t="t" r="r" b="b"/>
            <a:pathLst>
              <a:path w="12191999" h="1975365">
                <a:moveTo>
                  <a:pt x="4408996" y="0"/>
                </a:moveTo>
                <a:cubicBezTo>
                  <a:pt x="4965206" y="0"/>
                  <a:pt x="5462174" y="214716"/>
                  <a:pt x="5790561" y="551581"/>
                </a:cubicBezTo>
                <a:lnTo>
                  <a:pt x="5801495" y="563959"/>
                </a:lnTo>
                <a:lnTo>
                  <a:pt x="5826131" y="553912"/>
                </a:lnTo>
                <a:cubicBezTo>
                  <a:pt x="6040333" y="477212"/>
                  <a:pt x="6275835" y="434799"/>
                  <a:pt x="6523038" y="434799"/>
                </a:cubicBezTo>
                <a:cubicBezTo>
                  <a:pt x="7017445" y="434799"/>
                  <a:pt x="7465046" y="604452"/>
                  <a:pt x="7789046" y="878743"/>
                </a:cubicBezTo>
                <a:lnTo>
                  <a:pt x="7859692" y="944547"/>
                </a:lnTo>
                <a:lnTo>
                  <a:pt x="7890845" y="901137"/>
                </a:lnTo>
                <a:cubicBezTo>
                  <a:pt x="8268504" y="427892"/>
                  <a:pt x="8908064" y="116746"/>
                  <a:pt x="9633465" y="116746"/>
                </a:cubicBezTo>
                <a:cubicBezTo>
                  <a:pt x="10358867" y="116746"/>
                  <a:pt x="10998426" y="427892"/>
                  <a:pt x="11376086" y="901137"/>
                </a:cubicBezTo>
                <a:lnTo>
                  <a:pt x="11381374" y="908506"/>
                </a:lnTo>
                <a:lnTo>
                  <a:pt x="11472015" y="824077"/>
                </a:lnTo>
                <a:cubicBezTo>
                  <a:pt x="11634015" y="686932"/>
                  <a:pt x="11826915" y="575946"/>
                  <a:pt x="12041117" y="499246"/>
                </a:cubicBezTo>
                <a:lnTo>
                  <a:pt x="12191999" y="452495"/>
                </a:lnTo>
                <a:lnTo>
                  <a:pt x="12191999" y="1975365"/>
                </a:lnTo>
                <a:lnTo>
                  <a:pt x="0" y="1975365"/>
                </a:lnTo>
                <a:lnTo>
                  <a:pt x="0" y="373214"/>
                </a:lnTo>
                <a:lnTo>
                  <a:pt x="103466" y="416152"/>
                </a:lnTo>
                <a:cubicBezTo>
                  <a:pt x="337103" y="525156"/>
                  <a:pt x="543613" y="670701"/>
                  <a:pt x="712248" y="843689"/>
                </a:cubicBezTo>
                <a:lnTo>
                  <a:pt x="815917" y="961054"/>
                </a:lnTo>
                <a:lnTo>
                  <a:pt x="821465" y="955887"/>
                </a:lnTo>
                <a:cubicBezTo>
                  <a:pt x="1201766" y="633932"/>
                  <a:pt x="1727148" y="434799"/>
                  <a:pt x="2307470" y="434799"/>
                </a:cubicBezTo>
                <a:cubicBezTo>
                  <a:pt x="2525090" y="434799"/>
                  <a:pt x="2734985" y="462802"/>
                  <a:pt x="2932400" y="514784"/>
                </a:cubicBezTo>
                <a:lnTo>
                  <a:pt x="3033353" y="546065"/>
                </a:lnTo>
                <a:lnTo>
                  <a:pt x="3142988" y="443944"/>
                </a:lnTo>
                <a:cubicBezTo>
                  <a:pt x="3466988" y="169652"/>
                  <a:pt x="3914590" y="0"/>
                  <a:pt x="4408996" y="0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任意多边形: 形状 7"/>
          <p:cNvSpPr/>
          <p:nvPr/>
        </p:nvSpPr>
        <p:spPr>
          <a:xfrm>
            <a:off x="0" y="5413320"/>
            <a:ext cx="9144000" cy="1444680"/>
          </a:xfrm>
          <a:custGeom>
            <a:avLst/>
            <a:gdLst/>
            <a:ahLst/>
            <a:rect l="l" t="t" r="r" b="b"/>
            <a:pathLst>
              <a:path w="12192001" h="1445191">
                <a:moveTo>
                  <a:pt x="3246538" y="0"/>
                </a:moveTo>
                <a:cubicBezTo>
                  <a:pt x="3513718" y="0"/>
                  <a:pt x="3749281" y="133083"/>
                  <a:pt x="3888381" y="335498"/>
                </a:cubicBezTo>
                <a:lnTo>
                  <a:pt x="3925176" y="402142"/>
                </a:lnTo>
                <a:lnTo>
                  <a:pt x="4047372" y="336937"/>
                </a:lnTo>
                <a:cubicBezTo>
                  <a:pt x="4139977" y="298430"/>
                  <a:pt x="4241791" y="277137"/>
                  <a:pt x="4348662" y="277137"/>
                </a:cubicBezTo>
                <a:cubicBezTo>
                  <a:pt x="4615842" y="277137"/>
                  <a:pt x="4851406" y="410220"/>
                  <a:pt x="4990506" y="612635"/>
                </a:cubicBezTo>
                <a:lnTo>
                  <a:pt x="4990587" y="612785"/>
                </a:lnTo>
                <a:lnTo>
                  <a:pt x="5017399" y="564223"/>
                </a:lnTo>
                <a:cubicBezTo>
                  <a:pt x="5194852" y="305997"/>
                  <a:pt x="5495363" y="136221"/>
                  <a:pt x="5836210" y="136221"/>
                </a:cubicBezTo>
                <a:cubicBezTo>
                  <a:pt x="6006632" y="136221"/>
                  <a:pt x="6166972" y="178665"/>
                  <a:pt x="6306886" y="253387"/>
                </a:cubicBezTo>
                <a:lnTo>
                  <a:pt x="6347988" y="277935"/>
                </a:lnTo>
                <a:lnTo>
                  <a:pt x="6394194" y="222879"/>
                </a:lnTo>
                <a:cubicBezTo>
                  <a:pt x="6534266" y="85173"/>
                  <a:pt x="6727776" y="0"/>
                  <a:pt x="6941520" y="0"/>
                </a:cubicBezTo>
                <a:cubicBezTo>
                  <a:pt x="7155263" y="0"/>
                  <a:pt x="7348773" y="85173"/>
                  <a:pt x="7488846" y="222879"/>
                </a:cubicBezTo>
                <a:lnTo>
                  <a:pt x="7529289" y="271069"/>
                </a:lnTo>
                <a:lnTo>
                  <a:pt x="7537925" y="265911"/>
                </a:lnTo>
                <a:cubicBezTo>
                  <a:pt x="7677840" y="191189"/>
                  <a:pt x="7838181" y="148745"/>
                  <a:pt x="8008603" y="148745"/>
                </a:cubicBezTo>
                <a:cubicBezTo>
                  <a:pt x="8306843" y="148745"/>
                  <a:pt x="8574203" y="278730"/>
                  <a:pt x="8755262" y="484217"/>
                </a:cubicBezTo>
                <a:lnTo>
                  <a:pt x="8852685" y="615575"/>
                </a:lnTo>
                <a:lnTo>
                  <a:pt x="8854308" y="612634"/>
                </a:lnTo>
                <a:cubicBezTo>
                  <a:pt x="8993408" y="410219"/>
                  <a:pt x="9228971" y="277136"/>
                  <a:pt x="9496151" y="277136"/>
                </a:cubicBezTo>
                <a:cubicBezTo>
                  <a:pt x="9656459" y="277136"/>
                  <a:pt x="9805385" y="325046"/>
                  <a:pt x="9928922" y="407095"/>
                </a:cubicBezTo>
                <a:lnTo>
                  <a:pt x="9938225" y="414641"/>
                </a:lnTo>
                <a:lnTo>
                  <a:pt x="9981920" y="335498"/>
                </a:lnTo>
                <a:cubicBezTo>
                  <a:pt x="10121021" y="133083"/>
                  <a:pt x="10356583" y="0"/>
                  <a:pt x="10623763" y="0"/>
                </a:cubicBezTo>
                <a:cubicBezTo>
                  <a:pt x="10890944" y="0"/>
                  <a:pt x="11126506" y="133083"/>
                  <a:pt x="11265607" y="335498"/>
                </a:cubicBezTo>
                <a:lnTo>
                  <a:pt x="11291202" y="381858"/>
                </a:lnTo>
                <a:lnTo>
                  <a:pt x="11306415" y="369518"/>
                </a:lnTo>
                <a:cubicBezTo>
                  <a:pt x="11429952" y="287469"/>
                  <a:pt x="11578878" y="239559"/>
                  <a:pt x="11739186" y="239559"/>
                </a:cubicBezTo>
                <a:cubicBezTo>
                  <a:pt x="11899494" y="239559"/>
                  <a:pt x="12048420" y="287469"/>
                  <a:pt x="12171956" y="369518"/>
                </a:cubicBezTo>
                <a:lnTo>
                  <a:pt x="12192001" y="385777"/>
                </a:lnTo>
                <a:lnTo>
                  <a:pt x="12192001" y="1445191"/>
                </a:lnTo>
                <a:lnTo>
                  <a:pt x="0" y="1445191"/>
                </a:lnTo>
                <a:lnTo>
                  <a:pt x="0" y="160691"/>
                </a:lnTo>
                <a:lnTo>
                  <a:pt x="41876" y="184935"/>
                </a:lnTo>
                <a:lnTo>
                  <a:pt x="134451" y="253847"/>
                </a:lnTo>
                <a:lnTo>
                  <a:pt x="135221" y="253387"/>
                </a:lnTo>
                <a:cubicBezTo>
                  <a:pt x="275136" y="178665"/>
                  <a:pt x="435476" y="136221"/>
                  <a:pt x="605900" y="136221"/>
                </a:cubicBezTo>
                <a:cubicBezTo>
                  <a:pt x="963788" y="136221"/>
                  <a:pt x="1277208" y="323399"/>
                  <a:pt x="1450394" y="603610"/>
                </a:cubicBezTo>
                <a:lnTo>
                  <a:pt x="1457193" y="617070"/>
                </a:lnTo>
                <a:lnTo>
                  <a:pt x="1531063" y="529051"/>
                </a:lnTo>
                <a:cubicBezTo>
                  <a:pt x="1681511" y="381145"/>
                  <a:pt x="1889354" y="289663"/>
                  <a:pt x="2118933" y="289663"/>
                </a:cubicBezTo>
                <a:cubicBezTo>
                  <a:pt x="2269592" y="289663"/>
                  <a:pt x="2410892" y="329061"/>
                  <a:pt x="2532753" y="397949"/>
                </a:cubicBezTo>
                <a:lnTo>
                  <a:pt x="2559976" y="416495"/>
                </a:lnTo>
                <a:lnTo>
                  <a:pt x="2604696" y="335498"/>
                </a:lnTo>
                <a:cubicBezTo>
                  <a:pt x="2743795" y="133083"/>
                  <a:pt x="2979358" y="0"/>
                  <a:pt x="3246538" y="0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: 形状 8"/>
          <p:cNvSpPr/>
          <p:nvPr/>
        </p:nvSpPr>
        <p:spPr>
          <a:xfrm>
            <a:off x="0" y="5724360"/>
            <a:ext cx="9144000" cy="1133640"/>
          </a:xfrm>
          <a:custGeom>
            <a:avLst/>
            <a:gdLst/>
            <a:ahLst/>
            <a:rect l="l" t="t" r="r" b="b"/>
            <a:pathLst>
              <a:path w="12192001" h="1133339">
                <a:moveTo>
                  <a:pt x="4783442" y="0"/>
                </a:moveTo>
                <a:cubicBezTo>
                  <a:pt x="5036157" y="0"/>
                  <a:pt x="5258967" y="106424"/>
                  <a:pt x="5390536" y="268294"/>
                </a:cubicBezTo>
                <a:lnTo>
                  <a:pt x="5418659" y="311359"/>
                </a:lnTo>
                <a:lnTo>
                  <a:pt x="5445718" y="309092"/>
                </a:lnTo>
                <a:cubicBezTo>
                  <a:pt x="5662331" y="309092"/>
                  <a:pt x="5853314" y="400313"/>
                  <a:pt x="5966086" y="539058"/>
                </a:cubicBezTo>
                <a:lnTo>
                  <a:pt x="5998471" y="588645"/>
                </a:lnTo>
                <a:lnTo>
                  <a:pt x="6084786" y="549703"/>
                </a:lnTo>
                <a:cubicBezTo>
                  <a:pt x="6159865" y="523309"/>
                  <a:pt x="6242409" y="508714"/>
                  <a:pt x="6329055" y="508714"/>
                </a:cubicBezTo>
                <a:lnTo>
                  <a:pt x="6382291" y="512618"/>
                </a:lnTo>
                <a:lnTo>
                  <a:pt x="6419886" y="474742"/>
                </a:lnTo>
                <a:cubicBezTo>
                  <a:pt x="6533449" y="380352"/>
                  <a:pt x="6690336" y="321971"/>
                  <a:pt x="6863627" y="321971"/>
                </a:cubicBezTo>
                <a:cubicBezTo>
                  <a:pt x="6950273" y="321971"/>
                  <a:pt x="7032817" y="336566"/>
                  <a:pt x="7107895" y="362960"/>
                </a:cubicBezTo>
                <a:lnTo>
                  <a:pt x="7202810" y="405780"/>
                </a:lnTo>
                <a:lnTo>
                  <a:pt x="7213903" y="398172"/>
                </a:lnTo>
                <a:cubicBezTo>
                  <a:pt x="7314059" y="341931"/>
                  <a:pt x="7434800" y="309092"/>
                  <a:pt x="7564766" y="309092"/>
                </a:cubicBezTo>
                <a:cubicBezTo>
                  <a:pt x="7738057" y="309092"/>
                  <a:pt x="7894943" y="367473"/>
                  <a:pt x="8008506" y="461863"/>
                </a:cubicBezTo>
                <a:lnTo>
                  <a:pt x="8052822" y="506507"/>
                </a:lnTo>
                <a:lnTo>
                  <a:pt x="8060557" y="501203"/>
                </a:lnTo>
                <a:cubicBezTo>
                  <a:pt x="8160713" y="444962"/>
                  <a:pt x="8281454" y="412123"/>
                  <a:pt x="8411422" y="412123"/>
                </a:cubicBezTo>
                <a:cubicBezTo>
                  <a:pt x="8671358" y="412123"/>
                  <a:pt x="8894382" y="543481"/>
                  <a:pt x="8989649" y="730689"/>
                </a:cubicBezTo>
                <a:lnTo>
                  <a:pt x="8994011" y="742369"/>
                </a:lnTo>
                <a:lnTo>
                  <a:pt x="9000624" y="732242"/>
                </a:lnTo>
                <a:cubicBezTo>
                  <a:pt x="9113399" y="593497"/>
                  <a:pt x="9304380" y="502276"/>
                  <a:pt x="9520993" y="502276"/>
                </a:cubicBezTo>
                <a:cubicBezTo>
                  <a:pt x="9596808" y="502276"/>
                  <a:pt x="9669483" y="513450"/>
                  <a:pt x="9736762" y="533926"/>
                </a:cubicBezTo>
                <a:lnTo>
                  <a:pt x="9822666" y="567236"/>
                </a:lnTo>
                <a:lnTo>
                  <a:pt x="9849091" y="526771"/>
                </a:lnTo>
                <a:cubicBezTo>
                  <a:pt x="9928743" y="428776"/>
                  <a:pt x="10063630" y="364348"/>
                  <a:pt x="10216623" y="364348"/>
                </a:cubicBezTo>
                <a:cubicBezTo>
                  <a:pt x="10369615" y="364348"/>
                  <a:pt x="10504503" y="428776"/>
                  <a:pt x="10584155" y="526771"/>
                </a:cubicBezTo>
                <a:lnTo>
                  <a:pt x="10607270" y="562169"/>
                </a:lnTo>
                <a:lnTo>
                  <a:pt x="10634903" y="549703"/>
                </a:lnTo>
                <a:cubicBezTo>
                  <a:pt x="10709981" y="523309"/>
                  <a:pt x="10792525" y="508714"/>
                  <a:pt x="10879171" y="508714"/>
                </a:cubicBezTo>
                <a:cubicBezTo>
                  <a:pt x="11106615" y="508714"/>
                  <a:pt x="11305799" y="609285"/>
                  <a:pt x="11415862" y="759843"/>
                </a:cubicBezTo>
                <a:lnTo>
                  <a:pt x="11427708" y="779672"/>
                </a:lnTo>
                <a:lnTo>
                  <a:pt x="11443598" y="737128"/>
                </a:lnTo>
                <a:cubicBezTo>
                  <a:pt x="11538863" y="549920"/>
                  <a:pt x="11761888" y="418562"/>
                  <a:pt x="12021824" y="418562"/>
                </a:cubicBezTo>
                <a:cubicBezTo>
                  <a:pt x="12065147" y="418562"/>
                  <a:pt x="12107444" y="422211"/>
                  <a:pt x="12148296" y="429159"/>
                </a:cubicBezTo>
                <a:lnTo>
                  <a:pt x="12192001" y="440435"/>
                </a:lnTo>
                <a:lnTo>
                  <a:pt x="12192001" y="1133339"/>
                </a:lnTo>
                <a:lnTo>
                  <a:pt x="0" y="1133339"/>
                </a:lnTo>
                <a:lnTo>
                  <a:pt x="0" y="510365"/>
                </a:lnTo>
                <a:lnTo>
                  <a:pt x="22512" y="508714"/>
                </a:lnTo>
                <a:cubicBezTo>
                  <a:pt x="212048" y="508714"/>
                  <a:pt x="381960" y="578555"/>
                  <a:pt x="497027" y="688964"/>
                </a:cubicBezTo>
                <a:lnTo>
                  <a:pt x="501680" y="694269"/>
                </a:lnTo>
                <a:lnTo>
                  <a:pt x="518573" y="668401"/>
                </a:lnTo>
                <a:cubicBezTo>
                  <a:pt x="641094" y="517666"/>
                  <a:pt x="848579" y="418562"/>
                  <a:pt x="1083912" y="418562"/>
                </a:cubicBezTo>
                <a:cubicBezTo>
                  <a:pt x="1178045" y="418562"/>
                  <a:pt x="1267722" y="434418"/>
                  <a:pt x="1349289" y="463094"/>
                </a:cubicBezTo>
                <a:lnTo>
                  <a:pt x="1420528" y="495232"/>
                </a:lnTo>
                <a:lnTo>
                  <a:pt x="1453652" y="461863"/>
                </a:lnTo>
                <a:cubicBezTo>
                  <a:pt x="1567215" y="367473"/>
                  <a:pt x="1724100" y="309092"/>
                  <a:pt x="1897391" y="309092"/>
                </a:cubicBezTo>
                <a:cubicBezTo>
                  <a:pt x="1984036" y="309092"/>
                  <a:pt x="2066580" y="323687"/>
                  <a:pt x="2141659" y="350081"/>
                </a:cubicBezTo>
                <a:lnTo>
                  <a:pt x="2242051" y="395372"/>
                </a:lnTo>
                <a:lnTo>
                  <a:pt x="2306042" y="366503"/>
                </a:lnTo>
                <a:cubicBezTo>
                  <a:pt x="2387609" y="337827"/>
                  <a:pt x="2477286" y="321971"/>
                  <a:pt x="2571419" y="321971"/>
                </a:cubicBezTo>
                <a:cubicBezTo>
                  <a:pt x="2853820" y="321971"/>
                  <a:pt x="3096119" y="464681"/>
                  <a:pt x="3199618" y="668067"/>
                </a:cubicBezTo>
                <a:lnTo>
                  <a:pt x="3225139" y="736404"/>
                </a:lnTo>
                <a:lnTo>
                  <a:pt x="3242934" y="731813"/>
                </a:lnTo>
                <a:cubicBezTo>
                  <a:pt x="3283786" y="724865"/>
                  <a:pt x="3326083" y="721216"/>
                  <a:pt x="3369406" y="721216"/>
                </a:cubicBezTo>
                <a:lnTo>
                  <a:pt x="3391102" y="722353"/>
                </a:lnTo>
                <a:lnTo>
                  <a:pt x="3426468" y="627658"/>
                </a:lnTo>
                <a:cubicBezTo>
                  <a:pt x="3521734" y="440450"/>
                  <a:pt x="3744758" y="309092"/>
                  <a:pt x="4004695" y="309092"/>
                </a:cubicBezTo>
                <a:cubicBezTo>
                  <a:pt x="4048018" y="309092"/>
                  <a:pt x="4090315" y="312741"/>
                  <a:pt x="4131167" y="319689"/>
                </a:cubicBezTo>
                <a:lnTo>
                  <a:pt x="4141105" y="322253"/>
                </a:lnTo>
                <a:lnTo>
                  <a:pt x="4176342" y="268294"/>
                </a:lnTo>
                <a:cubicBezTo>
                  <a:pt x="4307913" y="106424"/>
                  <a:pt x="4530723" y="0"/>
                  <a:pt x="4783442" y="0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19"/>
          <p:cNvSpPr/>
          <p:nvPr/>
        </p:nvSpPr>
        <p:spPr>
          <a:xfrm flipH="1" rot="20700000">
            <a:off x="5864040" y="726840"/>
            <a:ext cx="887400" cy="612720"/>
          </a:xfrm>
          <a:custGeom>
            <a:avLst/>
            <a:gdLst/>
            <a:ahLst/>
            <a:rect l="l" t="t" r="r" b="b"/>
            <a:pathLst>
              <a:path w="815110" h="753851">
                <a:moveTo>
                  <a:pt x="811844" y="0"/>
                </a:moveTo>
                <a:lnTo>
                  <a:pt x="811221" y="3357"/>
                </a:lnTo>
                <a:lnTo>
                  <a:pt x="815110" y="1718"/>
                </a:lnTo>
                <a:lnTo>
                  <a:pt x="810512" y="7176"/>
                </a:lnTo>
                <a:lnTo>
                  <a:pt x="674407" y="740510"/>
                </a:lnTo>
                <a:lnTo>
                  <a:pt x="421276" y="621270"/>
                </a:lnTo>
                <a:lnTo>
                  <a:pt x="293771" y="753851"/>
                </a:lnTo>
                <a:lnTo>
                  <a:pt x="336279" y="581231"/>
                </a:lnTo>
                <a:lnTo>
                  <a:pt x="335005" y="580631"/>
                </a:lnTo>
                <a:lnTo>
                  <a:pt x="337035" y="578159"/>
                </a:lnTo>
                <a:lnTo>
                  <a:pt x="337278" y="577173"/>
                </a:lnTo>
                <a:lnTo>
                  <a:pt x="337691" y="577360"/>
                </a:lnTo>
                <a:lnTo>
                  <a:pt x="628627" y="223097"/>
                </a:lnTo>
                <a:lnTo>
                  <a:pt x="609342" y="245991"/>
                </a:lnTo>
                <a:lnTo>
                  <a:pt x="266398" y="517542"/>
                </a:lnTo>
                <a:lnTo>
                  <a:pt x="0" y="345175"/>
                </a:lnTo>
                <a:lnTo>
                  <a:pt x="807958" y="4731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0FC7-E659-4200-A2A0-8BABE38FDD1C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228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232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组合 5"/>
          <p:cNvGrpSpPr/>
          <p:nvPr/>
        </p:nvGrpSpPr>
        <p:grpSpPr>
          <a:xfrm>
            <a:off x="1142640" y="3287520"/>
            <a:ext cx="1173600" cy="268200"/>
            <a:chOff x="1142640" y="3287520"/>
            <a:chExt cx="1173600" cy="268200"/>
          </a:xfrm>
        </p:grpSpPr>
        <p:sp>
          <p:nvSpPr>
            <p:cNvPr id="237" name="椭圆 20"/>
            <p:cNvSpPr/>
            <p:nvPr/>
          </p:nvSpPr>
          <p:spPr>
            <a:xfrm rot="10800000">
              <a:off x="1142640" y="3287520"/>
              <a:ext cx="266760" cy="26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21"/>
            <p:cNvSpPr/>
            <p:nvPr/>
          </p:nvSpPr>
          <p:spPr>
            <a:xfrm rot="10800000">
              <a:off x="1736280" y="3321000"/>
              <a:ext cx="199800" cy="2016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椭圆 22"/>
            <p:cNvSpPr/>
            <p:nvPr/>
          </p:nvSpPr>
          <p:spPr>
            <a:xfrm rot="10800000">
              <a:off x="2183040" y="3354120"/>
              <a:ext cx="133200" cy="135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9"/>
          <p:cNvGrpSpPr/>
          <p:nvPr/>
        </p:nvGrpSpPr>
        <p:grpSpPr>
          <a:xfrm>
            <a:off x="6815160" y="3295800"/>
            <a:ext cx="1171440" cy="266400"/>
            <a:chOff x="6815160" y="3295800"/>
            <a:chExt cx="1171440" cy="266400"/>
          </a:xfrm>
        </p:grpSpPr>
        <p:sp>
          <p:nvSpPr>
            <p:cNvPr id="241" name="椭圆 24"/>
            <p:cNvSpPr/>
            <p:nvPr/>
          </p:nvSpPr>
          <p:spPr>
            <a:xfrm flipH="1" rot="10800000">
              <a:off x="7720200" y="3295800"/>
              <a:ext cx="266400" cy="26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椭圆 25"/>
            <p:cNvSpPr/>
            <p:nvPr/>
          </p:nvSpPr>
          <p:spPr>
            <a:xfrm flipH="1" rot="10800000">
              <a:off x="7192800" y="3328560"/>
              <a:ext cx="201600" cy="19980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26"/>
            <p:cNvSpPr/>
            <p:nvPr/>
          </p:nvSpPr>
          <p:spPr>
            <a:xfrm flipH="1" rot="10800000">
              <a:off x="6815160" y="3362400"/>
              <a:ext cx="133200" cy="13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任意多边形: 形状 13"/>
          <p:cNvSpPr/>
          <p:nvPr/>
        </p:nvSpPr>
        <p:spPr>
          <a:xfrm>
            <a:off x="0" y="4888080"/>
            <a:ext cx="9144000" cy="1969920"/>
          </a:xfrm>
          <a:custGeom>
            <a:avLst/>
            <a:gdLst/>
            <a:ahLst/>
            <a:rect l="l" t="t" r="r" b="b"/>
            <a:pathLst>
              <a:path w="12192001" h="1975365">
                <a:moveTo>
                  <a:pt x="4761693" y="0"/>
                </a:moveTo>
                <a:cubicBezTo>
                  <a:pt x="5276735" y="0"/>
                  <a:pt x="5736923" y="214716"/>
                  <a:pt x="6041005" y="551581"/>
                </a:cubicBezTo>
                <a:lnTo>
                  <a:pt x="6051129" y="563959"/>
                </a:lnTo>
                <a:lnTo>
                  <a:pt x="6073942" y="553912"/>
                </a:lnTo>
                <a:cubicBezTo>
                  <a:pt x="6272289" y="477212"/>
                  <a:pt x="6490362" y="434799"/>
                  <a:pt x="6719270" y="434799"/>
                </a:cubicBezTo>
                <a:cubicBezTo>
                  <a:pt x="7177084" y="434799"/>
                  <a:pt x="7591557" y="604452"/>
                  <a:pt x="7891577" y="878743"/>
                </a:cubicBezTo>
                <a:lnTo>
                  <a:pt x="7956994" y="944547"/>
                </a:lnTo>
                <a:lnTo>
                  <a:pt x="7985842" y="901137"/>
                </a:lnTo>
                <a:cubicBezTo>
                  <a:pt x="8335549" y="427892"/>
                  <a:pt x="8927773" y="116746"/>
                  <a:pt x="9599486" y="116746"/>
                </a:cubicBezTo>
                <a:cubicBezTo>
                  <a:pt x="10271198" y="116746"/>
                  <a:pt x="10863422" y="427892"/>
                  <a:pt x="11213130" y="901137"/>
                </a:cubicBezTo>
                <a:lnTo>
                  <a:pt x="11218027" y="908506"/>
                </a:lnTo>
                <a:lnTo>
                  <a:pt x="11301959" y="824077"/>
                </a:lnTo>
                <a:cubicBezTo>
                  <a:pt x="11526974" y="618359"/>
                  <a:pt x="11816369" y="471500"/>
                  <a:pt x="12140144" y="410927"/>
                </a:cubicBezTo>
                <a:lnTo>
                  <a:pt x="12192001" y="403692"/>
                </a:lnTo>
                <a:lnTo>
                  <a:pt x="12192001" y="1975365"/>
                </a:lnTo>
                <a:lnTo>
                  <a:pt x="0" y="1975365"/>
                </a:lnTo>
                <a:lnTo>
                  <a:pt x="0" y="204727"/>
                </a:lnTo>
                <a:lnTo>
                  <a:pt x="60384" y="207862"/>
                </a:lnTo>
                <a:cubicBezTo>
                  <a:pt x="573648" y="261507"/>
                  <a:pt x="1026243" y="497713"/>
                  <a:pt x="1338550" y="843689"/>
                </a:cubicBezTo>
                <a:lnTo>
                  <a:pt x="1434547" y="961054"/>
                </a:lnTo>
                <a:lnTo>
                  <a:pt x="1439685" y="955887"/>
                </a:lnTo>
                <a:cubicBezTo>
                  <a:pt x="1791839" y="633932"/>
                  <a:pt x="2278336" y="434799"/>
                  <a:pt x="2815706" y="434799"/>
                </a:cubicBezTo>
                <a:cubicBezTo>
                  <a:pt x="3017220" y="434799"/>
                  <a:pt x="3211580" y="462802"/>
                  <a:pt x="3394383" y="514784"/>
                </a:cubicBezTo>
                <a:lnTo>
                  <a:pt x="3487865" y="546065"/>
                </a:lnTo>
                <a:lnTo>
                  <a:pt x="3589385" y="443944"/>
                </a:lnTo>
                <a:cubicBezTo>
                  <a:pt x="3889406" y="169652"/>
                  <a:pt x="4303879" y="0"/>
                  <a:pt x="4761693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: 形状 14"/>
          <p:cNvSpPr/>
          <p:nvPr/>
        </p:nvSpPr>
        <p:spPr>
          <a:xfrm>
            <a:off x="0" y="5421240"/>
            <a:ext cx="9144000" cy="1436760"/>
          </a:xfrm>
          <a:custGeom>
            <a:avLst/>
            <a:gdLst/>
            <a:ahLst/>
            <a:rect l="l" t="t" r="r" b="b"/>
            <a:pathLst>
              <a:path w="12192000" h="1445191">
                <a:moveTo>
                  <a:pt x="1825119" y="0"/>
                </a:moveTo>
                <a:cubicBezTo>
                  <a:pt x="2179406" y="0"/>
                  <a:pt x="2491766" y="133083"/>
                  <a:pt x="2676215" y="335498"/>
                </a:cubicBezTo>
                <a:lnTo>
                  <a:pt x="2725007" y="402142"/>
                </a:lnTo>
                <a:lnTo>
                  <a:pt x="2887042" y="336937"/>
                </a:lnTo>
                <a:cubicBezTo>
                  <a:pt x="3009837" y="298430"/>
                  <a:pt x="3144843" y="277137"/>
                  <a:pt x="3286558" y="277137"/>
                </a:cubicBezTo>
                <a:cubicBezTo>
                  <a:pt x="3640842" y="277137"/>
                  <a:pt x="3953203" y="410220"/>
                  <a:pt x="4137654" y="612635"/>
                </a:cubicBezTo>
                <a:lnTo>
                  <a:pt x="4137762" y="612785"/>
                </a:lnTo>
                <a:lnTo>
                  <a:pt x="4173314" y="564223"/>
                </a:lnTo>
                <a:cubicBezTo>
                  <a:pt x="4408621" y="305997"/>
                  <a:pt x="4807103" y="136221"/>
                  <a:pt x="5259074" y="136221"/>
                </a:cubicBezTo>
                <a:cubicBezTo>
                  <a:pt x="5485056" y="136221"/>
                  <a:pt x="5697670" y="178665"/>
                  <a:pt x="5883199" y="253387"/>
                </a:cubicBezTo>
                <a:lnTo>
                  <a:pt x="5937700" y="277935"/>
                </a:lnTo>
                <a:lnTo>
                  <a:pt x="5998970" y="222879"/>
                </a:lnTo>
                <a:cubicBezTo>
                  <a:pt x="6184708" y="85173"/>
                  <a:pt x="6441306" y="0"/>
                  <a:pt x="6724734" y="0"/>
                </a:cubicBezTo>
                <a:cubicBezTo>
                  <a:pt x="7008162" y="0"/>
                  <a:pt x="7264760" y="85173"/>
                  <a:pt x="7450498" y="222879"/>
                </a:cubicBezTo>
                <a:lnTo>
                  <a:pt x="7504128" y="271069"/>
                </a:lnTo>
                <a:lnTo>
                  <a:pt x="7515578" y="265911"/>
                </a:lnTo>
                <a:cubicBezTo>
                  <a:pt x="7701109" y="191189"/>
                  <a:pt x="7913723" y="148745"/>
                  <a:pt x="8139707" y="148745"/>
                </a:cubicBezTo>
                <a:cubicBezTo>
                  <a:pt x="8535178" y="148745"/>
                  <a:pt x="8889702" y="278730"/>
                  <a:pt x="9129790" y="484217"/>
                </a:cubicBezTo>
                <a:lnTo>
                  <a:pt x="9258974" y="615575"/>
                </a:lnTo>
                <a:lnTo>
                  <a:pt x="9261126" y="612634"/>
                </a:lnTo>
                <a:cubicBezTo>
                  <a:pt x="9445576" y="410219"/>
                  <a:pt x="9757936" y="277136"/>
                  <a:pt x="10112222" y="277136"/>
                </a:cubicBezTo>
                <a:cubicBezTo>
                  <a:pt x="10324793" y="277136"/>
                  <a:pt x="10522273" y="325046"/>
                  <a:pt x="10686084" y="407095"/>
                </a:cubicBezTo>
                <a:lnTo>
                  <a:pt x="10698420" y="414641"/>
                </a:lnTo>
                <a:lnTo>
                  <a:pt x="10756361" y="335498"/>
                </a:lnTo>
                <a:cubicBezTo>
                  <a:pt x="10940811" y="133083"/>
                  <a:pt x="11253171" y="0"/>
                  <a:pt x="11607457" y="0"/>
                </a:cubicBezTo>
                <a:cubicBezTo>
                  <a:pt x="11784600" y="0"/>
                  <a:pt x="11951262" y="33271"/>
                  <a:pt x="12096693" y="91844"/>
                </a:cubicBezTo>
                <a:lnTo>
                  <a:pt x="12192000" y="135942"/>
                </a:lnTo>
                <a:lnTo>
                  <a:pt x="12192000" y="1445191"/>
                </a:lnTo>
                <a:lnTo>
                  <a:pt x="0" y="1445191"/>
                </a:lnTo>
                <a:lnTo>
                  <a:pt x="0" y="326970"/>
                </a:lnTo>
                <a:lnTo>
                  <a:pt x="2069" y="326409"/>
                </a:lnTo>
                <a:cubicBezTo>
                  <a:pt x="105629" y="302528"/>
                  <a:pt x="215735" y="289663"/>
                  <a:pt x="329894" y="289663"/>
                </a:cubicBezTo>
                <a:cubicBezTo>
                  <a:pt x="529672" y="289663"/>
                  <a:pt x="717038" y="329061"/>
                  <a:pt x="878628" y="397949"/>
                </a:cubicBezTo>
                <a:lnTo>
                  <a:pt x="914726" y="416495"/>
                </a:lnTo>
                <a:lnTo>
                  <a:pt x="974025" y="335498"/>
                </a:lnTo>
                <a:cubicBezTo>
                  <a:pt x="1158473" y="133083"/>
                  <a:pt x="1470835" y="0"/>
                  <a:pt x="1825119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1372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: 形状 15"/>
          <p:cNvSpPr/>
          <p:nvPr/>
        </p:nvSpPr>
        <p:spPr>
          <a:xfrm>
            <a:off x="0" y="5722920"/>
            <a:ext cx="9144000" cy="1135080"/>
          </a:xfrm>
          <a:custGeom>
            <a:avLst/>
            <a:gdLst/>
            <a:ahLst/>
            <a:rect l="l" t="t" r="r" b="b"/>
            <a:pathLst>
              <a:path w="12192000" h="1133339">
                <a:moveTo>
                  <a:pt x="4165443" y="0"/>
                </a:moveTo>
                <a:cubicBezTo>
                  <a:pt x="4427005" y="0"/>
                  <a:pt x="4657616" y="106424"/>
                  <a:pt x="4793789" y="268294"/>
                </a:cubicBezTo>
                <a:lnTo>
                  <a:pt x="4822897" y="311359"/>
                </a:lnTo>
                <a:lnTo>
                  <a:pt x="4850903" y="309092"/>
                </a:lnTo>
                <a:cubicBezTo>
                  <a:pt x="5075099" y="309092"/>
                  <a:pt x="5272766" y="400313"/>
                  <a:pt x="5389486" y="539058"/>
                </a:cubicBezTo>
                <a:lnTo>
                  <a:pt x="5423004" y="588645"/>
                </a:lnTo>
                <a:lnTo>
                  <a:pt x="5512341" y="549703"/>
                </a:lnTo>
                <a:cubicBezTo>
                  <a:pt x="5590047" y="523309"/>
                  <a:pt x="5675481" y="508714"/>
                  <a:pt x="5765161" y="508714"/>
                </a:cubicBezTo>
                <a:lnTo>
                  <a:pt x="5820259" y="512618"/>
                </a:lnTo>
                <a:lnTo>
                  <a:pt x="5859170" y="474742"/>
                </a:lnTo>
                <a:cubicBezTo>
                  <a:pt x="5976709" y="380352"/>
                  <a:pt x="6139086" y="321971"/>
                  <a:pt x="6318443" y="321971"/>
                </a:cubicBezTo>
                <a:cubicBezTo>
                  <a:pt x="6408121" y="321971"/>
                  <a:pt x="6493555" y="336566"/>
                  <a:pt x="6571261" y="362960"/>
                </a:cubicBezTo>
                <a:lnTo>
                  <a:pt x="6669499" y="405780"/>
                </a:lnTo>
                <a:lnTo>
                  <a:pt x="6680980" y="398172"/>
                </a:lnTo>
                <a:cubicBezTo>
                  <a:pt x="6784641" y="341931"/>
                  <a:pt x="6909609" y="309092"/>
                  <a:pt x="7044125" y="309092"/>
                </a:cubicBezTo>
                <a:cubicBezTo>
                  <a:pt x="7223481" y="309092"/>
                  <a:pt x="7385858" y="367473"/>
                  <a:pt x="7503396" y="461863"/>
                </a:cubicBezTo>
                <a:lnTo>
                  <a:pt x="7549263" y="506507"/>
                </a:lnTo>
                <a:lnTo>
                  <a:pt x="7557270" y="501203"/>
                </a:lnTo>
                <a:cubicBezTo>
                  <a:pt x="7660931" y="444962"/>
                  <a:pt x="7785899" y="412123"/>
                  <a:pt x="7920415" y="412123"/>
                </a:cubicBezTo>
                <a:cubicBezTo>
                  <a:pt x="8189451" y="412123"/>
                  <a:pt x="8420281" y="543481"/>
                  <a:pt x="8518883" y="730689"/>
                </a:cubicBezTo>
                <a:lnTo>
                  <a:pt x="8523397" y="742369"/>
                </a:lnTo>
                <a:lnTo>
                  <a:pt x="8530242" y="732242"/>
                </a:lnTo>
                <a:cubicBezTo>
                  <a:pt x="8646964" y="593497"/>
                  <a:pt x="8844630" y="502276"/>
                  <a:pt x="9068825" y="502276"/>
                </a:cubicBezTo>
                <a:cubicBezTo>
                  <a:pt x="9147294" y="502276"/>
                  <a:pt x="9222512" y="513450"/>
                  <a:pt x="9292147" y="533926"/>
                </a:cubicBezTo>
                <a:lnTo>
                  <a:pt x="9381057" y="567236"/>
                </a:lnTo>
                <a:lnTo>
                  <a:pt x="9408408" y="526771"/>
                </a:lnTo>
                <a:cubicBezTo>
                  <a:pt x="9490847" y="428776"/>
                  <a:pt x="9630456" y="364348"/>
                  <a:pt x="9788804" y="364348"/>
                </a:cubicBezTo>
                <a:cubicBezTo>
                  <a:pt x="9947151" y="364348"/>
                  <a:pt x="10086761" y="428776"/>
                  <a:pt x="10169201" y="526771"/>
                </a:cubicBezTo>
                <a:lnTo>
                  <a:pt x="10193126" y="562169"/>
                </a:lnTo>
                <a:lnTo>
                  <a:pt x="10221725" y="549703"/>
                </a:lnTo>
                <a:cubicBezTo>
                  <a:pt x="10299432" y="523309"/>
                  <a:pt x="10384865" y="508714"/>
                  <a:pt x="10474543" y="508714"/>
                </a:cubicBezTo>
                <a:cubicBezTo>
                  <a:pt x="10709949" y="508714"/>
                  <a:pt x="10916105" y="609285"/>
                  <a:pt x="11030020" y="759843"/>
                </a:cubicBezTo>
                <a:lnTo>
                  <a:pt x="11042281" y="779672"/>
                </a:lnTo>
                <a:lnTo>
                  <a:pt x="11058727" y="737128"/>
                </a:lnTo>
                <a:cubicBezTo>
                  <a:pt x="11157327" y="549920"/>
                  <a:pt x="11388158" y="418562"/>
                  <a:pt x="11657193" y="418562"/>
                </a:cubicBezTo>
                <a:cubicBezTo>
                  <a:pt x="11746871" y="418562"/>
                  <a:pt x="11832305" y="433157"/>
                  <a:pt x="11910011" y="459551"/>
                </a:cubicBezTo>
                <a:lnTo>
                  <a:pt x="12013158" y="504512"/>
                </a:lnTo>
                <a:lnTo>
                  <a:pt x="12070208" y="448985"/>
                </a:lnTo>
                <a:cubicBezTo>
                  <a:pt x="12099592" y="425388"/>
                  <a:pt x="12131779" y="404041"/>
                  <a:pt x="12166333" y="385294"/>
                </a:cubicBezTo>
                <a:lnTo>
                  <a:pt x="12192000" y="374106"/>
                </a:lnTo>
                <a:lnTo>
                  <a:pt x="12192000" y="1133339"/>
                </a:lnTo>
                <a:lnTo>
                  <a:pt x="0" y="1133339"/>
                </a:lnTo>
                <a:lnTo>
                  <a:pt x="0" y="486996"/>
                </a:lnTo>
                <a:lnTo>
                  <a:pt x="71" y="486956"/>
                </a:lnTo>
                <a:cubicBezTo>
                  <a:pt x="100055" y="443338"/>
                  <a:pt x="214635" y="418562"/>
                  <a:pt x="336420" y="418562"/>
                </a:cubicBezTo>
                <a:cubicBezTo>
                  <a:pt x="433848" y="418562"/>
                  <a:pt x="526664" y="434418"/>
                  <a:pt x="611086" y="463094"/>
                </a:cubicBezTo>
                <a:lnTo>
                  <a:pt x="684818" y="495232"/>
                </a:lnTo>
                <a:lnTo>
                  <a:pt x="719102" y="461863"/>
                </a:lnTo>
                <a:cubicBezTo>
                  <a:pt x="836640" y="367473"/>
                  <a:pt x="999017" y="309092"/>
                  <a:pt x="1178373" y="309092"/>
                </a:cubicBezTo>
                <a:cubicBezTo>
                  <a:pt x="1268052" y="309092"/>
                  <a:pt x="1353485" y="323687"/>
                  <a:pt x="1431191" y="350081"/>
                </a:cubicBezTo>
                <a:lnTo>
                  <a:pt x="1535098" y="395372"/>
                </a:lnTo>
                <a:lnTo>
                  <a:pt x="1601328" y="366503"/>
                </a:lnTo>
                <a:cubicBezTo>
                  <a:pt x="1685751" y="337827"/>
                  <a:pt x="1778567" y="321971"/>
                  <a:pt x="1875994" y="321971"/>
                </a:cubicBezTo>
                <a:cubicBezTo>
                  <a:pt x="2168280" y="321971"/>
                  <a:pt x="2419060" y="464681"/>
                  <a:pt x="2526182" y="668067"/>
                </a:cubicBezTo>
                <a:lnTo>
                  <a:pt x="2552597" y="736404"/>
                </a:lnTo>
                <a:lnTo>
                  <a:pt x="2571015" y="731813"/>
                </a:lnTo>
                <a:cubicBezTo>
                  <a:pt x="2613296" y="724865"/>
                  <a:pt x="2657074" y="721216"/>
                  <a:pt x="2701915" y="721216"/>
                </a:cubicBezTo>
                <a:lnTo>
                  <a:pt x="2724369" y="722353"/>
                </a:lnTo>
                <a:lnTo>
                  <a:pt x="2760974" y="627658"/>
                </a:lnTo>
                <a:cubicBezTo>
                  <a:pt x="2859573" y="440450"/>
                  <a:pt x="3090405" y="309092"/>
                  <a:pt x="3359439" y="309092"/>
                </a:cubicBezTo>
                <a:cubicBezTo>
                  <a:pt x="3404279" y="309092"/>
                  <a:pt x="3448056" y="312741"/>
                  <a:pt x="3490338" y="319689"/>
                </a:cubicBezTo>
                <a:lnTo>
                  <a:pt x="3500624" y="322253"/>
                </a:lnTo>
                <a:lnTo>
                  <a:pt x="3537095" y="268294"/>
                </a:lnTo>
                <a:cubicBezTo>
                  <a:pt x="3673270" y="106424"/>
                  <a:pt x="3903880" y="0"/>
                  <a:pt x="41654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任意多边形 30"/>
          <p:cNvGrpSpPr/>
          <p:nvPr/>
        </p:nvGrpSpPr>
        <p:grpSpPr>
          <a:xfrm>
            <a:off x="4054320" y="1704240"/>
            <a:ext cx="1001520" cy="720720"/>
            <a:chOff x="4054320" y="1704240"/>
            <a:chExt cx="1001520" cy="720720"/>
          </a:xfrm>
        </p:grpSpPr>
        <p:pic>
          <p:nvPicPr>
            <p:cNvPr id="248" name="任意多边形 30" descr=""/>
            <p:cNvPicPr/>
            <p:nvPr/>
          </p:nvPicPr>
          <p:blipFill>
            <a:blip r:embed="rId2"/>
            <a:stretch/>
          </p:blipFill>
          <p:spPr>
            <a:xfrm>
              <a:off x="4054320" y="1908720"/>
              <a:ext cx="936720" cy="4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20700000">
              <a:off x="4122720" y="1809360"/>
              <a:ext cx="882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BED4-EA25-4E0F-BDDC-D5AB64807F89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0046-C276-4E61-B395-79EDA3215108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E424-B649-48BE-81C3-05CBC3350062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D175-6360-475C-9AE0-C0F0D012EF8F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组合 14"/>
          <p:cNvGrpSpPr/>
          <p:nvPr/>
        </p:nvGrpSpPr>
        <p:grpSpPr>
          <a:xfrm>
            <a:off x="580680" y="919080"/>
            <a:ext cx="1032120" cy="268200"/>
            <a:chOff x="580680" y="919080"/>
            <a:chExt cx="1032120" cy="268200"/>
          </a:xfrm>
        </p:grpSpPr>
        <p:sp>
          <p:nvSpPr>
            <p:cNvPr id="415" name="椭圆 11"/>
            <p:cNvSpPr/>
            <p:nvPr/>
          </p:nvSpPr>
          <p:spPr>
            <a:xfrm flipH="1">
              <a:off x="58032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椭圆 12"/>
            <p:cNvSpPr/>
            <p:nvPr/>
          </p:nvSpPr>
          <p:spPr>
            <a:xfrm flipH="1">
              <a:off x="110088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椭圆 13"/>
            <p:cNvSpPr/>
            <p:nvPr/>
          </p:nvSpPr>
          <p:spPr>
            <a:xfrm flipH="1">
              <a:off x="147960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15"/>
          <p:cNvGrpSpPr/>
          <p:nvPr/>
        </p:nvGrpSpPr>
        <p:grpSpPr>
          <a:xfrm>
            <a:off x="7562880" y="919080"/>
            <a:ext cx="1032120" cy="268200"/>
            <a:chOff x="7562880" y="919080"/>
            <a:chExt cx="1032120" cy="268200"/>
          </a:xfrm>
        </p:grpSpPr>
        <p:sp>
          <p:nvSpPr>
            <p:cNvPr id="419" name="椭圆 16"/>
            <p:cNvSpPr/>
            <p:nvPr/>
          </p:nvSpPr>
          <p:spPr>
            <a:xfrm>
              <a:off x="8328240" y="919080"/>
              <a:ext cx="266760" cy="2682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椭圆 17"/>
            <p:cNvSpPr/>
            <p:nvPr/>
          </p:nvSpPr>
          <p:spPr>
            <a:xfrm>
              <a:off x="7874640" y="952200"/>
              <a:ext cx="199800" cy="2016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椭圆 18"/>
            <p:cNvSpPr/>
            <p:nvPr/>
          </p:nvSpPr>
          <p:spPr>
            <a:xfrm>
              <a:off x="7562880" y="985680"/>
              <a:ext cx="133200" cy="1350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63560" y="365040"/>
            <a:ext cx="581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5b9b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0394-F39C-460C-B15F-B48A332518A1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png"/><Relationship Id="rId4" Type="http://schemas.openxmlformats.org/officeDocument/2006/relationships/image" Target="../media/image33.gif"/><Relationship Id="rId5" Type="http://schemas.openxmlformats.org/officeDocument/2006/relationships/image" Target="../media/image35.png"/><Relationship Id="rId6" Type="http://schemas.openxmlformats.org/officeDocument/2006/relationships/image" Target="../media/image33.gif"/><Relationship Id="rId7" Type="http://schemas.openxmlformats.org/officeDocument/2006/relationships/image" Target="../media/image36.png"/><Relationship Id="rId8" Type="http://schemas.openxmlformats.org/officeDocument/2006/relationships/image" Target="../media/image33.gif"/><Relationship Id="rId9" Type="http://schemas.openxmlformats.org/officeDocument/2006/relationships/image" Target="../media/image37.png"/><Relationship Id="rId10" Type="http://schemas.openxmlformats.org/officeDocument/2006/relationships/image" Target="../media/image33.gif"/><Relationship Id="rId11" Type="http://schemas.openxmlformats.org/officeDocument/2006/relationships/image" Target="../media/image38.png"/><Relationship Id="rId12" Type="http://schemas.openxmlformats.org/officeDocument/2006/relationships/image" Target="../media/image33.gif"/><Relationship Id="rId13" Type="http://schemas.openxmlformats.org/officeDocument/2006/relationships/image" Target="../media/image39.png"/><Relationship Id="rId14" Type="http://schemas.openxmlformats.org/officeDocument/2006/relationships/image" Target="../media/image33.gif"/><Relationship Id="rId15" Type="http://schemas.openxmlformats.org/officeDocument/2006/relationships/image" Target="../media/image40.png"/><Relationship Id="rId16" Type="http://schemas.openxmlformats.org/officeDocument/2006/relationships/image" Target="../media/image33.gif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audio" Target="../media/type.wav"/><Relationship Id="rId29" Type="http://schemas.openxmlformats.org/officeDocument/2006/relationships/audio" Target="../media/chimes.wav"/><Relationship Id="rId30" Type="http://schemas.openxmlformats.org/officeDocument/2006/relationships/audio" Target="../media/type.wav"/><Relationship Id="rId31" Type="http://schemas.openxmlformats.org/officeDocument/2006/relationships/audio" Target="../media/chimes.wav"/><Relationship Id="rId32" Type="http://schemas.openxmlformats.org/officeDocument/2006/relationships/audio" Target="../media/type.wav"/><Relationship Id="rId33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gif"/><Relationship Id="rId4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hyperlink" Target="http://user.ooopic.com/pic_581811/" TargetMode="External"/><Relationship Id="rId5" Type="http://schemas.openxmlformats.org/officeDocument/2006/relationships/image" Target="../media/image19.jpeg"/><Relationship Id="rId6" Type="http://schemas.openxmlformats.org/officeDocument/2006/relationships/image" Target="../media/image20.gif"/><Relationship Id="rId7" Type="http://schemas.openxmlformats.org/officeDocument/2006/relationships/hyperlink" Target="http://image.baidu.com/i?ct=503316480&amp;z=&amp;tn=baiduimagedetail&amp;word=%D7%CF&#619;%CD%E2%CC%D7&amp;in=26490&amp;cl=2&amp;lm=-1&amp;pn=49&amp;rn=1&amp;di=34359678900&amp;ln=1426&amp;fr=&amp;fm=result&amp;fmq=1321954829437_R&amp;ic=0&amp;s=0&amp;se=1&amp;sme=0&amp;tab=&amp;width=&amp;height=&amp;face=0&amp;is=&amp;istype=2" TargetMode="External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png"/><Relationship Id="rId11" Type="http://schemas.openxmlformats.org/officeDocument/2006/relationships/image" Target="../media/image24.wmf"/><Relationship Id="rId1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WordArt 2"/>
          <p:cNvSpPr txBox="1"/>
          <p:nvPr/>
        </p:nvSpPr>
        <p:spPr>
          <a:xfrm>
            <a:off x="1763640" y="836640"/>
            <a:ext cx="5616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7000"/>
                    </a:srgbClr>
                  </a:outerShdw>
                </a:effectLst>
                <a:latin typeface="宋体"/>
              </a:rPr>
              <a:t> </a:t>
            </a:r>
            <a:endParaRPr b="0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6" name="Rectangle 3"/>
          <p:cNvSpPr/>
          <p:nvPr/>
        </p:nvSpPr>
        <p:spPr>
          <a:xfrm>
            <a:off x="5364000" y="2421000"/>
            <a:ext cx="30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微软雅黑"/>
                <a:ea typeface="微软雅黑"/>
              </a:rPr>
              <a:t>七年级（上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4" descr="图片1"/>
          <p:cNvPicPr/>
          <p:nvPr/>
        </p:nvPicPr>
        <p:blipFill>
          <a:blip r:embed="rId1"/>
          <a:stretch/>
        </p:blipFill>
        <p:spPr>
          <a:xfrm>
            <a:off x="250920" y="2708280"/>
            <a:ext cx="4114800" cy="2935440"/>
          </a:xfrm>
          <a:prstGeom prst="rect">
            <a:avLst/>
          </a:prstGeom>
          <a:ln w="0">
            <a:noFill/>
          </a:ln>
        </p:spPr>
      </p:pic>
      <p:sp>
        <p:nvSpPr>
          <p:cNvPr id="838" name="WordArt 7"/>
          <p:cNvSpPr txBox="1"/>
          <p:nvPr/>
        </p:nvSpPr>
        <p:spPr>
          <a:xfrm rot="20562000">
            <a:off x="1316160" y="4618080"/>
            <a:ext cx="5331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Go</a:t>
            </a:r>
            <a:endParaRPr b="1" i="1" lang="en-US" sz="40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9" name="WordArt 8"/>
          <p:cNvSpPr txBox="1"/>
          <p:nvPr/>
        </p:nvSpPr>
        <p:spPr>
          <a:xfrm rot="21002400">
            <a:off x="1980720" y="4405320"/>
            <a:ext cx="5335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for</a:t>
            </a:r>
            <a:endParaRPr b="1" i="1" lang="en-US" sz="40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0" name="WordArt 9"/>
          <p:cNvSpPr txBox="1"/>
          <p:nvPr/>
        </p:nvSpPr>
        <p:spPr>
          <a:xfrm rot="20790600">
            <a:off x="2666880" y="4252680"/>
            <a:ext cx="5335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it!</a:t>
            </a:r>
            <a:endParaRPr b="1" i="1" lang="en-US" sz="40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1" name="矩形 14" descr=""/>
          <p:cNvPicPr/>
          <p:nvPr/>
        </p:nvPicPr>
        <p:blipFill>
          <a:blip r:embed="rId2"/>
          <a:stretch/>
        </p:blipFill>
        <p:spPr>
          <a:xfrm>
            <a:off x="865080" y="596880"/>
            <a:ext cx="76820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Text Box 2"/>
          <p:cNvSpPr/>
          <p:nvPr/>
        </p:nvSpPr>
        <p:spPr>
          <a:xfrm>
            <a:off x="179280" y="439560"/>
            <a:ext cx="872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ctice the conversations and make your own convers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3"/>
          <p:cNvSpPr/>
          <p:nvPr/>
        </p:nvSpPr>
        <p:spPr>
          <a:xfrm>
            <a:off x="1258920" y="1522440"/>
            <a:ext cx="6481800" cy="2318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versation 1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: What’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h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: It’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: What color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: It’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r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1258920" y="4041720"/>
            <a:ext cx="6481800" cy="2318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versation 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: What’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: It’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: What color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: It’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lac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7"/>
          <p:cNvSpPr/>
          <p:nvPr/>
        </p:nvSpPr>
        <p:spPr>
          <a:xfrm>
            <a:off x="-16200" y="-270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e79"/>
                </a:solidFill>
                <a:latin typeface="方正姚体"/>
                <a:ea typeface="方正姚体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8" name="Group 2"/>
          <p:cNvGrpSpPr/>
          <p:nvPr/>
        </p:nvGrpSpPr>
        <p:grpSpPr>
          <a:xfrm>
            <a:off x="179280" y="620640"/>
            <a:ext cx="5473440" cy="1296720"/>
            <a:chOff x="179280" y="620640"/>
            <a:chExt cx="5473440" cy="1296720"/>
          </a:xfrm>
        </p:grpSpPr>
        <p:grpSp>
          <p:nvGrpSpPr>
            <p:cNvPr id="969" name="Group 3"/>
            <p:cNvGrpSpPr/>
            <p:nvPr/>
          </p:nvGrpSpPr>
          <p:grpSpPr>
            <a:xfrm>
              <a:off x="179280" y="620640"/>
              <a:ext cx="5398920" cy="1296720"/>
              <a:chOff x="179280" y="620640"/>
              <a:chExt cx="5398920" cy="1296720"/>
            </a:xfrm>
          </p:grpSpPr>
          <p:sp>
            <p:nvSpPr>
              <p:cNvPr id="970" name="Rectangle 4"/>
              <p:cNvSpPr/>
              <p:nvPr/>
            </p:nvSpPr>
            <p:spPr>
              <a:xfrm>
                <a:off x="179280" y="620640"/>
                <a:ext cx="5398920" cy="129672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  <a:effectLst>
                <a:outerShdw dist="40186" dir="4303641" blurRad="0" rotWithShape="0">
                  <a:srgbClr val="b3b3f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5"/>
              <p:cNvSpPr/>
              <p:nvPr/>
            </p:nvSpPr>
            <p:spPr>
              <a:xfrm>
                <a:off x="403560" y="826200"/>
                <a:ext cx="4951440" cy="93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40186" dir="4303641" blurRad="0" rotWithShape="0">
                  <a:srgbClr val="b3b3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Text Box 6"/>
            <p:cNvSpPr/>
            <p:nvPr/>
          </p:nvSpPr>
          <p:spPr>
            <a:xfrm>
              <a:off x="1477800" y="753840"/>
              <a:ext cx="417492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ff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ff"/>
                  </a:solidFill>
                  <a:latin typeface="Arial"/>
                  <a:ea typeface="华文细黑"/>
                </a:rPr>
                <a:t>Explai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3" name="Picture 7" descr="plag1"/>
            <p:cNvPicPr/>
            <p:nvPr/>
          </p:nvPicPr>
          <p:blipFill>
            <a:blip r:embed="rId1"/>
            <a:stretch/>
          </p:blipFill>
          <p:spPr>
            <a:xfrm>
              <a:off x="612720" y="893520"/>
              <a:ext cx="115236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4" name="Rectangle 8"/>
          <p:cNvSpPr/>
          <p:nvPr/>
        </p:nvSpPr>
        <p:spPr>
          <a:xfrm>
            <a:off x="1908000" y="3213000"/>
            <a:ext cx="64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ff"/>
                </a:solidFill>
                <a:latin typeface="Times New Roman"/>
              </a:rPr>
              <a:t>Language poi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Picture 9" descr="老师 拷贝"/>
          <p:cNvPicPr/>
          <p:nvPr/>
        </p:nvPicPr>
        <p:blipFill>
          <a:blip r:embed="rId2"/>
          <a:stretch/>
        </p:blipFill>
        <p:spPr>
          <a:xfrm>
            <a:off x="6877080" y="4581360"/>
            <a:ext cx="2101680" cy="190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Picture 2" descr="框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3"/>
          <p:cNvSpPr/>
          <p:nvPr/>
        </p:nvSpPr>
        <p:spPr>
          <a:xfrm>
            <a:off x="1692360" y="549360"/>
            <a:ext cx="6480000" cy="42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at color is it?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它是什么颜色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是对颜色进行提问的特殊疑问句。该句型结构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lor+be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语？当主语，即被询问的物品是单数形式时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动词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当主语是复数形式时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动词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答语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/They’re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颜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t’s red/black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它是红色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黑色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英语中，表示某物是某种颜色时，表示颜色的词后不需要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支钢笔是蓝色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误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en is blue co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en is b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979280" y="620640"/>
            <a:ext cx="5329080" cy="76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500" spc="-1" strike="noStrike">
                <a:solidFill>
                  <a:srgbClr val="0000cc"/>
                </a:solidFill>
                <a:latin typeface="Arial"/>
              </a:rPr>
              <a:t>Do you know what these expressions mean?</a:t>
            </a:r>
            <a:br>
              <a:rPr sz="2500"/>
            </a:br>
            <a:r>
              <a:rPr b="1" lang="zh-CN" sz="2500" spc="-1" strike="noStrike">
                <a:solidFill>
                  <a:srgbClr val="0000cc"/>
                </a:solidFill>
                <a:latin typeface="Arial"/>
              </a:rPr>
              <a:t>（知道它们的意思吗</a:t>
            </a:r>
            <a:r>
              <a:rPr b="1" lang="en-US" sz="25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1" lang="zh-CN" sz="2500" spc="-1" strike="noStrike">
                <a:solidFill>
                  <a:srgbClr val="0000cc"/>
                </a:solidFill>
                <a:latin typeface="Arial"/>
              </a:rPr>
              <a:t>）</a:t>
            </a:r>
            <a:endParaRPr b="0" lang="en-US" sz="25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457200" y="1557360"/>
            <a:ext cx="39592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 black sheep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green eye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 green han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 white nigh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white coffe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4"/>
          <p:cNvSpPr/>
          <p:nvPr/>
        </p:nvSpPr>
        <p:spPr>
          <a:xfrm>
            <a:off x="5581800" y="4156200"/>
            <a:ext cx="24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害群之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6"/>
          <p:cNvSpPr/>
          <p:nvPr/>
        </p:nvSpPr>
        <p:spPr>
          <a:xfrm>
            <a:off x="5616720" y="25718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眼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7"/>
          <p:cNvSpPr/>
          <p:nvPr/>
        </p:nvSpPr>
        <p:spPr>
          <a:xfrm>
            <a:off x="4140360" y="3795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8"/>
          <p:cNvSpPr/>
          <p:nvPr/>
        </p:nvSpPr>
        <p:spPr>
          <a:xfrm>
            <a:off x="5580000" y="329256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新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9"/>
          <p:cNvSpPr/>
          <p:nvPr/>
        </p:nvSpPr>
        <p:spPr>
          <a:xfrm>
            <a:off x="3780000" y="4371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0"/>
          <p:cNvSpPr/>
          <p:nvPr/>
        </p:nvSpPr>
        <p:spPr>
          <a:xfrm>
            <a:off x="5616720" y="185256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眠之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1"/>
          <p:cNvSpPr/>
          <p:nvPr/>
        </p:nvSpPr>
        <p:spPr>
          <a:xfrm>
            <a:off x="3348000" y="2278080"/>
            <a:ext cx="2160720" cy="2309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3"/>
          <p:cNvSpPr/>
          <p:nvPr/>
        </p:nvSpPr>
        <p:spPr>
          <a:xfrm flipV="1">
            <a:off x="2916360" y="2931840"/>
            <a:ext cx="2590560" cy="66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14"/>
          <p:cNvSpPr/>
          <p:nvPr/>
        </p:nvSpPr>
        <p:spPr>
          <a:xfrm flipV="1">
            <a:off x="3276720" y="3724200"/>
            <a:ext cx="2232000" cy="130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15"/>
          <p:cNvSpPr/>
          <p:nvPr/>
        </p:nvSpPr>
        <p:spPr>
          <a:xfrm flipV="1">
            <a:off x="3276720" y="2277720"/>
            <a:ext cx="2158920" cy="2338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6"/>
          <p:cNvSpPr/>
          <p:nvPr/>
        </p:nvSpPr>
        <p:spPr>
          <a:xfrm>
            <a:off x="5580000" y="49435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加牛奶的咖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17"/>
          <p:cNvSpPr/>
          <p:nvPr/>
        </p:nvSpPr>
        <p:spPr>
          <a:xfrm flipV="1">
            <a:off x="3124080" y="5454360"/>
            <a:ext cx="2516400" cy="759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 txBox="1"/>
          <p:nvPr/>
        </p:nvSpPr>
        <p:spPr>
          <a:xfrm>
            <a:off x="684360" y="1267920"/>
            <a:ext cx="4100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r.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rs. Gr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iss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s. Br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"/>
          <p:cNvSpPr/>
          <p:nvPr/>
        </p:nvSpPr>
        <p:spPr>
          <a:xfrm>
            <a:off x="5076720" y="1841400"/>
            <a:ext cx="21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怀特先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4"/>
          <p:cNvSpPr/>
          <p:nvPr/>
        </p:nvSpPr>
        <p:spPr>
          <a:xfrm>
            <a:off x="5308560" y="284940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格林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5"/>
          <p:cNvSpPr/>
          <p:nvPr/>
        </p:nvSpPr>
        <p:spPr>
          <a:xfrm>
            <a:off x="5292720" y="3789360"/>
            <a:ext cx="25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布莱克小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5292720" y="48657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布朗女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7"/>
          <p:cNvSpPr/>
          <p:nvPr/>
        </p:nvSpPr>
        <p:spPr>
          <a:xfrm>
            <a:off x="971640" y="620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Do you know them?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你认识他们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9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灯片编号占位符 1"/>
          <p:cNvSpPr/>
          <p:nvPr/>
        </p:nvSpPr>
        <p:spPr>
          <a:xfrm>
            <a:off x="457200" y="64263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F0E9-8D3F-4760-A528-CDF25543ABB4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3"/>
          <p:cNvSpPr/>
          <p:nvPr/>
        </p:nvSpPr>
        <p:spPr>
          <a:xfrm>
            <a:off x="179280" y="476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a  Listen and repeat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录音并跟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WordArt 4"/>
          <p:cNvSpPr txBox="1"/>
          <p:nvPr/>
        </p:nvSpPr>
        <p:spPr>
          <a:xfrm>
            <a:off x="826920" y="1413000"/>
            <a:ext cx="72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MS UI Gothic"/>
              </a:rPr>
              <a:t>S</a:t>
            </a:r>
            <a:endParaRPr b="1" i="1" lang="en-US" sz="4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MS UI Gothic"/>
              <a:ea typeface="MS UI Gothic"/>
            </a:endParaRPr>
          </a:p>
        </p:txBody>
      </p:sp>
      <p:sp>
        <p:nvSpPr>
          <p:cNvPr id="1001" name="Text Box 5"/>
          <p:cNvSpPr/>
          <p:nvPr/>
        </p:nvSpPr>
        <p:spPr>
          <a:xfrm>
            <a:off x="971640" y="2781360"/>
            <a:ext cx="9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s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WordArt 6"/>
          <p:cNvSpPr txBox="1"/>
          <p:nvPr/>
        </p:nvSpPr>
        <p:spPr>
          <a:xfrm>
            <a:off x="2843280" y="1557360"/>
            <a:ext cx="72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T</a:t>
            </a:r>
            <a:endParaRPr b="1" i="1" lang="en-US" sz="4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03" name="Text Box 7"/>
          <p:cNvSpPr/>
          <p:nvPr/>
        </p:nvSpPr>
        <p:spPr>
          <a:xfrm>
            <a:off x="2988000" y="2852640"/>
            <a:ext cx="80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/t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i: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WordArt 8"/>
          <p:cNvSpPr txBox="1"/>
          <p:nvPr/>
        </p:nvSpPr>
        <p:spPr>
          <a:xfrm>
            <a:off x="4859280" y="1557360"/>
            <a:ext cx="86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</a:t>
            </a:r>
            <a:endParaRPr b="1" i="1" lang="en-US" sz="96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05" name="Text Box 9"/>
          <p:cNvSpPr/>
          <p:nvPr/>
        </p:nvSpPr>
        <p:spPr>
          <a:xfrm>
            <a:off x="5078160" y="2781360"/>
            <a:ext cx="92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/j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u: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WordArt 10"/>
          <p:cNvSpPr txBox="1"/>
          <p:nvPr/>
        </p:nvSpPr>
        <p:spPr>
          <a:xfrm>
            <a:off x="6732720" y="1484280"/>
            <a:ext cx="79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V</a:t>
            </a:r>
            <a:endParaRPr b="1" i="1" lang="en-US" sz="4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07" name="Text Box 11"/>
          <p:cNvSpPr/>
          <p:nvPr/>
        </p:nvSpPr>
        <p:spPr>
          <a:xfrm>
            <a:off x="7021440" y="2781360"/>
            <a:ext cx="8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/v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i: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WordArt 12"/>
          <p:cNvSpPr txBox="1"/>
          <p:nvPr/>
        </p:nvSpPr>
        <p:spPr>
          <a:xfrm>
            <a:off x="826920" y="3860640"/>
            <a:ext cx="72072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W</a:t>
            </a:r>
            <a:endParaRPr b="1" i="1" lang="en-US" sz="4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09" name="Text Box 13"/>
          <p:cNvSpPr/>
          <p:nvPr/>
        </p:nvSpPr>
        <p:spPr>
          <a:xfrm>
            <a:off x="395280" y="52578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/ d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ʌ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blj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u: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WordArt 14"/>
          <p:cNvSpPr txBox="1"/>
          <p:nvPr/>
        </p:nvSpPr>
        <p:spPr>
          <a:xfrm>
            <a:off x="2556000" y="3860640"/>
            <a:ext cx="79200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X</a:t>
            </a:r>
            <a:endParaRPr b="1" i="1" lang="en-US" sz="4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1" name="Text Box 15"/>
          <p:cNvSpPr/>
          <p:nvPr/>
        </p:nvSpPr>
        <p:spPr>
          <a:xfrm>
            <a:off x="2771640" y="5229360"/>
            <a:ext cx="126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ks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WordArt 16"/>
          <p:cNvSpPr txBox="1"/>
          <p:nvPr/>
        </p:nvSpPr>
        <p:spPr>
          <a:xfrm>
            <a:off x="4643280" y="3860640"/>
            <a:ext cx="719280" cy="12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Y</a:t>
            </a:r>
            <a:endParaRPr b="1" i="1" lang="en-US" sz="4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3" name="Text Box 17"/>
          <p:cNvSpPr/>
          <p:nvPr/>
        </p:nvSpPr>
        <p:spPr>
          <a:xfrm>
            <a:off x="4573440" y="5267160"/>
            <a:ext cx="10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/w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ai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WordArt 18"/>
          <p:cNvSpPr txBox="1"/>
          <p:nvPr/>
        </p:nvSpPr>
        <p:spPr>
          <a:xfrm>
            <a:off x="6588000" y="3892680"/>
            <a:ext cx="863640" cy="104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Z</a:t>
            </a:r>
            <a:endParaRPr b="1" i="1" lang="en-US" sz="4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5" name="Text Box 19"/>
          <p:cNvSpPr/>
          <p:nvPr/>
        </p:nvSpPr>
        <p:spPr>
          <a:xfrm>
            <a:off x="6660720" y="5195880"/>
            <a:ext cx="110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/z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d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WordArt 20"/>
          <p:cNvSpPr txBox="1"/>
          <p:nvPr/>
        </p:nvSpPr>
        <p:spPr>
          <a:xfrm>
            <a:off x="1676520" y="1905120"/>
            <a:ext cx="431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MS UI Gothic"/>
              </a:rPr>
              <a:t>s</a:t>
            </a:r>
            <a:endParaRPr b="1" i="1" lang="en-US" sz="4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MS UI Gothic"/>
              <a:ea typeface="MS UI Gothic"/>
            </a:endParaRPr>
          </a:p>
        </p:txBody>
      </p:sp>
      <p:sp>
        <p:nvSpPr>
          <p:cNvPr id="1017" name="WordArt 21"/>
          <p:cNvSpPr txBox="1"/>
          <p:nvPr/>
        </p:nvSpPr>
        <p:spPr>
          <a:xfrm>
            <a:off x="3780000" y="1905120"/>
            <a:ext cx="48708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t</a:t>
            </a:r>
            <a:endParaRPr b="1" i="1" lang="en-US" sz="4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8" name="WordArt 22"/>
          <p:cNvSpPr txBox="1"/>
          <p:nvPr/>
        </p:nvSpPr>
        <p:spPr>
          <a:xfrm>
            <a:off x="5796000" y="1981080"/>
            <a:ext cx="45252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</a:t>
            </a:r>
            <a:endParaRPr b="1" i="1" lang="en-US" sz="96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9" name="WordArt 23"/>
          <p:cNvSpPr txBox="1"/>
          <p:nvPr/>
        </p:nvSpPr>
        <p:spPr>
          <a:xfrm>
            <a:off x="7596360" y="1905120"/>
            <a:ext cx="556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v</a:t>
            </a:r>
            <a:endParaRPr b="1" i="1" lang="en-US" sz="4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20" name="WordArt 24"/>
          <p:cNvSpPr txBox="1"/>
          <p:nvPr/>
        </p:nvSpPr>
        <p:spPr>
          <a:xfrm>
            <a:off x="1476360" y="4343400"/>
            <a:ext cx="50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w</a:t>
            </a:r>
            <a:endParaRPr b="1" i="1" lang="en-US" sz="4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21" name="WordArt 25"/>
          <p:cNvSpPr txBox="1"/>
          <p:nvPr/>
        </p:nvSpPr>
        <p:spPr>
          <a:xfrm>
            <a:off x="3276720" y="4419720"/>
            <a:ext cx="68580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x</a:t>
            </a:r>
            <a:endParaRPr b="1" i="1" lang="en-US" sz="4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22" name="WordArt 26"/>
          <p:cNvSpPr txBox="1"/>
          <p:nvPr/>
        </p:nvSpPr>
        <p:spPr>
          <a:xfrm>
            <a:off x="5292720" y="4419720"/>
            <a:ext cx="5745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y</a:t>
            </a:r>
            <a:endParaRPr b="1" i="1" lang="en-US" sz="4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3" name="WordArt 27"/>
          <p:cNvSpPr txBox="1"/>
          <p:nvPr/>
        </p:nvSpPr>
        <p:spPr>
          <a:xfrm>
            <a:off x="7380360" y="4267080"/>
            <a:ext cx="5443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z</a:t>
            </a:r>
            <a:endParaRPr b="1" i="1" lang="en-US" sz="4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24" name="SU3 2a.mp3" descr=""/>
          <p:cNvPicPr/>
          <p:nvPr/>
        </p:nvPicPr>
        <p:blipFill>
          <a:blip r:embed="rId1"/>
          <a:stretch/>
        </p:blipFill>
        <p:spPr>
          <a:xfrm>
            <a:off x="7480440" y="61740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6" dur="32496" fill="hold"/>
                                        <p:tgtEl>
                                          <p:spTgt spid="10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Text Box 2"/>
          <p:cNvSpPr/>
          <p:nvPr/>
        </p:nvSpPr>
        <p:spPr>
          <a:xfrm>
            <a:off x="250920" y="476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b  Listen and number the letters you hear [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]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3"/>
          <p:cNvSpPr/>
          <p:nvPr/>
        </p:nvSpPr>
        <p:spPr>
          <a:xfrm>
            <a:off x="826920" y="2139840"/>
            <a:ext cx="7207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4"/>
          <p:cNvSpPr/>
          <p:nvPr/>
        </p:nvSpPr>
        <p:spPr>
          <a:xfrm>
            <a:off x="2771640" y="2139840"/>
            <a:ext cx="7207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5"/>
          <p:cNvSpPr/>
          <p:nvPr/>
        </p:nvSpPr>
        <p:spPr>
          <a:xfrm>
            <a:off x="4643280" y="2139840"/>
            <a:ext cx="7207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6"/>
          <p:cNvSpPr/>
          <p:nvPr/>
        </p:nvSpPr>
        <p:spPr>
          <a:xfrm>
            <a:off x="6659640" y="2139840"/>
            <a:ext cx="7207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7"/>
          <p:cNvSpPr/>
          <p:nvPr/>
        </p:nvSpPr>
        <p:spPr>
          <a:xfrm>
            <a:off x="826920" y="3724200"/>
            <a:ext cx="7207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8"/>
          <p:cNvSpPr/>
          <p:nvPr/>
        </p:nvSpPr>
        <p:spPr>
          <a:xfrm>
            <a:off x="2771640" y="3724200"/>
            <a:ext cx="7207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9"/>
          <p:cNvSpPr/>
          <p:nvPr/>
        </p:nvSpPr>
        <p:spPr>
          <a:xfrm>
            <a:off x="4716360" y="3724200"/>
            <a:ext cx="7207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10"/>
          <p:cNvSpPr/>
          <p:nvPr/>
        </p:nvSpPr>
        <p:spPr>
          <a:xfrm>
            <a:off x="6659640" y="3724200"/>
            <a:ext cx="7207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11"/>
          <p:cNvSpPr/>
          <p:nvPr/>
        </p:nvSpPr>
        <p:spPr>
          <a:xfrm>
            <a:off x="1763640" y="21398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12"/>
          <p:cNvSpPr/>
          <p:nvPr/>
        </p:nvSpPr>
        <p:spPr>
          <a:xfrm>
            <a:off x="3635280" y="21398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3"/>
          <p:cNvSpPr/>
          <p:nvPr/>
        </p:nvSpPr>
        <p:spPr>
          <a:xfrm>
            <a:off x="5508720" y="21398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4"/>
          <p:cNvSpPr/>
          <p:nvPr/>
        </p:nvSpPr>
        <p:spPr>
          <a:xfrm>
            <a:off x="7451640" y="21398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15"/>
          <p:cNvSpPr/>
          <p:nvPr/>
        </p:nvSpPr>
        <p:spPr>
          <a:xfrm>
            <a:off x="1760400" y="3724200"/>
            <a:ext cx="6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16"/>
          <p:cNvSpPr/>
          <p:nvPr/>
        </p:nvSpPr>
        <p:spPr>
          <a:xfrm>
            <a:off x="3635280" y="372420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17"/>
          <p:cNvSpPr/>
          <p:nvPr/>
        </p:nvSpPr>
        <p:spPr>
          <a:xfrm>
            <a:off x="5580000" y="3724200"/>
            <a:ext cx="4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18"/>
          <p:cNvSpPr/>
          <p:nvPr/>
        </p:nvSpPr>
        <p:spPr>
          <a:xfrm>
            <a:off x="7524720" y="3724200"/>
            <a:ext cx="4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19"/>
          <p:cNvSpPr/>
          <p:nvPr/>
        </p:nvSpPr>
        <p:spPr>
          <a:xfrm>
            <a:off x="2916360" y="22114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20"/>
          <p:cNvSpPr/>
          <p:nvPr/>
        </p:nvSpPr>
        <p:spPr>
          <a:xfrm>
            <a:off x="2916360" y="37242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21"/>
          <p:cNvSpPr/>
          <p:nvPr/>
        </p:nvSpPr>
        <p:spPr>
          <a:xfrm>
            <a:off x="4859280" y="37242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22"/>
          <p:cNvSpPr/>
          <p:nvPr/>
        </p:nvSpPr>
        <p:spPr>
          <a:xfrm>
            <a:off x="1042920" y="37242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23"/>
          <p:cNvSpPr/>
          <p:nvPr/>
        </p:nvSpPr>
        <p:spPr>
          <a:xfrm>
            <a:off x="4788000" y="21398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24"/>
          <p:cNvSpPr/>
          <p:nvPr/>
        </p:nvSpPr>
        <p:spPr>
          <a:xfrm>
            <a:off x="6804000" y="37242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25"/>
          <p:cNvSpPr/>
          <p:nvPr/>
        </p:nvSpPr>
        <p:spPr>
          <a:xfrm>
            <a:off x="6732720" y="21398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26"/>
          <p:cNvSpPr/>
          <p:nvPr/>
        </p:nvSpPr>
        <p:spPr>
          <a:xfrm>
            <a:off x="971640" y="21398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SU3 2b.mp3" descr=""/>
          <p:cNvPicPr/>
          <p:nvPr/>
        </p:nvPicPr>
        <p:blipFill>
          <a:blip r:embed="rId1"/>
          <a:stretch/>
        </p:blipFill>
        <p:spPr>
          <a:xfrm>
            <a:off x="1752480" y="107784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"/>
                            </p:stCondLst>
                            <p:childTnLst>
                              <p:par>
                                <p:cTn id="7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3" dur="34403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 Box 2"/>
          <p:cNvSpPr/>
          <p:nvPr/>
        </p:nvSpPr>
        <p:spPr>
          <a:xfrm>
            <a:off x="250920" y="476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c  Look and copy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3"/>
          <p:cNvSpPr/>
          <p:nvPr/>
        </p:nvSpPr>
        <p:spPr>
          <a:xfrm>
            <a:off x="539640" y="1773360"/>
            <a:ext cx="7488360" cy="249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字母的书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（注意笔顺笔画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2" descr="19"/>
          <p:cNvPicPr/>
          <p:nvPr/>
        </p:nvPicPr>
        <p:blipFill>
          <a:blip r:embed="rId1"/>
          <a:stretch/>
        </p:blipFill>
        <p:spPr>
          <a:xfrm>
            <a:off x="1554120" y="1982880"/>
            <a:ext cx="6035760" cy="27385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3" descr="button1"/>
          <p:cNvPicPr/>
          <p:nvPr/>
        </p:nvPicPr>
        <p:blipFill>
          <a:blip r:embed="rId2"/>
          <a:stretch/>
        </p:blipFill>
        <p:spPr>
          <a:xfrm>
            <a:off x="3708360" y="172080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20"/>
          <p:cNvPicPr/>
          <p:nvPr/>
        </p:nvPicPr>
        <p:blipFill>
          <a:blip r:embed="rId3"/>
          <a:stretch/>
        </p:blipFill>
        <p:spPr>
          <a:xfrm>
            <a:off x="0" y="1360440"/>
            <a:ext cx="9144000" cy="41292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5" descr="button1"/>
          <p:cNvPicPr/>
          <p:nvPr/>
        </p:nvPicPr>
        <p:blipFill>
          <a:blip r:embed="rId4"/>
          <a:stretch/>
        </p:blipFill>
        <p:spPr>
          <a:xfrm>
            <a:off x="1692360" y="150480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6" descr="21"/>
          <p:cNvPicPr/>
          <p:nvPr/>
        </p:nvPicPr>
        <p:blipFill>
          <a:blip r:embed="rId5"/>
          <a:stretch/>
        </p:blipFill>
        <p:spPr>
          <a:xfrm>
            <a:off x="0" y="1360440"/>
            <a:ext cx="9144000" cy="41259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7" descr="button1"/>
          <p:cNvPicPr/>
          <p:nvPr/>
        </p:nvPicPr>
        <p:blipFill>
          <a:blip r:embed="rId6"/>
          <a:stretch/>
        </p:blipFill>
        <p:spPr>
          <a:xfrm>
            <a:off x="2556000" y="128916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8" descr="22"/>
          <p:cNvPicPr/>
          <p:nvPr/>
        </p:nvPicPr>
        <p:blipFill>
          <a:blip r:embed="rId7"/>
          <a:stretch/>
        </p:blipFill>
        <p:spPr>
          <a:xfrm>
            <a:off x="0" y="1360440"/>
            <a:ext cx="9144000" cy="41292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9" descr="button1"/>
          <p:cNvPicPr/>
          <p:nvPr/>
        </p:nvPicPr>
        <p:blipFill>
          <a:blip r:embed="rId8"/>
          <a:stretch/>
        </p:blipFill>
        <p:spPr>
          <a:xfrm>
            <a:off x="2124000" y="114444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0" descr="23"/>
          <p:cNvPicPr/>
          <p:nvPr/>
        </p:nvPicPr>
        <p:blipFill>
          <a:blip r:embed="rId9"/>
          <a:stretch/>
        </p:blipFill>
        <p:spPr>
          <a:xfrm>
            <a:off x="0" y="1360440"/>
            <a:ext cx="9144000" cy="4148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1" descr="button1"/>
          <p:cNvPicPr/>
          <p:nvPr/>
        </p:nvPicPr>
        <p:blipFill>
          <a:blip r:embed="rId10"/>
          <a:stretch/>
        </p:blipFill>
        <p:spPr>
          <a:xfrm>
            <a:off x="1476360" y="1071720"/>
            <a:ext cx="371520" cy="3711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2" descr="24"/>
          <p:cNvPicPr/>
          <p:nvPr/>
        </p:nvPicPr>
        <p:blipFill>
          <a:blip r:embed="rId11"/>
          <a:stretch/>
        </p:blipFill>
        <p:spPr>
          <a:xfrm>
            <a:off x="0" y="1360440"/>
            <a:ext cx="9144000" cy="4229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3" descr="button1"/>
          <p:cNvPicPr/>
          <p:nvPr/>
        </p:nvPicPr>
        <p:blipFill>
          <a:blip r:embed="rId12"/>
          <a:stretch/>
        </p:blipFill>
        <p:spPr>
          <a:xfrm>
            <a:off x="2050920" y="1071720"/>
            <a:ext cx="371520" cy="3711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4" descr="25"/>
          <p:cNvPicPr/>
          <p:nvPr/>
        </p:nvPicPr>
        <p:blipFill>
          <a:blip r:embed="rId13"/>
          <a:stretch/>
        </p:blipFill>
        <p:spPr>
          <a:xfrm>
            <a:off x="0" y="1360440"/>
            <a:ext cx="9144000" cy="4229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5" descr="button1"/>
          <p:cNvPicPr/>
          <p:nvPr/>
        </p:nvPicPr>
        <p:blipFill>
          <a:blip r:embed="rId14"/>
          <a:stretch/>
        </p:blipFill>
        <p:spPr>
          <a:xfrm>
            <a:off x="1908000" y="1071720"/>
            <a:ext cx="371520" cy="3711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6" descr="26"/>
          <p:cNvPicPr/>
          <p:nvPr/>
        </p:nvPicPr>
        <p:blipFill>
          <a:blip r:embed="rId15"/>
          <a:stretch/>
        </p:blipFill>
        <p:spPr>
          <a:xfrm>
            <a:off x="0" y="1360440"/>
            <a:ext cx="9144000" cy="4229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7" descr="button1"/>
          <p:cNvPicPr/>
          <p:nvPr/>
        </p:nvPicPr>
        <p:blipFill>
          <a:blip r:embed="rId16"/>
          <a:stretch/>
        </p:blipFill>
        <p:spPr>
          <a:xfrm>
            <a:off x="1979640" y="1504800"/>
            <a:ext cx="37152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98 -0.02982 C -0.05972 -0.03977 -0.08299 -0.04231 -0.10677 -0.04462 C -0.11632 -0.04254 -0.11406 -0.0437 -0.12118 -0.04046 C -0.12431 -0.03907 -0.12743 -0.03745 -0.13056 -0.03607 C -0.13212 -0.03537 -0.13542 -0.03399 -0.13542 -0.03399 C -0.13976 -0.03005 -0.14254 -0.02566 -0.14653 -0.02127 C -0.15052 -0.01688 -0.15434 -0.0141 -0.15764 -0.00855 C -0.16111 -0.00254 -0.16163 0.00301 -0.16563 0.00833 C -0.1684 0.01919 -0.16927 0.02844 -0.17031 0.04 C -0.16979 0.04555 -0.16979 0.05133 -0.16875 0.05688 C -0.16823 0.05919 -0.16649 0.06081 -0.16563 0.06312 C -0.16129 0.07445 -0.15434 0.09041 -0.14497 0.09503 C -0.1408 0.11191 -0.14722 0.09179 -0.13854 0.10336 C -0.12986 0.11492 -0.14497 0.10636 -0.13229 0.11191 C -0.12952 0.12208 -0.12101 0.1281 -0.11476 0.13503 C -0.10677 0.14382 -0.09827 0.15307 -0.09254 0.16463 C -0.09202 0.16671 -0.09254 0.17018 -0.09097 0.1711 C -0.08941 0.17203 -0.08733 0.1674 -0.08611 0.16902 C -0.08368 0.17203 -0.08403 0.17734 -0.08299 0.18151 C -0.08247 0.18359 -0.08143 0.18798 -0.08143 0.18798 C -0.08195 0.20278 -0.07674 0.25411 -0.09254 0.26821 C -0.09653 0.28509 -0.09045 0.2659 -0.09896 0.27677 C -0.10018 0.27838 -0.09965 0.28116 -0.10052 0.28301 C -0.10122 0.28486 -0.10261 0.28601 -0.10365 0.2874 C -0.10417 0.28948 -0.10399 0.29203 -0.10521 0.29364 C -0.10712 0.29619 -0.12049 0.30151 -0.12274 0.3022 C -0.1257 0.30197 -0.16233 0.30266 -0.17674 0.29781 C -0.18663 0.29457 -0.19792 0.28509 -0.20834 0.28509 E">
                                      <p:cBhvr>
                                        <p:cTn id="753" dur="1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66 0.14775 C 0.25503 0.14636 0.25364 0.14451 0.25191 0.14359 C 0.24878 0.14174 0.24236 0.13942 0.24236 0.13942 C 0.23281 0.13041 0.22587 0.13341 0.21389 0.13503 C 0.20833 0.13734 0.2059 0.14151 0.20104 0.14567 C 0.2 0.14775 0.19861 0.1496 0.19791 0.15191 C 0.19653 0.15607 0.19479 0.16463 0.19479 0.16463 C 0.19583 0.17758 0.19496 0.19515 0.20278 0.20486 C 0.20503 0.21364 0.20972 0.21873 0.21389 0.2259 C 0.2191 0.23492 0.22066 0.23977 0.22656 0.24717 C 0.2283 0.25388 0.23107 0.25734 0.23281 0.26405 C 0.23177 0.27653 0.2316 0.29156 0.2217 0.29573 C 0.21128 0.30497 0.20972 0.30197 0.19479 0.29989 C 0.18732 0.29734 0.17882 0.29156 0.17101 0.29156 E">
                                      <p:cBhvr>
                                        <p:cTn id="757" dur="1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91 -0.00625 L 0.2316 -0.00625 E">
                                      <p:cBhvr>
                                        <p:cTn id="773" dur="10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17 -0.00625 L 0.08195 0.32948 E">
                                      <p:cBhvr>
                                        <p:cTn id="777" dur="10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084 0.09688 C 0.46788 0.10289 0.4665 0.10867 0.46285 0.11375 C 0.45469 0.14659 0.44844 0.17942 0.44219 0.21295 C 0.43976 0.22566 0.44063 0.23861 0.4375 0.2511 C 0.4382 0.2756 0.43108 0.31306 0.4533 0.323 C 0.46997 0.34404 0.48264 0.323 0.49462 0.31237 C 0.49844 0.30474 0.49688 0.30844 0.49931 0.30173 E">
                                      <p:cBhvr>
                                        <p:cTn id="781" dur="10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486 0.15121 L 0.51511 0.15121 E">
                                      <p:cBhvr>
                                        <p:cTn id="785" dur="10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2 0.03954 C -0.00955 0.06336 -0.01476 0.09041 -0.02518 0.11122 C -0.02882 0.12625 -0.03438 0.14266 -0.04115 0.15561 C -0.04601 0.17526 -0.05105 0.19445 -0.05382 0.2148 C -0.05643 0.23445 -0.05868 0.25503 -0.06337 0.27399 C -0.06268 0.28856 -0.0625 0.31237 -0.05695 0.32694 C -0.05365 0.33573 -0.04809 0.34012 -0.04271 0.3459 C -0.03004 0.35977 -0.03455 0.36047 -0.01893 0.36509 C -0.01302 0.3644 -0.00712 0.36416 -0.00139 0.36278 C 0.00191 0.36208 0.00816 0.35862 0.00816 0.35862 C 0.01128 0.35584 0.01458 0.35307 0.0177 0.35029 C 0.01927 0.3489 0.01944 0.34567 0.02083 0.34382 C 0.02326 0.34058 0.02586 0.33757 0.02882 0.33549 C 0.03177 0.33341 0.03819 0.3311 0.03819 0.3311 C 0.04062 0.3281 0.04375 0.32601 0.04618 0.32278 C 0.05486 0.31099 0.04427 0.32093 0.0526 0.31214 C 0.05711 0.30752 0.05711 0.30937 0.06041 0.30359 C 0.06545 0.2948 0.06753 0.28971 0.07326 0.28255 C 0.075 0.27561 0.07795 0.27191 0.08107 0.26567 C 0.08489 0.24994 0.07986 0.26867 0.08593 0.25295 C 0.08923 0.2444 0.09132 0.23561 0.09548 0.22752 C 0.1052 0.18844 0.1118 0.14914 0.11927 0.10914 C 0.12152 0.09711 0.12361 0.08532 0.12552 0.0733 C 0.12656 0.06682 0.12882 0.06359 0.12882 0.05642 C 0.12882 0.05411 0.1276 0.06058 0.12708 0.06266 C 0.12604 0.06682 0.125 0.07122 0.12395 0.07538 C 0.121 0.08717 0.12066 0.09942 0.1177 0.11122 C 0.11389 0.14428 0.11163 0.17757 0.10816 0.21064 C 0.10642 0.22775 0.10416 0.25087 0.09705 0.26567 C 0.09496 0.28971 0.09253 0.31006 0.08906 0.33318 C 0.08854 0.34174 0.08819 0.35006 0.0875 0.35862 C 0.08715 0.36347 0.08593 0.37341 0.08593 0.37341 E">
                                      <p:cBhvr>
                                        <p:cTn id="801" dur="1000" fill="hold"/>
                                        <p:tgtEl>
                                          <p:spTgt spid="10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527 0.22336 C 0.37343 0.21966 0.38073 0.21434 0.38906 0.21064 C 0.39218 0.20925 0.39861 0.20648 0.39861 0.20648 C 0.40017 0.2044 0.40139 0.20139 0.4033 0.2 C 0.40625 0.19792 0.41284 0.19584 0.41284 0.19584 C 0.41111 0.22035 0.40972 0.24601 0.40486 0.26983 C 0.40538 0.29318 0.40555 0.3163 0.40659 0.33966 C 0.40711 0.35052 0.41458 0.35168 0.42083 0.35445 C 0.42239 0.35515 0.42552 0.35653 0.42552 0.35653 C 0.42621 0.35653 0.44062 0.35584 0.44461 0.35237 C 0.44843 0.34914 0.45173 0.34312 0.45573 0.33966 C 0.4625 0.32578 0.47205 0.31492 0.47951 0.30151 C 0.48298 0.29549 0.48732 0.28971 0.48906 0.28255 C 0.4927 0.26752 0.49027 0.27353 0.49548 0.26359 C 0.50104 0.24047 0.49236 0.27468 0.50017 0.25087 C 0.50416 0.23908 0.50451 0.22451 0.51128 0.2148 C 0.51232 0.20786 0.51614 0.18705 0.51441 0.19376 C 0.50798 0.21966 0.50798 0.24879 0.50173 0.27399 C 0.49913 0.29827 0.4927 0.33388 0.50659 0.35237 C 0.50868 0.36093 0.51145 0.36208 0.5177 0.36509 C 0.52448 0.3644 0.53142 0.36416 0.53819 0.36278 C 0.54149 0.36208 0.54774 0.35862 0.54774 0.35862 C 0.55434 0.35029 0.55625 0.33896 0.56215 0.3311 C 0.56389 0.32416 0.56823 0.31908 0.56996 0.31214 C 0.57048 0.31006 0.57066 0.30775 0.57152 0.3059 C 0.57343 0.30151 0.57795 0.29318 0.57795 0.29318 E">
                                      <p:cBhvr>
                                        <p:cTn id="805" dur="1000" fill="hold"/>
                                        <p:tgtEl>
                                          <p:spTgt spid="10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4578 C 0.0066 0.07908 0.00747 0.11492 0.01094 0.14937 C 0.01216 0.16231 0.01303 0.17457 0.01563 0.18729 C 0.01719 0.19515 0.02049 0.21064 0.02049 0.21064 C 0.02171 0.22335 0.02362 0.23399 0.02518 0.24648 C 0.02535 0.24971 0.02726 0.29041 0.0283 0.29734 C 0.03039 0.31214 0.03559 0.32671 0.03785 0.34174 C 0.03976 0.35492 0.03993 0.37179 0.04896 0.37966 C 0.05747 0.37226 0.05591 0.36601 0.06164 0.35653 C 0.06737 0.34705 0.07414 0.33919 0.07917 0.32902 C 0.08021 0.32486 0.08039 0.32 0.0823 0.3163 C 0.08438 0.31214 0.08872 0.30359 0.08872 0.30359 C 0.09115 0.29411 0.09167 0.28717 0.09653 0.28023 C 0.10139 0.26266 0.10782 0.24624 0.11407 0.2296 C 0.11702 0.22151 0.11893 0.21295 0.12362 0.20624 C 0.12743 0.19075 0.13264 0.17549 0.13941 0.16185 C 0.15382 0.13249 0.13559 0.15931 0.14584 0.14497 C 0.14948 0.12994 0.15365 0.12185 0.16007 0.10914 C 0.16059 0.10705 0.16077 0.10451 0.16164 0.10266 C 0.1625 0.10104 0.16424 0.10035 0.16493 0.0985 C 0.16962 0.08601 0.16875 0.08 0.17761 0.0689 C 0.18195 0.05156 0.17587 0.07283 0.1823 0.05827 C 0.18733 0.04671 0.18125 0.05549 0.18542 0.04994 E">
                                      <p:cBhvr>
                                        <p:cTn id="821" dur="1000" fill="hold"/>
                                        <p:tgtEl>
                                          <p:spTgt spid="10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605 0.26127 C 0.37761 0.25919 0.37969 0.25757 0.38073 0.25503 C 0.3823 0.2511 0.38143 0.24532 0.38386 0.24231 C 0.39028 0.23422 0.39775 0.22266 0.40608 0.21896 C 0.4099 0.22405 0.41094 0.22983 0.41407 0.23584 C 0.41771 0.25064 0.41476 0.24532 0.42049 0.25295 C 0.42396 0.27122 0.42813 0.28948 0.4316 0.30775 C 0.43282 0.31422 0.43542 0.32023 0.43629 0.32694 C 0.43907 0.34867 0.44167 0.37064 0.44428 0.39237 C 0.44948 0.38197 0.45035 0.37133 0.46007 0.36694 C 0.46407 0.35908 0.46841 0.3533 0.47431 0.34798 C 0.47483 0.3459 0.47518 0.34359 0.47605 0.34174 C 0.47691 0.34012 0.47848 0.33919 0.47917 0.33734 C 0.48559 0.32 0.47796 0.32833 0.48716 0.32046 C 0.48768 0.31838 0.48785 0.31607 0.48872 0.31422 C 0.48941 0.31237 0.49115 0.31168 0.49184 0.30983 C 0.49896 0.29087 0.49098 0.30266 0.49827 0.29295 C 0.50157 0.27954 0.50174 0.26636 0.50452 0.25295 C 0.50539 0.24856 0.50764 0.24023 0.50764 0.24023 C 0.50712 0.23468 0.50851 0.22266 0.50296 0.21896 C 0.5 0.21688 0.49341 0.2148 0.49341 0.2148 E">
                                      <p:cBhvr>
                                        <p:cTn id="825" dur="1000" fill="hold"/>
                                        <p:tgtEl>
                                          <p:spTgt spid="10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641 C 0.0099 0.12023 0.00695 0.11838 0.00868 0.22543 C 0.00955 0.27953 0.0059 0.26335 0.01181 0.2867 C 0.01302 0.32416 0.01198 0.36161 0.01511 0.39884 C 0.01528 0.40092 0.01719 0.39583 0.01823 0.39445 C 0.02136 0.38219 0.02413 0.37456 0.03247 0.36716 C 0.03455 0.35838 0.03924 0.35237 0.04201 0.34381 C 0.04514 0.33433 0.04757 0.32185 0.05 0.31214 C 0.05174 0.3052 0.05799 0.29318 0.05799 0.29318 C 0.06163 0.27861 0.05886 0.2837 0.06424 0.27607 C 0.06788 0.26173 0.06511 0.26659 0.07066 0.25919 C 0.07465 0.243 0.07778 0.22289 0.0849 0.20855 C 0.08924 0.19075 0.09358 0.1667 0.10399 0.15352 C 0.10451 0.15144 0.10486 0.14936 0.10556 0.14728 C 0.10642 0.14497 0.10799 0.14312 0.10868 0.14081 C 0.11285 0.12809 0.11389 0.11445 0.11979 0.10289 C 0.12361 0.08763 0.12101 0.09387 0.12622 0.0837 C 0.13021 0.06242 0.12483 0.08878 0.1309 0.06682 C 0.1316 0.06404 0.13108 0.06081 0.13247 0.05849 C 0.13351 0.05664 0.13576 0.05711 0.13733 0.05641 C 0.14601 0.09109 0.13941 0.12832 0.13733 0.16416 C 0.13785 0.18034 0.13854 0.19653 0.13889 0.21271 C 0.13958 0.24647 0.13958 0.28046 0.14045 0.31422 C 0.14115 0.34057 0.14601 0.36832 0.14844 0.39445 C 0.15556 0.38034 0.15208 0.38543 0.15799 0.37757 C 0.16129 0.36439 0.1632 0.3452 0.17066 0.33526 L 0.17847 0.3163 C 0.18056 0.30913 0.18281 0.30242 0.1849 0.29526 C 0.18976 0.27907 0.18507 0.28624 0.19132 0.27838 C 0.19358 0.2689 0.19497 0.25919 0.19913 0.25086 C 0.20261 0.23607 0.20486 0.21734 0.21354 0.20647 C 0.2158 0.19699 0.21927 0.18797 0.22465 0.18104 C 0.2283 0.16601 0.22587 0.17202 0.2309 0.16208 C 0.23438 0.14728 0.23681 0.13248 0.24045 0.11768 C 0.24097 0.11583 0.24271 0.11491 0.24358 0.11329 C 0.25434 0.0941 0.24601 0.10635 0.25313 0.09641 C 0.25573 0.08578 0.25851 0.07537 0.26111 0.06474 C 0.26163 0.06266 0.26215 0.06057 0.26267 0.05849 C 0.2632 0.05641 0.26424 0.05202 0.26424 0.05202 E">
                                      <p:cBhvr>
                                        <p:cTn id="841" dur="1000" fill="hold"/>
                                        <p:tgtEl>
                                          <p:spTgt spid="10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688 0.25086 C 0.45538 0.24716 0.45886 0.23583 0.46736 0.23167 C 0.47379 0.22358 0.47604 0.22774 0.48021 0.23607 C 0.48264 0.25572 0.48386 0.2756 0.48646 0.29526 C 0.4875 0.30358 0.48958 0.32046 0.48958 0.32046 C 0.49028 0.33479 0.48941 0.38959 0.49601 0.39884 C 0.50625 0.39422 0.49531 0.40046 0.50712 0.38404 C 0.51076 0.37896 0.51389 0.37526 0.51823 0.37133 C 0.51927 0.36924 0.52049 0.36716 0.52136 0.36485 C 0.52205 0.36277 0.52205 0.36046 0.52292 0.35861 C 0.52448 0.35514 0.52761 0.35329 0.52934 0.35005 C 0.5316 0.34612 0.53576 0.33757 0.53576 0.33757 C 0.54132 0.31445 0.53264 0.34867 0.54045 0.32485 C 0.54774 0.30266 0.53958 0.32 0.54688 0.30566 C 0.55174 0.28624 0.55434 0.26381 0.56267 0.24647 C 0.57014 0.25687 0.56736 0.26959 0.56424 0.28254 C 0.56163 0.31398 0.56076 0.34381 0.56267 0.37549 C 0.56354 0.39052 0.56771 0.40023 0.57847 0.40508 C 0.58976 0.403 0.58941 0.4037 0.59601 0.39445 C 0.6 0.37849 0.5941 0.39792 0.60243 0.38404 C 0.61146 0.36901 0.59497 0.38566 0.60868 0.37341 C 0.61267 0.36531 0.61684 0.35884 0.61979 0.35005 C 0.62917 0.32185 0.62969 0.29109 0.63403 0.26127 C 0.63351 0.25503 0.63316 0.24855 0.63247 0.24231 C 0.63073 0.22751 0.6184 0.22705 0.61181 0.21919 E">
                                      <p:cBhvr>
                                        <p:cTn id="845" dur="1000" fill="hold"/>
                                        <p:tgtEl>
                                          <p:spTgt spid="10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8 0.03607 L 0.12934 0.403 E">
                                      <p:cBhvr>
                                        <p:cTn id="861" dur="1000" fill="hold"/>
                                        <p:tgtEl>
                                          <p:spTgt spid="10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295 0.03607 L -0.04393 0.403 E">
                                      <p:cBhvr>
                                        <p:cTn id="865" dur="1000" fill="hold"/>
                                        <p:tgtEl>
                                          <p:spTgt spid="10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538 0.24231 C 0.35694 0.24161 0.35868 0.24138 0.36007 0.24023 C 0.36146 0.2393 0.36198 0.23699 0.36337 0.23607 C 0.36632 0.23398 0.36979 0.23306 0.37291 0.23167 C 0.37448 0.23098 0.3776 0.22959 0.3776 0.22959 C 0.38889 0.23491 0.38437 0.23144 0.39184 0.23815 C 0.39236 0.24023 0.39271 0.24254 0.3934 0.24439 C 0.39427 0.2467 0.39583 0.24855 0.3967 0.25086 C 0.40121 0.26427 0.40312 0.2763 0.40937 0.28878 C 0.41111 0.29618 0.41319 0.30034 0.41736 0.30566 C 0.42135 0.32208 0.41545 0.30242 0.42361 0.3163 C 0.42465 0.31815 0.42413 0.32092 0.42517 0.32277 C 0.42743 0.3267 0.43316 0.33318 0.43316 0.33318 C 0.43698 0.34913 0.43142 0.33063 0.43958 0.34381 C 0.44062 0.34543 0.44028 0.3482 0.44114 0.35005 C 0.44427 0.35745 0.45 0.36254 0.45382 0.36924 C 0.45885 0.3778 0.46337 0.38566 0.46962 0.39237 C 0.47448 0.39745 0.47448 0.40231 0.48073 0.40508 C 0.48611 0.40439 0.49166 0.40531 0.4967 0.403 C 0.49844 0.40231 0.49861 0.39884 0.49982 0.39676 C 0.50208 0.39283 0.50521 0.38959 0.50781 0.38612 E">
                                      <p:cBhvr>
                                        <p:cTn id="869" dur="1000" fill="hold"/>
                                        <p:tgtEl>
                                          <p:spTgt spid="10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139 0.22566 C 0.49445 0.21572 0.49358 0.21711 0.48247 0.21919 C 0.47518 0.22844 0.47031 0.2393 0.46181 0.2467 C 0.46129 0.24878 0.46111 0.2511 0.46024 0.25295 C 0.45938 0.2548 0.45764 0.25549 0.45695 0.25734 C 0.45538 0.26127 0.4566 0.26751 0.45382 0.27006 C 0.4474 0.2756 0.44427 0.28347 0.43802 0.28902 C 0.43594 0.29318 0.43281 0.29688 0.4316 0.30173 C 0.43108 0.30381 0.4309 0.30612 0.43004 0.30797 C 0.42431 0.32185 0.41597 0.3348 0.40781 0.34612 C 0.4059 0.35352 0.4033 0.35491 0.39983 0.36092 C 0.39358 0.37156 0.38906 0.38196 0.37917 0.38612 C 0.37118 0.38543 0.3632 0.38566 0.35538 0.38404 C 0.35347 0.38358 0.35243 0.38104 0.3507 0.37988 C 0.34913 0.37896 0.34584 0.3778 0.34584 0.3778 E">
                                      <p:cBhvr>
                                        <p:cTn id="873" dur="1000" fill="hold"/>
                                        <p:tgtEl>
                                          <p:spTgt spid="10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3607 L 0.06632 0.22474 E">
                                      <p:cBhvr>
                                        <p:cTn id="889" dur="1000" fill="hold"/>
                                        <p:tgtEl>
                                          <p:spTgt spid="10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257 0.04994 C 0.17153 0.05202 0.17084 0.05456 0.16945 0.05641 C 0.16806 0.05826 0.1658 0.05849 0.16459 0.06057 C 0.16354 0.06219 0.16389 0.06497 0.16302 0.06682 C 0.1599 0.07398 0.15452 0.08 0.15035 0.08601 C 0.14757 0.09734 0.14098 0.10566 0.13611 0.1156 C 0.13507 0.11768 0.13368 0.11953 0.13299 0.12185 C 0.13247 0.12393 0.13212 0.12624 0.13125 0.12809 C 0.12848 0.1341 0.12483 0.13919 0.12188 0.1452 C 0.11823 0.1526 0.11164 0.15745 0.10747 0.16416 C 0.10104 0.17479 0.10816 0.1667 0.09966 0.17479 C 0.09445 0.18474 0.0882 0.19329 0.08056 0.2 C 0.07761 0.21248 0.08143 0.20115 0.07414 0.21063 C 0.07066 0.21503 0.06823 0.22081 0.06459 0.22543 C 0.06563 0.22682 0.06789 0.22751 0.06789 0.22959 C 0.06789 0.23167 0.06528 0.23214 0.06459 0.23398 C 0.06302 0.23792 0.0625 0.24231 0.06146 0.24647 C 0.06094 0.24855 0.0599 0.25294 0.0599 0.25294 C 0.05764 0.27398 0.06025 0.29618 0.05521 0.3163 C 0.05209 0.34335 0.04566 0.37133 0.04566 0.39884 E">
                                      <p:cBhvr>
                                        <p:cTn id="893" dur="1000" fill="hold"/>
                                        <p:tgtEl>
                                          <p:spTgt spid="10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768 0.3015 C 0.34827 0.29803 0.35157 0.29063 0.35834 0.28046 C 0.36077 0.27676 0.36632 0.26982 0.36632 0.26982 C 0.36997 0.25479 0.36754 0.26081 0.37257 0.25086 C 0.37466 0.27861 0.3724 0.30497 0.37414 0.33318 C 0.3757 0.35722 0.38386 0.37387 0.39323 0.39237 C 0.39723 0.38451 0.40157 0.37872 0.40747 0.37341 C 0.41094 0.3593 0.40608 0.37479 0.41389 0.36277 C 0.42657 0.34335 0.41424 0.35514 0.425 0.34589 C 0.43091 0.3341 0.43959 0.32578 0.44566 0.31422 C 0.44618 0.31214 0.44636 0.30982 0.44723 0.30797 C 0.44792 0.30612 0.44966 0.30543 0.45035 0.30358 C 0.45712 0.28485 0.44966 0.29572 0.45677 0.2867 C 0.46042 0.2719 0.46424 0.25711 0.46789 0.24231 C 0.46598 0.29734 0.46875 0.27052 0.46459 0.29734 C 0.46407 0.30081 0.46372 0.30451 0.46302 0.30797 C 0.46216 0.31214 0.4599 0.32046 0.4599 0.32046 C 0.45504 0.35953 0.45556 0.39977 0.45035 0.43884 C 0.44914 0.44716 0.44688 0.45572 0.44566 0.46427 C 0.44514 0.47768 0.44497 0.49109 0.4441 0.50451 C 0.44375 0.5089 0.4415 0.51283 0.4408 0.51722 C 0.43664 0.5415 0.43229 0.56531 0.42657 0.58913 C 0.42431 0.59884 0.41702 0.60115 0.41077 0.60393 C 0.40764 0.60531 0.40122 0.60809 0.40122 0.60809 C 0.38907 0.6067 0.38525 0.60763 0.3757 0.60393 C 0.37049 0.60185 0.36667 0.59768 0.36146 0.59537 C 0.35348 0.58844 0.34705 0.57919 0.33924 0.57202 C 0.3382 0.56994 0.33768 0.5674 0.33611 0.56578 C 0.33473 0.56439 0.33125 0.5637 0.33125 0.5637 E">
                                      <p:cBhvr>
                                        <p:cTn id="897" dur="1000" fill="hold"/>
                                        <p:tgtEl>
                                          <p:spTgt spid="10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4 -0.00046 C 0.06128 -0.00255 0.08732 -0.00532 0.11406 -0.00671 C 0.14635 -0.00555 0.19305 -0.02428 0.16961 0.00809 C 0.16684 0.01826 0.16111 0.02797 0.1552 0.03537 C 0.15451 0.03861 0.15017 0.05225 0.14895 0.05456 C 0.1467 0.05849 0.14097 0.06497 0.14097 0.06497 C 0.13784 0.07815 0.12951 0.08809 0.12343 0.09896 C 0.11944 0.10612 0.11701 0.11607 0.11232 0.12208 C 0.10885 0.13641 0.09965 0.15214 0.0901 0.16023 C 0.08281 0.1748 0.07378 0.18774 0.06475 0.20046 C 0.0618 0.21248 0.05468 0.22011 0.04895 0.23006 C 0.04357 0.2393 0.03836 0.24832 0.03298 0.25734 C 0.02951 0.26312 0.02899 0.26913 0.02517 0.27445 C 0.02274 0.283 0.01944 0.29202 0.01562 0.29965 C 0.01354 0.30844 0.01076 0.31676 0.00763 0.32508 C 0.00677 0.3274 0.00572 0.32948 0.00451 0.33133 C 0.00347 0.33295 -0.00035 0.33526 0.00121 0.33572 C 0.00486 0.33688 0.00868 0.33433 0.01232 0.33364 C 0.05642 0.34081 0.10295 0.33988 0.14739 0.33988 E">
                                      <p:cBhvr>
                                        <p:cTn id="913" dur="1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607 0.17503 C 0.42882 0.17572 0.45156 0.17595 0.4743 0.17711 C 0.47708 0.17734 0.48038 0.17665 0.48229 0.17919 C 0.48263 0.17965 0.47829 0.18335 0.47586 0.18774 C 0.47361 0.19191 0.47239 0.19699 0.46961 0.20046 C 0.46857 0.20185 0.46736 0.203 0.46632 0.20462 C 0.45885 0.21665 0.45138 0.22844 0.44409 0.24046 C 0.43941 0.24809 0.43854 0.25665 0.43298 0.26381 C 0.42986 0.27653 0.421 0.28601 0.41406 0.29549 C 0.40677 0.30543 0.40243 0.31699 0.3934 0.32508 C 0.39166 0.33225 0.38854 0.33572 0.38541 0.34196 C 0.43576 0.3452 0.40763 0.34404 0.46961 0.34404 E">
                                      <p:cBhvr>
                                        <p:cTn id="917" dur="1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2" descr="未标题-4 副本 拷贝"/>
          <p:cNvPicPr/>
          <p:nvPr/>
        </p:nvPicPr>
        <p:blipFill>
          <a:blip r:embed="rId1"/>
          <a:stretch/>
        </p:blipFill>
        <p:spPr>
          <a:xfrm>
            <a:off x="466560" y="960480"/>
            <a:ext cx="8066160" cy="5348160"/>
          </a:xfrm>
          <a:prstGeom prst="rect">
            <a:avLst/>
          </a:prstGeom>
          <a:ln w="0">
            <a:noFill/>
          </a:ln>
        </p:spPr>
      </p:pic>
      <p:sp>
        <p:nvSpPr>
          <p:cNvPr id="1070" name="Text Box 3"/>
          <p:cNvSpPr/>
          <p:nvPr/>
        </p:nvSpPr>
        <p:spPr>
          <a:xfrm>
            <a:off x="5580000" y="47628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4"/>
          <p:cNvSpPr/>
          <p:nvPr/>
        </p:nvSpPr>
        <p:spPr>
          <a:xfrm>
            <a:off x="7020720" y="1197000"/>
            <a:ext cx="128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5"/>
          <p:cNvSpPr/>
          <p:nvPr/>
        </p:nvSpPr>
        <p:spPr>
          <a:xfrm>
            <a:off x="254520" y="1290600"/>
            <a:ext cx="195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d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6"/>
          <p:cNvSpPr/>
          <p:nvPr/>
        </p:nvSpPr>
        <p:spPr>
          <a:xfrm>
            <a:off x="5582160" y="522936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m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AutoShape 7"/>
          <p:cNvSpPr/>
          <p:nvPr/>
        </p:nvSpPr>
        <p:spPr>
          <a:xfrm rot="11340000">
            <a:off x="1547640" y="1577160"/>
            <a:ext cx="1438560" cy="717480"/>
          </a:xfrm>
          <a:custGeom>
            <a:avLst/>
            <a:gdLst>
              <a:gd name="textAreaLeft" fmla="*/ 0 w 1438560"/>
              <a:gd name="textAreaRight" fmla="*/ 1438920 w 1438560"/>
              <a:gd name="textAreaTop" fmla="*/ 0 h 717480"/>
              <a:gd name="textAreaBottom" fmla="*/ 717480 h 717480"/>
            </a:gdLst>
            <a:ahLst/>
            <a:rect l="textAreaLeft" t="textAreaTop" r="textAreaRight" b="textAreaBottom"/>
            <a:pathLst>
              <a:path w="21600" h="21600">
                <a:moveTo>
                  <a:pt x="17017" y="7228"/>
                </a:moveTo>
                <a:cubicBezTo>
                  <a:pt x="15738" y="5002"/>
                  <a:pt x="13367" y="3630"/>
                  <a:pt x="10800" y="3630"/>
                </a:cubicBezTo>
                <a:cubicBezTo>
                  <a:pt x="6840" y="3630"/>
                  <a:pt x="3630" y="6840"/>
                  <a:pt x="3630" y="10800"/>
                </a:cubicBezTo>
                <a:cubicBezTo>
                  <a:pt x="3629" y="12125"/>
                  <a:pt x="3997" y="13425"/>
                  <a:pt x="4691" y="14555"/>
                </a:cubicBezTo>
                <a:lnTo>
                  <a:pt x="1599" y="16456"/>
                </a:lnTo>
                <a:cubicBezTo>
                  <a:pt x="553" y="14754"/>
                  <a:pt x="0" y="12797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4666" y="-1"/>
                  <a:pt x="18238" y="2067"/>
                  <a:pt x="20164" y="5420"/>
                </a:cubicBezTo>
                <a:lnTo>
                  <a:pt x="22505" y="4075"/>
                </a:lnTo>
                <a:lnTo>
                  <a:pt x="20839" y="10239"/>
                </a:lnTo>
                <a:lnTo>
                  <a:pt x="14675" y="8573"/>
                </a:lnTo>
                <a:lnTo>
                  <a:pt x="17017" y="72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AutoShape 8"/>
          <p:cNvSpPr/>
          <p:nvPr/>
        </p:nvSpPr>
        <p:spPr>
          <a:xfrm flipH="1" rot="10800000">
            <a:off x="5650560" y="1267920"/>
            <a:ext cx="1368360" cy="792360"/>
          </a:xfrm>
          <a:custGeom>
            <a:avLst/>
            <a:gdLst>
              <a:gd name="textAreaLeft" fmla="*/ -360 w 1368360"/>
              <a:gd name="textAreaRight" fmla="*/ 1368360 w 136836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17017" y="7228"/>
                </a:moveTo>
                <a:cubicBezTo>
                  <a:pt x="15738" y="5002"/>
                  <a:pt x="13367" y="3630"/>
                  <a:pt x="10800" y="3630"/>
                </a:cubicBezTo>
                <a:cubicBezTo>
                  <a:pt x="6840" y="3630"/>
                  <a:pt x="3630" y="6840"/>
                  <a:pt x="3630" y="10800"/>
                </a:cubicBezTo>
                <a:cubicBezTo>
                  <a:pt x="3629" y="11054"/>
                  <a:pt x="3643" y="11307"/>
                  <a:pt x="3670" y="11560"/>
                </a:cubicBezTo>
                <a:lnTo>
                  <a:pt x="60" y="11945"/>
                </a:lnTo>
                <a:cubicBezTo>
                  <a:pt x="20" y="11564"/>
                  <a:pt x="0" y="11182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4666" y="-1"/>
                  <a:pt x="18238" y="2067"/>
                  <a:pt x="20164" y="5420"/>
                </a:cubicBezTo>
                <a:lnTo>
                  <a:pt x="22505" y="4075"/>
                </a:lnTo>
                <a:lnTo>
                  <a:pt x="20839" y="10239"/>
                </a:lnTo>
                <a:lnTo>
                  <a:pt x="14675" y="8573"/>
                </a:lnTo>
                <a:lnTo>
                  <a:pt x="17017" y="72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9"/>
          <p:cNvSpPr/>
          <p:nvPr/>
        </p:nvSpPr>
        <p:spPr>
          <a:xfrm>
            <a:off x="4284720" y="3789360"/>
            <a:ext cx="1295280" cy="158436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10"/>
          <p:cNvSpPr/>
          <p:nvPr/>
        </p:nvSpPr>
        <p:spPr>
          <a:xfrm>
            <a:off x="228600" y="403200"/>
            <a:ext cx="87361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Do you know what these letters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5"/>
          <p:cNvSpPr/>
          <p:nvPr/>
        </p:nvSpPr>
        <p:spPr>
          <a:xfrm>
            <a:off x="3543840" y="4541040"/>
            <a:ext cx="2142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微软雅黑"/>
              </a:rPr>
              <a:t>(1a-2e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33"/>
          <p:cNvSpPr/>
          <p:nvPr/>
        </p:nvSpPr>
        <p:spPr>
          <a:xfrm>
            <a:off x="5435640" y="54936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七年级英语上（</a:t>
            </a: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RJ</a:t>
            </a: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0" y="1557360"/>
            <a:ext cx="52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mbria"/>
                <a:ea typeface="汉仪醒示体简"/>
              </a:rPr>
              <a:t>Starter Unit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1692360" y="291780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at color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Box 2"/>
          <p:cNvSpPr/>
          <p:nvPr/>
        </p:nvSpPr>
        <p:spPr>
          <a:xfrm>
            <a:off x="3564000" y="3573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FO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3"/>
          <p:cNvSpPr/>
          <p:nvPr/>
        </p:nvSpPr>
        <p:spPr>
          <a:xfrm>
            <a:off x="1692360" y="44370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Unidentified Flying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4" descr="未标题-5 副本 拷贝"/>
          <p:cNvPicPr/>
          <p:nvPr/>
        </p:nvPicPr>
        <p:blipFill>
          <a:blip r:embed="rId1"/>
          <a:srcRect l="0" t="0" r="0" b="20614"/>
          <a:stretch/>
        </p:blipFill>
        <p:spPr>
          <a:xfrm>
            <a:off x="1835280" y="620640"/>
            <a:ext cx="477360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2"/>
          <p:cNvSpPr/>
          <p:nvPr/>
        </p:nvSpPr>
        <p:spPr>
          <a:xfrm>
            <a:off x="1582560" y="4797360"/>
            <a:ext cx="58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2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ina Central Televis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Picture 3" descr="2008117111721973_2"/>
          <p:cNvPicPr/>
          <p:nvPr/>
        </p:nvPicPr>
        <p:blipFill>
          <a:blip r:embed="rId1"/>
          <a:srcRect l="0" t="25461" r="0" b="27498"/>
          <a:stretch/>
        </p:blipFill>
        <p:spPr>
          <a:xfrm>
            <a:off x="2124000" y="1268280"/>
            <a:ext cx="4176720" cy="1944720"/>
          </a:xfrm>
          <a:prstGeom prst="rect">
            <a:avLst/>
          </a:prstGeom>
          <a:ln w="0">
            <a:noFill/>
          </a:ln>
        </p:spPr>
      </p:pic>
      <p:sp>
        <p:nvSpPr>
          <p:cNvPr id="1083" name="Text Box 4"/>
          <p:cNvSpPr/>
          <p:nvPr/>
        </p:nvSpPr>
        <p:spPr>
          <a:xfrm>
            <a:off x="3059280" y="386064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CTV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2"/>
          <p:cNvSpPr/>
          <p:nvPr/>
        </p:nvSpPr>
        <p:spPr>
          <a:xfrm>
            <a:off x="3708360" y="4149720"/>
            <a:ext cx="136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2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3"/>
          <p:cNvSpPr/>
          <p:nvPr/>
        </p:nvSpPr>
        <p:spPr>
          <a:xfrm>
            <a:off x="2987640" y="49417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United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Picture 4" descr="un"/>
          <p:cNvPicPr/>
          <p:nvPr/>
        </p:nvPicPr>
        <p:blipFill>
          <a:blip r:embed="rId1"/>
          <a:stretch/>
        </p:blipFill>
        <p:spPr>
          <a:xfrm>
            <a:off x="2700360" y="907920"/>
            <a:ext cx="3381480" cy="294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 Box 2"/>
          <p:cNvSpPr/>
          <p:nvPr/>
        </p:nvSpPr>
        <p:spPr>
          <a:xfrm>
            <a:off x="324000" y="476280"/>
            <a:ext cx="84312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Groupwork: write down 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letters you k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小组讨论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写出你知道的其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英文字母缩写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3"/>
          <p:cNvSpPr/>
          <p:nvPr/>
        </p:nvSpPr>
        <p:spPr>
          <a:xfrm>
            <a:off x="1411200" y="35719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4"/>
          <p:cNvSpPr/>
          <p:nvPr/>
        </p:nvSpPr>
        <p:spPr>
          <a:xfrm>
            <a:off x="3805200" y="37018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加大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5"/>
          <p:cNvSpPr/>
          <p:nvPr/>
        </p:nvSpPr>
        <p:spPr>
          <a:xfrm>
            <a:off x="1123920" y="4854600"/>
            <a:ext cx="178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T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6"/>
          <p:cNvSpPr/>
          <p:nvPr/>
        </p:nvSpPr>
        <p:spPr>
          <a:xfrm>
            <a:off x="3906720" y="5011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音乐电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1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Text Box 2"/>
          <p:cNvSpPr/>
          <p:nvPr/>
        </p:nvSpPr>
        <p:spPr>
          <a:xfrm>
            <a:off x="971640" y="554040"/>
            <a:ext cx="28954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邮政速递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智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国共产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民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明飞行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人计算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信息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5181480" y="378000"/>
            <a:ext cx="15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4"/>
          <p:cNvSpPr/>
          <p:nvPr/>
        </p:nvSpPr>
        <p:spPr>
          <a:xfrm>
            <a:off x="5257800" y="1063800"/>
            <a:ext cx="11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5334120" y="1749600"/>
            <a:ext cx="11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6"/>
          <p:cNvSpPr/>
          <p:nvPr/>
        </p:nvSpPr>
        <p:spPr>
          <a:xfrm>
            <a:off x="5410080" y="251136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7"/>
          <p:cNvSpPr/>
          <p:nvPr/>
        </p:nvSpPr>
        <p:spPr>
          <a:xfrm>
            <a:off x="5435640" y="42260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8"/>
          <p:cNvSpPr/>
          <p:nvPr/>
        </p:nvSpPr>
        <p:spPr>
          <a:xfrm>
            <a:off x="5435640" y="50911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9"/>
          <p:cNvSpPr/>
          <p:nvPr/>
        </p:nvSpPr>
        <p:spPr>
          <a:xfrm>
            <a:off x="5364000" y="580536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10"/>
          <p:cNvSpPr/>
          <p:nvPr/>
        </p:nvSpPr>
        <p:spPr>
          <a:xfrm>
            <a:off x="5364000" y="32907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U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11"/>
          <p:cNvSpPr/>
          <p:nvPr/>
        </p:nvSpPr>
        <p:spPr>
          <a:xfrm>
            <a:off x="3419640" y="914400"/>
            <a:ext cx="2160360" cy="44593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2"/>
          <p:cNvSpPr/>
          <p:nvPr/>
        </p:nvSpPr>
        <p:spPr>
          <a:xfrm>
            <a:off x="1763640" y="1490760"/>
            <a:ext cx="3745080" cy="309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"/>
          <p:cNvSpPr/>
          <p:nvPr/>
        </p:nvSpPr>
        <p:spPr>
          <a:xfrm flipV="1">
            <a:off x="3033720" y="698040"/>
            <a:ext cx="2259000" cy="1546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4"/>
          <p:cNvSpPr/>
          <p:nvPr/>
        </p:nvSpPr>
        <p:spPr>
          <a:xfrm flipV="1">
            <a:off x="2195640" y="2786040"/>
            <a:ext cx="3384360" cy="331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5"/>
          <p:cNvSpPr/>
          <p:nvPr/>
        </p:nvSpPr>
        <p:spPr>
          <a:xfrm>
            <a:off x="1835280" y="3865680"/>
            <a:ext cx="3600360" cy="22273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6"/>
          <p:cNvSpPr/>
          <p:nvPr/>
        </p:nvSpPr>
        <p:spPr>
          <a:xfrm flipV="1">
            <a:off x="3033720" y="3654000"/>
            <a:ext cx="2373480" cy="7794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7"/>
          <p:cNvSpPr/>
          <p:nvPr/>
        </p:nvSpPr>
        <p:spPr>
          <a:xfrm flipV="1">
            <a:off x="3032280" y="1345680"/>
            <a:ext cx="2476440" cy="3745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8"/>
          <p:cNvSpPr/>
          <p:nvPr/>
        </p:nvSpPr>
        <p:spPr>
          <a:xfrm flipV="1">
            <a:off x="2627280" y="2131920"/>
            <a:ext cx="2781360" cy="3751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矩形 139266"/>
          <p:cNvSpPr/>
          <p:nvPr/>
        </p:nvSpPr>
        <p:spPr>
          <a:xfrm>
            <a:off x="2197080" y="549360"/>
            <a:ext cx="4176720" cy="50328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将下列句子译成英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文本框 139267"/>
          <p:cNvSpPr/>
          <p:nvPr/>
        </p:nvSpPr>
        <p:spPr>
          <a:xfrm>
            <a:off x="450720" y="1413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用英语怎么说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文本框 139268"/>
          <p:cNvSpPr/>
          <p:nvPr/>
        </p:nvSpPr>
        <p:spPr>
          <a:xfrm>
            <a:off x="3418200" y="1477800"/>
            <a:ext cx="524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hat’s this 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文本框 139269"/>
          <p:cNvSpPr/>
          <p:nvPr/>
        </p:nvSpPr>
        <p:spPr>
          <a:xfrm>
            <a:off x="1323360" y="2349360"/>
            <a:ext cx="11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是一把钥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文本框 139270"/>
          <p:cNvSpPr/>
          <p:nvPr/>
        </p:nvSpPr>
        <p:spPr>
          <a:xfrm>
            <a:off x="3856320" y="2343240"/>
            <a:ext cx="23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t’s a ke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文本框 139271"/>
          <p:cNvSpPr/>
          <p:nvPr/>
        </p:nvSpPr>
        <p:spPr>
          <a:xfrm>
            <a:off x="1618920" y="32130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请将它拼写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139272"/>
          <p:cNvSpPr/>
          <p:nvPr/>
        </p:nvSpPr>
        <p:spPr>
          <a:xfrm>
            <a:off x="3637440" y="3206880"/>
            <a:ext cx="339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pell it, ple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139273"/>
          <p:cNvSpPr/>
          <p:nvPr/>
        </p:nvSpPr>
        <p:spPr>
          <a:xfrm>
            <a:off x="3913560" y="4070520"/>
            <a:ext cx="174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K-E-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139274"/>
          <p:cNvSpPr/>
          <p:nvPr/>
        </p:nvSpPr>
        <p:spPr>
          <a:xfrm>
            <a:off x="523800" y="47973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是什么颜色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139275"/>
          <p:cNvSpPr/>
          <p:nvPr/>
        </p:nvSpPr>
        <p:spPr>
          <a:xfrm>
            <a:off x="3708360" y="4791240"/>
            <a:ext cx="37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hat color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139276"/>
          <p:cNvSpPr/>
          <p:nvPr/>
        </p:nvSpPr>
        <p:spPr>
          <a:xfrm>
            <a:off x="1377720" y="55166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黄色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文本框 139277"/>
          <p:cNvSpPr/>
          <p:nvPr/>
        </p:nvSpPr>
        <p:spPr>
          <a:xfrm>
            <a:off x="3831840" y="5583240"/>
            <a:ext cx="255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t’s yell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图片 139278" descr="3d21d"/>
          <p:cNvPicPr/>
          <p:nvPr/>
        </p:nvPicPr>
        <p:blipFill>
          <a:blip r:embed="rId1"/>
          <a:stretch/>
        </p:blipFill>
        <p:spPr>
          <a:xfrm>
            <a:off x="7308720" y="404640"/>
            <a:ext cx="1141560" cy="104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5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0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5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Oval 4"/>
          <p:cNvSpPr/>
          <p:nvPr/>
        </p:nvSpPr>
        <p:spPr>
          <a:xfrm>
            <a:off x="914400" y="12034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Oval 5"/>
          <p:cNvSpPr/>
          <p:nvPr/>
        </p:nvSpPr>
        <p:spPr>
          <a:xfrm>
            <a:off x="3733920" y="1279440"/>
            <a:ext cx="914400" cy="9144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Oval 6"/>
          <p:cNvSpPr/>
          <p:nvPr/>
        </p:nvSpPr>
        <p:spPr>
          <a:xfrm>
            <a:off x="6705720" y="127944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Oval 7"/>
          <p:cNvSpPr/>
          <p:nvPr/>
        </p:nvSpPr>
        <p:spPr>
          <a:xfrm>
            <a:off x="914400" y="2879640"/>
            <a:ext cx="91440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Oval 8"/>
          <p:cNvSpPr/>
          <p:nvPr/>
        </p:nvSpPr>
        <p:spPr>
          <a:xfrm>
            <a:off x="3733920" y="295596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Oval 9"/>
          <p:cNvSpPr/>
          <p:nvPr/>
        </p:nvSpPr>
        <p:spPr>
          <a:xfrm>
            <a:off x="6705720" y="295596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Oval 10"/>
          <p:cNvSpPr/>
          <p:nvPr/>
        </p:nvSpPr>
        <p:spPr>
          <a:xfrm>
            <a:off x="990720" y="47084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Oval 11"/>
          <p:cNvSpPr/>
          <p:nvPr/>
        </p:nvSpPr>
        <p:spPr>
          <a:xfrm>
            <a:off x="3733920" y="47084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Oval 12"/>
          <p:cNvSpPr/>
          <p:nvPr/>
        </p:nvSpPr>
        <p:spPr>
          <a:xfrm>
            <a:off x="6781680" y="4708440"/>
            <a:ext cx="914400" cy="914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AutoShape 13"/>
          <p:cNvSpPr/>
          <p:nvPr/>
        </p:nvSpPr>
        <p:spPr>
          <a:xfrm>
            <a:off x="609480" y="1127160"/>
            <a:ext cx="1524240" cy="99072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14"/>
          <p:cNvSpPr/>
          <p:nvPr/>
        </p:nvSpPr>
        <p:spPr>
          <a:xfrm>
            <a:off x="3419640" y="1197000"/>
            <a:ext cx="1523880" cy="107964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AutoShape 15"/>
          <p:cNvSpPr/>
          <p:nvPr/>
        </p:nvSpPr>
        <p:spPr>
          <a:xfrm>
            <a:off x="6400800" y="1203480"/>
            <a:ext cx="1523880" cy="99036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AutoShape 16"/>
          <p:cNvSpPr/>
          <p:nvPr/>
        </p:nvSpPr>
        <p:spPr>
          <a:xfrm>
            <a:off x="609480" y="2803680"/>
            <a:ext cx="1524240" cy="99036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17"/>
          <p:cNvSpPr/>
          <p:nvPr/>
        </p:nvSpPr>
        <p:spPr>
          <a:xfrm>
            <a:off x="3429000" y="2879640"/>
            <a:ext cx="1523880" cy="99072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AutoShape 18"/>
          <p:cNvSpPr/>
          <p:nvPr/>
        </p:nvSpPr>
        <p:spPr>
          <a:xfrm>
            <a:off x="6400800" y="2879640"/>
            <a:ext cx="1523880" cy="99072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AutoShape 19"/>
          <p:cNvSpPr/>
          <p:nvPr/>
        </p:nvSpPr>
        <p:spPr>
          <a:xfrm>
            <a:off x="685800" y="4632480"/>
            <a:ext cx="1523880" cy="99036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20"/>
          <p:cNvSpPr/>
          <p:nvPr/>
        </p:nvSpPr>
        <p:spPr>
          <a:xfrm>
            <a:off x="3429000" y="4632480"/>
            <a:ext cx="1523880" cy="99036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21"/>
          <p:cNvSpPr/>
          <p:nvPr/>
        </p:nvSpPr>
        <p:spPr>
          <a:xfrm>
            <a:off x="6477120" y="4632480"/>
            <a:ext cx="1523880" cy="99036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22"/>
          <p:cNvSpPr/>
          <p:nvPr/>
        </p:nvSpPr>
        <p:spPr>
          <a:xfrm>
            <a:off x="914400" y="21938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23"/>
          <p:cNvSpPr/>
          <p:nvPr/>
        </p:nvSpPr>
        <p:spPr>
          <a:xfrm>
            <a:off x="3733920" y="227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24"/>
          <p:cNvSpPr/>
          <p:nvPr/>
        </p:nvSpPr>
        <p:spPr>
          <a:xfrm>
            <a:off x="6629400" y="227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25"/>
          <p:cNvSpPr/>
          <p:nvPr/>
        </p:nvSpPr>
        <p:spPr>
          <a:xfrm>
            <a:off x="838080" y="3946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26"/>
          <p:cNvSpPr/>
          <p:nvPr/>
        </p:nvSpPr>
        <p:spPr>
          <a:xfrm>
            <a:off x="3733920" y="4022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27"/>
          <p:cNvSpPr/>
          <p:nvPr/>
        </p:nvSpPr>
        <p:spPr>
          <a:xfrm>
            <a:off x="6705720" y="4022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28"/>
          <p:cNvSpPr/>
          <p:nvPr/>
        </p:nvSpPr>
        <p:spPr>
          <a:xfrm>
            <a:off x="990720" y="577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29"/>
          <p:cNvSpPr/>
          <p:nvPr/>
        </p:nvSpPr>
        <p:spPr>
          <a:xfrm>
            <a:off x="3733920" y="5851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30"/>
          <p:cNvSpPr/>
          <p:nvPr/>
        </p:nvSpPr>
        <p:spPr>
          <a:xfrm>
            <a:off x="6781680" y="577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31"/>
          <p:cNvSpPr/>
          <p:nvPr/>
        </p:nvSpPr>
        <p:spPr>
          <a:xfrm>
            <a:off x="1066680" y="21938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32"/>
          <p:cNvSpPr/>
          <p:nvPr/>
        </p:nvSpPr>
        <p:spPr>
          <a:xfrm>
            <a:off x="3962520" y="2270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33"/>
          <p:cNvSpPr/>
          <p:nvPr/>
        </p:nvSpPr>
        <p:spPr>
          <a:xfrm>
            <a:off x="6858000" y="2270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34"/>
          <p:cNvSpPr/>
          <p:nvPr/>
        </p:nvSpPr>
        <p:spPr>
          <a:xfrm>
            <a:off x="1066680" y="394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35"/>
          <p:cNvSpPr/>
          <p:nvPr/>
        </p:nvSpPr>
        <p:spPr>
          <a:xfrm>
            <a:off x="3886200" y="4022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36"/>
          <p:cNvSpPr/>
          <p:nvPr/>
        </p:nvSpPr>
        <p:spPr>
          <a:xfrm>
            <a:off x="6934320" y="4022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37"/>
          <p:cNvSpPr/>
          <p:nvPr/>
        </p:nvSpPr>
        <p:spPr>
          <a:xfrm>
            <a:off x="1219320" y="577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38"/>
          <p:cNvSpPr/>
          <p:nvPr/>
        </p:nvSpPr>
        <p:spPr>
          <a:xfrm>
            <a:off x="3962520" y="58514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39"/>
          <p:cNvSpPr/>
          <p:nvPr/>
        </p:nvSpPr>
        <p:spPr>
          <a:xfrm>
            <a:off x="7010280" y="577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40"/>
          <p:cNvSpPr/>
          <p:nvPr/>
        </p:nvSpPr>
        <p:spPr>
          <a:xfrm>
            <a:off x="228600" y="476280"/>
            <a:ext cx="55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uessing game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猜测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7"/>
          <p:cNvSpPr/>
          <p:nvPr/>
        </p:nvSpPr>
        <p:spPr>
          <a:xfrm>
            <a:off x="3960" y="-270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e79"/>
                </a:solidFill>
                <a:latin typeface="方正姚体"/>
                <a:ea typeface="方正姚体"/>
              </a:rPr>
              <a:t>Lea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0" dur="50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6" dur="500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2" dur="500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8" dur="500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4" dur="5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0" dur="50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6" dur="500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2" dur="500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8" dur="500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Text Box 4"/>
          <p:cNvSpPr/>
          <p:nvPr/>
        </p:nvSpPr>
        <p:spPr>
          <a:xfrm>
            <a:off x="228600" y="519120"/>
            <a:ext cx="57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pelling game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拼写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5"/>
          <p:cNvSpPr/>
          <p:nvPr/>
        </p:nvSpPr>
        <p:spPr>
          <a:xfrm>
            <a:off x="685800" y="1662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_ _ 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6"/>
          <p:cNvSpPr/>
          <p:nvPr/>
        </p:nvSpPr>
        <p:spPr>
          <a:xfrm>
            <a:off x="3276720" y="16621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 l _ _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7"/>
          <p:cNvSpPr/>
          <p:nvPr/>
        </p:nvSpPr>
        <p:spPr>
          <a:xfrm>
            <a:off x="6019920" y="16621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 h _ _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8"/>
          <p:cNvSpPr/>
          <p:nvPr/>
        </p:nvSpPr>
        <p:spPr>
          <a:xfrm>
            <a:off x="762120" y="3414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 e 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9"/>
          <p:cNvSpPr/>
          <p:nvPr/>
        </p:nvSpPr>
        <p:spPr>
          <a:xfrm>
            <a:off x="3200400" y="3338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 r _ w 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10"/>
          <p:cNvSpPr/>
          <p:nvPr/>
        </p:nvSpPr>
        <p:spPr>
          <a:xfrm>
            <a:off x="6095880" y="333864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u _ p 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11"/>
          <p:cNvSpPr/>
          <p:nvPr/>
        </p:nvSpPr>
        <p:spPr>
          <a:xfrm>
            <a:off x="609480" y="50911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 r _ _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12"/>
          <p:cNvSpPr/>
          <p:nvPr/>
        </p:nvSpPr>
        <p:spPr>
          <a:xfrm>
            <a:off x="3124080" y="50148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 e _ _o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13"/>
          <p:cNvSpPr/>
          <p:nvPr/>
        </p:nvSpPr>
        <p:spPr>
          <a:xfrm>
            <a:off x="6172200" y="5014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r_ _g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Text Box 4"/>
          <p:cNvSpPr/>
          <p:nvPr/>
        </p:nvSpPr>
        <p:spPr>
          <a:xfrm>
            <a:off x="152280" y="476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a Listen and color the things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录音，为下列物品涂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1" name="Picture 5" descr="5"/>
          <p:cNvPicPr/>
          <p:nvPr/>
        </p:nvPicPr>
        <p:blipFill>
          <a:blip r:embed="rId1"/>
          <a:stretch/>
        </p:blipFill>
        <p:spPr>
          <a:xfrm>
            <a:off x="457200" y="2835360"/>
            <a:ext cx="1523880" cy="148752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6" descr="6"/>
          <p:cNvPicPr/>
          <p:nvPr/>
        </p:nvPicPr>
        <p:blipFill>
          <a:blip r:embed="rId2"/>
          <a:stretch/>
        </p:blipFill>
        <p:spPr>
          <a:xfrm>
            <a:off x="3352680" y="2987640"/>
            <a:ext cx="1990800" cy="124776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7" descr="7"/>
          <p:cNvPicPr/>
          <p:nvPr/>
        </p:nvPicPr>
        <p:blipFill>
          <a:blip r:embed="rId3"/>
          <a:stretch/>
        </p:blipFill>
        <p:spPr>
          <a:xfrm>
            <a:off x="6781680" y="2911320"/>
            <a:ext cx="1562400" cy="123840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13" descr=""/>
          <p:cNvPicPr/>
          <p:nvPr/>
        </p:nvPicPr>
        <p:blipFill>
          <a:blip r:embed="rId4"/>
          <a:stretch/>
        </p:blipFill>
        <p:spPr>
          <a:xfrm>
            <a:off x="6781680" y="2987640"/>
            <a:ext cx="1457280" cy="107640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14" descr=""/>
          <p:cNvPicPr/>
          <p:nvPr/>
        </p:nvPicPr>
        <p:blipFill>
          <a:blip r:embed="rId5"/>
          <a:stretch/>
        </p:blipFill>
        <p:spPr>
          <a:xfrm>
            <a:off x="3352680" y="2987640"/>
            <a:ext cx="2019600" cy="134316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15" descr=""/>
          <p:cNvPicPr/>
          <p:nvPr/>
        </p:nvPicPr>
        <p:blipFill>
          <a:blip r:embed="rId6"/>
          <a:stretch/>
        </p:blipFill>
        <p:spPr>
          <a:xfrm>
            <a:off x="685800" y="2987640"/>
            <a:ext cx="1352520" cy="1190520"/>
          </a:xfrm>
          <a:prstGeom prst="rect">
            <a:avLst/>
          </a:prstGeom>
          <a:ln w="0">
            <a:noFill/>
          </a:ln>
        </p:spPr>
      </p:pic>
      <p:pic>
        <p:nvPicPr>
          <p:cNvPr id="1177" name="SU3 3a.mp3" descr=""/>
          <p:cNvPicPr/>
          <p:nvPr/>
        </p:nvPicPr>
        <p:blipFill>
          <a:blip r:embed="rId7"/>
          <a:stretch/>
        </p:blipFill>
        <p:spPr>
          <a:xfrm>
            <a:off x="4038480" y="1343160"/>
            <a:ext cx="6192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00"/>
                            </p:stCondLst>
                            <p:childTnLst>
                              <p:par>
                                <p:cTn id="12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6" dur="34847" fill="hold"/>
                                        <p:tgtEl>
                                          <p:spTgt spid="1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Text Box 4"/>
          <p:cNvSpPr/>
          <p:nvPr/>
        </p:nvSpPr>
        <p:spPr>
          <a:xfrm>
            <a:off x="152280" y="476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b Listen again. Complete the sentences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听录音。完成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8"/>
          <p:cNvSpPr/>
          <p:nvPr/>
        </p:nvSpPr>
        <p:spPr>
          <a:xfrm>
            <a:off x="3276720" y="16002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key is _______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9"/>
          <p:cNvSpPr/>
          <p:nvPr/>
        </p:nvSpPr>
        <p:spPr>
          <a:xfrm>
            <a:off x="3276720" y="3200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uler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10"/>
          <p:cNvSpPr/>
          <p:nvPr/>
        </p:nvSpPr>
        <p:spPr>
          <a:xfrm>
            <a:off x="3276720" y="48769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up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1"/>
          <p:cNvSpPr/>
          <p:nvPr/>
        </p:nvSpPr>
        <p:spPr>
          <a:xfrm>
            <a:off x="3429000" y="2438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= It’s a yellow key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13"/>
          <p:cNvSpPr/>
          <p:nvPr/>
        </p:nvSpPr>
        <p:spPr>
          <a:xfrm>
            <a:off x="3429000" y="39625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= It’s a green ruler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14"/>
          <p:cNvSpPr/>
          <p:nvPr/>
        </p:nvSpPr>
        <p:spPr>
          <a:xfrm>
            <a:off x="3429000" y="5562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= It’s a red cup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7"/>
          <p:cNvSpPr/>
          <p:nvPr/>
        </p:nvSpPr>
        <p:spPr>
          <a:xfrm>
            <a:off x="5562720" y="15238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18"/>
          <p:cNvSpPr/>
          <p:nvPr/>
        </p:nvSpPr>
        <p:spPr>
          <a:xfrm>
            <a:off x="5791320" y="31240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20"/>
          <p:cNvSpPr/>
          <p:nvPr/>
        </p:nvSpPr>
        <p:spPr>
          <a:xfrm>
            <a:off x="5638680" y="48006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Picture 21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1457280" cy="107604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22" descr=""/>
          <p:cNvPicPr/>
          <p:nvPr/>
        </p:nvPicPr>
        <p:blipFill>
          <a:blip r:embed="rId2"/>
          <a:stretch/>
        </p:blipFill>
        <p:spPr>
          <a:xfrm>
            <a:off x="685800" y="2971800"/>
            <a:ext cx="2019240" cy="134316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23" descr=""/>
          <p:cNvPicPr/>
          <p:nvPr/>
        </p:nvPicPr>
        <p:blipFill>
          <a:blip r:embed="rId3"/>
          <a:stretch/>
        </p:blipFill>
        <p:spPr>
          <a:xfrm>
            <a:off x="685800" y="4724280"/>
            <a:ext cx="1352520" cy="1190880"/>
          </a:xfrm>
          <a:prstGeom prst="rect">
            <a:avLst/>
          </a:prstGeom>
          <a:ln w="0">
            <a:noFill/>
          </a:ln>
        </p:spPr>
      </p:pic>
      <p:pic>
        <p:nvPicPr>
          <p:cNvPr id="1191" name="SU3 3b.mp3" descr=""/>
          <p:cNvPicPr/>
          <p:nvPr/>
        </p:nvPicPr>
        <p:blipFill>
          <a:blip r:embed="rId4"/>
          <a:stretch/>
        </p:blipFill>
        <p:spPr>
          <a:xfrm>
            <a:off x="3984480" y="105732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0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7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2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2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7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5" dur="36623" fill="hold"/>
                                        <p:tgtEl>
                                          <p:spTgt spid="1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2" descr=""/>
          <p:cNvPicPr/>
          <p:nvPr/>
        </p:nvPicPr>
        <p:blipFill>
          <a:blip r:embed="rId1"/>
          <a:stretch/>
        </p:blipFill>
        <p:spPr>
          <a:xfrm>
            <a:off x="7308720" y="2781360"/>
            <a:ext cx="1835280" cy="17604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3" descr="Jacket-Library-front-small"/>
          <p:cNvPicPr/>
          <p:nvPr/>
        </p:nvPicPr>
        <p:blipFill>
          <a:blip r:embed="rId2"/>
          <a:stretch/>
        </p:blipFill>
        <p:spPr>
          <a:xfrm>
            <a:off x="6630840" y="1052640"/>
            <a:ext cx="1081080" cy="136836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4" descr="橘子"/>
          <p:cNvPicPr/>
          <p:nvPr/>
        </p:nvPicPr>
        <p:blipFill>
          <a:blip r:embed="rId3"/>
          <a:stretch/>
        </p:blipFill>
        <p:spPr>
          <a:xfrm>
            <a:off x="3780000" y="5516640"/>
            <a:ext cx="936360" cy="95400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5" descr="12"/>
          <p:cNvPicPr/>
          <p:nvPr/>
        </p:nvPicPr>
        <p:blipFill>
          <a:blip r:embed="rId4"/>
          <a:stretch/>
        </p:blipFill>
        <p:spPr>
          <a:xfrm>
            <a:off x="250920" y="1165320"/>
            <a:ext cx="1441440" cy="10396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6" descr="716309e441e08722e03071b2b0db3be4"/>
          <p:cNvPicPr/>
          <p:nvPr/>
        </p:nvPicPr>
        <p:blipFill>
          <a:blip r:embed="rId5"/>
          <a:srcRect l="0" t="0" r="0" b="11309"/>
          <a:stretch/>
        </p:blipFill>
        <p:spPr>
          <a:xfrm>
            <a:off x="7524720" y="4724280"/>
            <a:ext cx="1085760" cy="128916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7" descr="被子"/>
          <p:cNvPicPr/>
          <p:nvPr/>
        </p:nvPicPr>
        <p:blipFill>
          <a:blip r:embed="rId6"/>
          <a:srcRect l="0" t="0" r="0" b="5579"/>
          <a:stretch/>
        </p:blipFill>
        <p:spPr>
          <a:xfrm>
            <a:off x="1908000" y="981000"/>
            <a:ext cx="1656000" cy="127800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8" descr="380_52569"/>
          <p:cNvPicPr/>
          <p:nvPr/>
        </p:nvPicPr>
        <p:blipFill>
          <a:blip r:embed="rId7"/>
          <a:stretch/>
        </p:blipFill>
        <p:spPr>
          <a:xfrm>
            <a:off x="468360" y="3213000"/>
            <a:ext cx="1224000" cy="112104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9" descr="map01"/>
          <p:cNvPicPr/>
          <p:nvPr/>
        </p:nvPicPr>
        <p:blipFill>
          <a:blip r:embed="rId8"/>
          <a:srcRect l="0" t="0" r="0" b="12503"/>
          <a:stretch/>
        </p:blipFill>
        <p:spPr>
          <a:xfrm>
            <a:off x="4140360" y="836640"/>
            <a:ext cx="1571400" cy="1800360"/>
          </a:xfrm>
          <a:prstGeom prst="rect">
            <a:avLst/>
          </a:prstGeom>
          <a:ln w="0">
            <a:noFill/>
          </a:ln>
        </p:spPr>
      </p:pic>
      <p:sp>
        <p:nvSpPr>
          <p:cNvPr id="854" name="Text Box 11"/>
          <p:cNvSpPr/>
          <p:nvPr/>
        </p:nvSpPr>
        <p:spPr>
          <a:xfrm>
            <a:off x="179280" y="404640"/>
            <a:ext cx="72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ctice the convers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12"/>
          <p:cNvSpPr/>
          <p:nvPr/>
        </p:nvSpPr>
        <p:spPr>
          <a:xfrm>
            <a:off x="2050920" y="2852640"/>
            <a:ext cx="5256360" cy="2466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d57"/>
                </a:solidFill>
                <a:latin typeface="Arial"/>
              </a:rPr>
              <a:t>A: What’s this/that in Eng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d5"/>
                </a:solidFill>
                <a:latin typeface="Arial"/>
              </a:rPr>
              <a:t>B: </a:t>
            </a:r>
            <a:r>
              <a:rPr b="0" lang="en-US" sz="2800" spc="-1" strike="noStrike">
                <a:solidFill>
                  <a:srgbClr val="030d57"/>
                </a:solidFill>
                <a:latin typeface="Arial"/>
              </a:rPr>
              <a:t>I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30d57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2800" spc="-1" strike="noStrike">
                <a:solidFill>
                  <a:srgbClr val="030d57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d57"/>
                </a:solidFill>
                <a:latin typeface="Arial"/>
              </a:rPr>
              <a:t>A: Spell it, plea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d57"/>
                </a:solidFill>
                <a:latin typeface="Arial"/>
              </a:rPr>
              <a:t>B: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3"/>
          <p:cNvSpPr/>
          <p:nvPr/>
        </p:nvSpPr>
        <p:spPr>
          <a:xfrm>
            <a:off x="539640" y="213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4"/>
          <p:cNvSpPr/>
          <p:nvPr/>
        </p:nvSpPr>
        <p:spPr>
          <a:xfrm>
            <a:off x="2340000" y="21337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q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15"/>
          <p:cNvSpPr/>
          <p:nvPr/>
        </p:nvSpPr>
        <p:spPr>
          <a:xfrm>
            <a:off x="4500720" y="213372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6"/>
          <p:cNvSpPr/>
          <p:nvPr/>
        </p:nvSpPr>
        <p:spPr>
          <a:xfrm>
            <a:off x="6659640" y="2276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j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7"/>
          <p:cNvSpPr/>
          <p:nvPr/>
        </p:nvSpPr>
        <p:spPr>
          <a:xfrm>
            <a:off x="611280" y="458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8"/>
          <p:cNvSpPr/>
          <p:nvPr/>
        </p:nvSpPr>
        <p:spPr>
          <a:xfrm>
            <a:off x="2484360" y="587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9"/>
          <p:cNvSpPr/>
          <p:nvPr/>
        </p:nvSpPr>
        <p:spPr>
          <a:xfrm>
            <a:off x="4716360" y="59500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20"/>
          <p:cNvSpPr/>
          <p:nvPr/>
        </p:nvSpPr>
        <p:spPr>
          <a:xfrm>
            <a:off x="6516720" y="5516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10" descr="钥匙5"/>
          <p:cNvPicPr/>
          <p:nvPr/>
        </p:nvPicPr>
        <p:blipFill>
          <a:blip r:embed="rId9"/>
          <a:stretch/>
        </p:blipFill>
        <p:spPr>
          <a:xfrm>
            <a:off x="1447920" y="5257800"/>
            <a:ext cx="820440" cy="1233360"/>
          </a:xfrm>
          <a:prstGeom prst="rect">
            <a:avLst/>
          </a:prstGeom>
          <a:ln w="0">
            <a:noFill/>
          </a:ln>
        </p:spPr>
      </p:pic>
      <p:sp>
        <p:nvSpPr>
          <p:cNvPr id="865" name="TextBox 7"/>
          <p:cNvSpPr/>
          <p:nvPr/>
        </p:nvSpPr>
        <p:spPr>
          <a:xfrm>
            <a:off x="3960" y="-270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e79"/>
                </a:solidFill>
                <a:latin typeface="方正姚体"/>
                <a:ea typeface="方正姚体"/>
              </a:rPr>
              <a:t>Lea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Text Box 4"/>
          <p:cNvSpPr/>
          <p:nvPr/>
        </p:nvSpPr>
        <p:spPr>
          <a:xfrm>
            <a:off x="152280" y="530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c Listen and complete the chart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录音，完成表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3" name="Picture 27" descr="9"/>
          <p:cNvPicPr/>
          <p:nvPr/>
        </p:nvPicPr>
        <p:blipFill>
          <a:blip r:embed="rId1"/>
          <a:stretch/>
        </p:blipFill>
        <p:spPr>
          <a:xfrm>
            <a:off x="685800" y="1773360"/>
            <a:ext cx="7543800" cy="4572000"/>
          </a:xfrm>
          <a:prstGeom prst="rect">
            <a:avLst/>
          </a:prstGeom>
          <a:ln w="0">
            <a:noFill/>
          </a:ln>
        </p:spPr>
      </p:pic>
      <p:sp>
        <p:nvSpPr>
          <p:cNvPr id="1194" name="Text Box 29"/>
          <p:cNvSpPr/>
          <p:nvPr/>
        </p:nvSpPr>
        <p:spPr>
          <a:xfrm>
            <a:off x="2057400" y="29923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30"/>
          <p:cNvSpPr/>
          <p:nvPr/>
        </p:nvSpPr>
        <p:spPr>
          <a:xfrm>
            <a:off x="5562720" y="29923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31"/>
          <p:cNvSpPr/>
          <p:nvPr/>
        </p:nvSpPr>
        <p:spPr>
          <a:xfrm>
            <a:off x="2057400" y="38307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u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32"/>
          <p:cNvSpPr/>
          <p:nvPr/>
        </p:nvSpPr>
        <p:spPr>
          <a:xfrm>
            <a:off x="5486400" y="38307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ur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33"/>
          <p:cNvSpPr/>
          <p:nvPr/>
        </p:nvSpPr>
        <p:spPr>
          <a:xfrm>
            <a:off x="2133720" y="474516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34"/>
          <p:cNvSpPr/>
          <p:nvPr/>
        </p:nvSpPr>
        <p:spPr>
          <a:xfrm>
            <a:off x="5562720" y="474516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0" name="SU3 3c.mp3" descr=""/>
          <p:cNvPicPr/>
          <p:nvPr/>
        </p:nvPicPr>
        <p:blipFill>
          <a:blip r:embed="rId2"/>
          <a:stretch/>
        </p:blipFill>
        <p:spPr>
          <a:xfrm>
            <a:off x="2946240" y="98748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1"/>
                            </p:stCondLst>
                            <p:childTnLst>
                              <p:par>
                                <p:cTn id="13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8" dur="68858" fill="hold"/>
                                        <p:tgtEl>
                                          <p:spTgt spid="1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Text Box 4"/>
          <p:cNvSpPr/>
          <p:nvPr/>
        </p:nvSpPr>
        <p:spPr>
          <a:xfrm>
            <a:off x="152280" y="57636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d  Make conversations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对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2" name="Picture 8" descr=""/>
          <p:cNvPicPr/>
          <p:nvPr/>
        </p:nvPicPr>
        <p:blipFill>
          <a:blip r:embed="rId1"/>
          <a:stretch/>
        </p:blipFill>
        <p:spPr>
          <a:xfrm>
            <a:off x="457200" y="1566720"/>
            <a:ext cx="1504800" cy="1076400"/>
          </a:xfrm>
          <a:prstGeom prst="rect">
            <a:avLst/>
          </a:prstGeom>
          <a:ln w="0">
            <a:noFill/>
          </a:ln>
        </p:spPr>
      </p:pic>
      <p:sp>
        <p:nvSpPr>
          <p:cNvPr id="1203" name="Text Box 9"/>
          <p:cNvSpPr/>
          <p:nvPr/>
        </p:nvSpPr>
        <p:spPr>
          <a:xfrm>
            <a:off x="3048120" y="1719360"/>
            <a:ext cx="5333760" cy="37641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 What’s this in English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It’s a 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 Spell it, p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K-E-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 What color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It’s yel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206280" y="691920"/>
            <a:ext cx="86868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imes New Roman"/>
              </a:rPr>
              <a:t>Pairwork: Talk about the colors of your own things.</a:t>
            </a:r>
            <a:r>
              <a:rPr b="1" lang="en-US" sz="29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5b9bd5"/>
              </a:solidFill>
              <a:latin typeface="Arial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1752120" y="1052640"/>
            <a:ext cx="61930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: What’s this in English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: It’s a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: Spell it, plea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: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: What color is it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: It’s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4" dur="500"/>
                                        <p:tgtEl>
                                          <p:spTgt spid="1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9" dur="500"/>
                                        <p:tgtEl>
                                          <p:spTgt spid="1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4" dur="500"/>
                                        <p:tgtEl>
                                          <p:spTgt spid="1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9" dur="500"/>
                                        <p:tgtEl>
                                          <p:spTgt spid="1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4" dur="500"/>
                                        <p:tgtEl>
                                          <p:spTgt spid="1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9" dur="500"/>
                                        <p:tgtEl>
                                          <p:spTgt spid="1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Picture 4" descr="10"/>
          <p:cNvPicPr/>
          <p:nvPr/>
        </p:nvPicPr>
        <p:blipFill>
          <a:blip r:embed="rId1"/>
          <a:stretch/>
        </p:blipFill>
        <p:spPr>
          <a:xfrm>
            <a:off x="152280" y="1828800"/>
            <a:ext cx="8839440" cy="2895480"/>
          </a:xfrm>
          <a:prstGeom prst="rect">
            <a:avLst/>
          </a:prstGeom>
          <a:ln w="0">
            <a:noFill/>
          </a:ln>
        </p:spPr>
      </p:pic>
      <p:sp>
        <p:nvSpPr>
          <p:cNvPr id="1207" name="Text Box 5"/>
          <p:cNvSpPr/>
          <p:nvPr/>
        </p:nvSpPr>
        <p:spPr>
          <a:xfrm>
            <a:off x="179280" y="45864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a Find the letters from A to Z. Write the small letter next to each big l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6"/>
          <p:cNvSpPr/>
          <p:nvPr/>
        </p:nvSpPr>
        <p:spPr>
          <a:xfrm>
            <a:off x="1219320" y="2590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7"/>
          <p:cNvSpPr/>
          <p:nvPr/>
        </p:nvSpPr>
        <p:spPr>
          <a:xfrm>
            <a:off x="411480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8"/>
          <p:cNvSpPr/>
          <p:nvPr/>
        </p:nvSpPr>
        <p:spPr>
          <a:xfrm>
            <a:off x="281952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9"/>
          <p:cNvSpPr/>
          <p:nvPr/>
        </p:nvSpPr>
        <p:spPr>
          <a:xfrm>
            <a:off x="2514600" y="2666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10"/>
          <p:cNvSpPr/>
          <p:nvPr/>
        </p:nvSpPr>
        <p:spPr>
          <a:xfrm>
            <a:off x="2209680" y="1905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11"/>
          <p:cNvSpPr/>
          <p:nvPr/>
        </p:nvSpPr>
        <p:spPr>
          <a:xfrm>
            <a:off x="3200400" y="2666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 Box 12"/>
          <p:cNvSpPr/>
          <p:nvPr/>
        </p:nvSpPr>
        <p:spPr>
          <a:xfrm>
            <a:off x="3809880" y="2666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13"/>
          <p:cNvSpPr/>
          <p:nvPr/>
        </p:nvSpPr>
        <p:spPr>
          <a:xfrm>
            <a:off x="4419720" y="2666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14"/>
          <p:cNvSpPr/>
          <p:nvPr/>
        </p:nvSpPr>
        <p:spPr>
          <a:xfrm>
            <a:off x="5257800" y="1905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15"/>
          <p:cNvSpPr/>
          <p:nvPr/>
        </p:nvSpPr>
        <p:spPr>
          <a:xfrm>
            <a:off x="5105520" y="2590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16"/>
          <p:cNvSpPr/>
          <p:nvPr/>
        </p:nvSpPr>
        <p:spPr>
          <a:xfrm>
            <a:off x="5715000" y="2666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17"/>
          <p:cNvSpPr/>
          <p:nvPr/>
        </p:nvSpPr>
        <p:spPr>
          <a:xfrm>
            <a:off x="6400800" y="2666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18"/>
          <p:cNvSpPr/>
          <p:nvPr/>
        </p:nvSpPr>
        <p:spPr>
          <a:xfrm>
            <a:off x="5410080" y="3429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19"/>
          <p:cNvSpPr/>
          <p:nvPr/>
        </p:nvSpPr>
        <p:spPr>
          <a:xfrm>
            <a:off x="480060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20"/>
          <p:cNvSpPr/>
          <p:nvPr/>
        </p:nvSpPr>
        <p:spPr>
          <a:xfrm>
            <a:off x="6019920" y="1905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 Box 21"/>
          <p:cNvSpPr/>
          <p:nvPr/>
        </p:nvSpPr>
        <p:spPr>
          <a:xfrm>
            <a:off x="6553080" y="18288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22"/>
          <p:cNvSpPr/>
          <p:nvPr/>
        </p:nvSpPr>
        <p:spPr>
          <a:xfrm>
            <a:off x="990720" y="1905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23"/>
          <p:cNvSpPr/>
          <p:nvPr/>
        </p:nvSpPr>
        <p:spPr>
          <a:xfrm>
            <a:off x="2819520" y="1905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Text Box 24"/>
          <p:cNvSpPr/>
          <p:nvPr/>
        </p:nvSpPr>
        <p:spPr>
          <a:xfrm>
            <a:off x="1828800" y="2666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 Box 25"/>
          <p:cNvSpPr/>
          <p:nvPr/>
        </p:nvSpPr>
        <p:spPr>
          <a:xfrm>
            <a:off x="3429000" y="1905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26"/>
          <p:cNvSpPr/>
          <p:nvPr/>
        </p:nvSpPr>
        <p:spPr>
          <a:xfrm>
            <a:off x="4724280" y="1905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27"/>
          <p:cNvSpPr/>
          <p:nvPr/>
        </p:nvSpPr>
        <p:spPr>
          <a:xfrm>
            <a:off x="350532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28"/>
          <p:cNvSpPr/>
          <p:nvPr/>
        </p:nvSpPr>
        <p:spPr>
          <a:xfrm>
            <a:off x="1600200" y="1905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29"/>
          <p:cNvSpPr/>
          <p:nvPr/>
        </p:nvSpPr>
        <p:spPr>
          <a:xfrm>
            <a:off x="213372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30"/>
          <p:cNvSpPr/>
          <p:nvPr/>
        </p:nvSpPr>
        <p:spPr>
          <a:xfrm>
            <a:off x="4114800" y="1905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31"/>
          <p:cNvSpPr/>
          <p:nvPr/>
        </p:nvSpPr>
        <p:spPr>
          <a:xfrm>
            <a:off x="1523880" y="3429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6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9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9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9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9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4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4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9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4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9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4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4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" descr="21"/>
          <p:cNvPicPr/>
          <p:nvPr/>
        </p:nvPicPr>
        <p:blipFill>
          <a:blip r:embed="rId1"/>
          <a:stretch/>
        </p:blipFill>
        <p:spPr>
          <a:xfrm>
            <a:off x="609480" y="1484280"/>
            <a:ext cx="7162920" cy="685800"/>
          </a:xfrm>
          <a:prstGeom prst="rect">
            <a:avLst/>
          </a:prstGeom>
          <a:ln w="0">
            <a:noFill/>
          </a:ln>
        </p:spPr>
      </p:pic>
      <p:sp>
        <p:nvSpPr>
          <p:cNvPr id="1235" name="Rectangle 4"/>
          <p:cNvSpPr/>
          <p:nvPr/>
        </p:nvSpPr>
        <p:spPr>
          <a:xfrm>
            <a:off x="5423040" y="3533760"/>
            <a:ext cx="676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6"/>
          <p:cNvSpPr/>
          <p:nvPr/>
        </p:nvSpPr>
        <p:spPr>
          <a:xfrm>
            <a:off x="5176800" y="3059280"/>
            <a:ext cx="676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7" name="Picture 9" descr="11"/>
          <p:cNvPicPr/>
          <p:nvPr/>
        </p:nvPicPr>
        <p:blipFill>
          <a:blip r:embed="rId2"/>
          <a:stretch/>
        </p:blipFill>
        <p:spPr>
          <a:xfrm>
            <a:off x="304920" y="2463840"/>
            <a:ext cx="8381880" cy="3581280"/>
          </a:xfrm>
          <a:prstGeom prst="rect">
            <a:avLst/>
          </a:prstGeom>
          <a:ln w="0">
            <a:noFill/>
          </a:ln>
        </p:spPr>
      </p:pic>
      <p:sp>
        <p:nvSpPr>
          <p:cNvPr id="1238" name="Text Box 10"/>
          <p:cNvSpPr/>
          <p:nvPr/>
        </p:nvSpPr>
        <p:spPr>
          <a:xfrm>
            <a:off x="228600" y="5284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b Listen and sing the alphabet song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、唱字母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SU3 4b.mp3" descr=""/>
          <p:cNvPicPr/>
          <p:nvPr/>
        </p:nvPicPr>
        <p:blipFill>
          <a:blip r:embed="rId3"/>
          <a:stretch/>
        </p:blipFill>
        <p:spPr>
          <a:xfrm>
            <a:off x="8143920" y="1060560"/>
            <a:ext cx="619200" cy="61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0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5" dur="52662" fill="hold"/>
                                        <p:tgtEl>
                                          <p:spTgt spid="1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直接连接符 37"/>
          <p:cNvSpPr/>
          <p:nvPr/>
        </p:nvSpPr>
        <p:spPr>
          <a:xfrm flipV="1">
            <a:off x="5580000" y="5157720"/>
            <a:ext cx="9720" cy="1008000"/>
          </a:xfrm>
          <a:prstGeom prst="line">
            <a:avLst/>
          </a:prstGeom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矩形 17"/>
          <p:cNvSpPr/>
          <p:nvPr/>
        </p:nvSpPr>
        <p:spPr>
          <a:xfrm>
            <a:off x="515880" y="1836720"/>
            <a:ext cx="8251920" cy="353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直接连接符 19"/>
          <p:cNvSpPr/>
          <p:nvPr/>
        </p:nvSpPr>
        <p:spPr>
          <a:xfrm flipH="1">
            <a:off x="5568480" y="1765440"/>
            <a:ext cx="1800" cy="3500280"/>
          </a:xfrm>
          <a:prstGeom prst="line">
            <a:avLst/>
          </a:prstGeom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直接连接符 24"/>
          <p:cNvSpPr/>
          <p:nvPr/>
        </p:nvSpPr>
        <p:spPr>
          <a:xfrm>
            <a:off x="515880" y="3605040"/>
            <a:ext cx="82519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矩形 31"/>
          <p:cNvSpPr/>
          <p:nvPr/>
        </p:nvSpPr>
        <p:spPr>
          <a:xfrm>
            <a:off x="495360" y="1836720"/>
            <a:ext cx="857160" cy="7142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矩形 33"/>
          <p:cNvSpPr/>
          <p:nvPr/>
        </p:nvSpPr>
        <p:spPr>
          <a:xfrm>
            <a:off x="684360" y="3622680"/>
            <a:ext cx="857160" cy="7142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7"/>
          <p:cNvSpPr/>
          <p:nvPr/>
        </p:nvSpPr>
        <p:spPr>
          <a:xfrm>
            <a:off x="3393720" y="2055960"/>
            <a:ext cx="8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8"/>
          <p:cNvSpPr/>
          <p:nvPr/>
        </p:nvSpPr>
        <p:spPr>
          <a:xfrm>
            <a:off x="4434840" y="2050920"/>
            <a:ext cx="10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9"/>
          <p:cNvSpPr/>
          <p:nvPr/>
        </p:nvSpPr>
        <p:spPr>
          <a:xfrm>
            <a:off x="5723640" y="176544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10"/>
          <p:cNvSpPr/>
          <p:nvPr/>
        </p:nvSpPr>
        <p:spPr>
          <a:xfrm>
            <a:off x="7220880" y="1765440"/>
            <a:ext cx="117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24"/>
          <p:cNvSpPr/>
          <p:nvPr/>
        </p:nvSpPr>
        <p:spPr>
          <a:xfrm>
            <a:off x="1425960" y="205092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 Box 12"/>
          <p:cNvSpPr/>
          <p:nvPr/>
        </p:nvSpPr>
        <p:spPr>
          <a:xfrm>
            <a:off x="1692360" y="29242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13"/>
          <p:cNvSpPr/>
          <p:nvPr/>
        </p:nvSpPr>
        <p:spPr>
          <a:xfrm>
            <a:off x="2189160" y="292428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14"/>
          <p:cNvSpPr/>
          <p:nvPr/>
        </p:nvSpPr>
        <p:spPr>
          <a:xfrm>
            <a:off x="2691720" y="291312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15"/>
          <p:cNvSpPr/>
          <p:nvPr/>
        </p:nvSpPr>
        <p:spPr>
          <a:xfrm>
            <a:off x="3203640" y="291312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16"/>
          <p:cNvSpPr/>
          <p:nvPr/>
        </p:nvSpPr>
        <p:spPr>
          <a:xfrm>
            <a:off x="3699000" y="292428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17"/>
          <p:cNvSpPr/>
          <p:nvPr/>
        </p:nvSpPr>
        <p:spPr>
          <a:xfrm>
            <a:off x="4161960" y="292428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v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18"/>
          <p:cNvSpPr/>
          <p:nvPr/>
        </p:nvSpPr>
        <p:spPr>
          <a:xfrm>
            <a:off x="5639040" y="26370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19"/>
          <p:cNvSpPr/>
          <p:nvPr/>
        </p:nvSpPr>
        <p:spPr>
          <a:xfrm>
            <a:off x="7389720" y="262260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直接连接符 37"/>
          <p:cNvSpPr/>
          <p:nvPr/>
        </p:nvSpPr>
        <p:spPr>
          <a:xfrm>
            <a:off x="515880" y="3605040"/>
            <a:ext cx="8251920" cy="0"/>
          </a:xfrm>
          <a:prstGeom prst="line">
            <a:avLst/>
          </a:prstGeom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直接连接符 43"/>
          <p:cNvSpPr/>
          <p:nvPr/>
        </p:nvSpPr>
        <p:spPr>
          <a:xfrm>
            <a:off x="515880" y="3605040"/>
            <a:ext cx="8251920" cy="0"/>
          </a:xfrm>
          <a:prstGeom prst="line">
            <a:avLst/>
          </a:prstGeom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24"/>
          <p:cNvSpPr/>
          <p:nvPr/>
        </p:nvSpPr>
        <p:spPr>
          <a:xfrm>
            <a:off x="2287800" y="2050920"/>
            <a:ext cx="2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24"/>
          <p:cNvSpPr/>
          <p:nvPr/>
        </p:nvSpPr>
        <p:spPr>
          <a:xfrm>
            <a:off x="2816280" y="205092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矩形 46"/>
          <p:cNvSpPr/>
          <p:nvPr/>
        </p:nvSpPr>
        <p:spPr>
          <a:xfrm>
            <a:off x="684360" y="2781360"/>
            <a:ext cx="857160" cy="7142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18"/>
          <p:cNvSpPr/>
          <p:nvPr/>
        </p:nvSpPr>
        <p:spPr>
          <a:xfrm>
            <a:off x="6046920" y="2637000"/>
            <a:ext cx="3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18"/>
          <p:cNvSpPr/>
          <p:nvPr/>
        </p:nvSpPr>
        <p:spPr>
          <a:xfrm>
            <a:off x="6390720" y="263700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18"/>
          <p:cNvSpPr/>
          <p:nvPr/>
        </p:nvSpPr>
        <p:spPr>
          <a:xfrm>
            <a:off x="6881040" y="263700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24"/>
          <p:cNvSpPr/>
          <p:nvPr/>
        </p:nvSpPr>
        <p:spPr>
          <a:xfrm>
            <a:off x="1715040" y="369396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24"/>
          <p:cNvSpPr/>
          <p:nvPr/>
        </p:nvSpPr>
        <p:spPr>
          <a:xfrm>
            <a:off x="2194200" y="367524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24"/>
          <p:cNvSpPr/>
          <p:nvPr/>
        </p:nvSpPr>
        <p:spPr>
          <a:xfrm>
            <a:off x="2890080" y="3699000"/>
            <a:ext cx="7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24"/>
          <p:cNvSpPr/>
          <p:nvPr/>
        </p:nvSpPr>
        <p:spPr>
          <a:xfrm>
            <a:off x="5619600" y="3645000"/>
            <a:ext cx="8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矩形 67"/>
          <p:cNvSpPr/>
          <p:nvPr/>
        </p:nvSpPr>
        <p:spPr>
          <a:xfrm>
            <a:off x="684360" y="4551480"/>
            <a:ext cx="857160" cy="7142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24"/>
          <p:cNvSpPr/>
          <p:nvPr/>
        </p:nvSpPr>
        <p:spPr>
          <a:xfrm>
            <a:off x="1621440" y="4638600"/>
            <a:ext cx="18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24"/>
          <p:cNvSpPr/>
          <p:nvPr/>
        </p:nvSpPr>
        <p:spPr>
          <a:xfrm>
            <a:off x="5799240" y="458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10"/>
          <p:cNvSpPr/>
          <p:nvPr/>
        </p:nvSpPr>
        <p:spPr>
          <a:xfrm>
            <a:off x="5714640" y="212256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10"/>
          <p:cNvSpPr/>
          <p:nvPr/>
        </p:nvSpPr>
        <p:spPr>
          <a:xfrm>
            <a:off x="6721920" y="2133720"/>
            <a:ext cx="8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10"/>
          <p:cNvSpPr/>
          <p:nvPr/>
        </p:nvSpPr>
        <p:spPr>
          <a:xfrm>
            <a:off x="5618520" y="2997360"/>
            <a:ext cx="7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文本框 157745"/>
          <p:cNvSpPr/>
          <p:nvPr/>
        </p:nvSpPr>
        <p:spPr>
          <a:xfrm>
            <a:off x="2173320" y="67140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Listen and repeat. 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听一听，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椭圆 157746"/>
          <p:cNvSpPr/>
          <p:nvPr/>
        </p:nvSpPr>
        <p:spPr>
          <a:xfrm>
            <a:off x="282600" y="704880"/>
            <a:ext cx="719280" cy="57636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4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直接连接符 37"/>
          <p:cNvSpPr/>
          <p:nvPr/>
        </p:nvSpPr>
        <p:spPr>
          <a:xfrm>
            <a:off x="515880" y="3605040"/>
            <a:ext cx="8251920" cy="0"/>
          </a:xfrm>
          <a:prstGeom prst="line">
            <a:avLst/>
          </a:prstGeom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直接连接符 37"/>
          <p:cNvSpPr/>
          <p:nvPr/>
        </p:nvSpPr>
        <p:spPr>
          <a:xfrm>
            <a:off x="515880" y="3605040"/>
            <a:ext cx="8251920" cy="0"/>
          </a:xfrm>
          <a:prstGeom prst="line">
            <a:avLst/>
          </a:prstGeom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直接连接符 37"/>
          <p:cNvSpPr/>
          <p:nvPr/>
        </p:nvSpPr>
        <p:spPr>
          <a:xfrm>
            <a:off x="515880" y="3605040"/>
            <a:ext cx="8251920" cy="0"/>
          </a:xfrm>
          <a:prstGeom prst="line">
            <a:avLst/>
          </a:prstGeom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矩形 67"/>
          <p:cNvSpPr/>
          <p:nvPr/>
        </p:nvSpPr>
        <p:spPr>
          <a:xfrm>
            <a:off x="684360" y="5451480"/>
            <a:ext cx="857160" cy="7142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文本框 157751"/>
          <p:cNvSpPr/>
          <p:nvPr/>
        </p:nvSpPr>
        <p:spPr>
          <a:xfrm>
            <a:off x="1624320" y="548784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sto MT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文本框 157752"/>
          <p:cNvSpPr/>
          <p:nvPr/>
        </p:nvSpPr>
        <p:spPr>
          <a:xfrm>
            <a:off x="2347920" y="5516640"/>
            <a:ext cx="4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sto MT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文本框 157753"/>
          <p:cNvSpPr/>
          <p:nvPr/>
        </p:nvSpPr>
        <p:spPr>
          <a:xfrm>
            <a:off x="5592240" y="5468760"/>
            <a:ext cx="10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sto MT"/>
              </a:rPr>
              <a:t>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文本框 157754"/>
          <p:cNvSpPr/>
          <p:nvPr/>
        </p:nvSpPr>
        <p:spPr>
          <a:xfrm>
            <a:off x="6818040" y="551340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sto MT"/>
              </a:rPr>
              <a:t>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文本框 157755"/>
          <p:cNvSpPr/>
          <p:nvPr/>
        </p:nvSpPr>
        <p:spPr>
          <a:xfrm>
            <a:off x="6395040" y="299412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sto MT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文本框 157756"/>
          <p:cNvSpPr/>
          <p:nvPr/>
        </p:nvSpPr>
        <p:spPr>
          <a:xfrm>
            <a:off x="7247520" y="2997360"/>
            <a:ext cx="13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sto MT"/>
              </a:rPr>
              <a:t>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文本框 157757"/>
          <p:cNvSpPr/>
          <p:nvPr/>
        </p:nvSpPr>
        <p:spPr>
          <a:xfrm>
            <a:off x="3720240" y="36450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sto MT"/>
              </a:rPr>
              <a:t>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矩形 157759"/>
          <p:cNvSpPr/>
          <p:nvPr/>
        </p:nvSpPr>
        <p:spPr>
          <a:xfrm>
            <a:off x="1469880" y="1609560"/>
            <a:ext cx="9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/ei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矩形 157760"/>
          <p:cNvSpPr/>
          <p:nvPr/>
        </p:nvSpPr>
        <p:spPr>
          <a:xfrm>
            <a:off x="1619280" y="243540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/i: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矩形 157761"/>
          <p:cNvSpPr/>
          <p:nvPr/>
        </p:nvSpPr>
        <p:spPr>
          <a:xfrm>
            <a:off x="7440480" y="3583080"/>
            <a:ext cx="73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/ɪ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矩形 157762"/>
          <p:cNvSpPr/>
          <p:nvPr/>
        </p:nvSpPr>
        <p:spPr>
          <a:xfrm>
            <a:off x="8285760" y="1998720"/>
            <a:ext cx="95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/æ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矩形 157763"/>
          <p:cNvSpPr/>
          <p:nvPr/>
        </p:nvSpPr>
        <p:spPr>
          <a:xfrm>
            <a:off x="4859280" y="3583080"/>
            <a:ext cx="8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/aɪ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矩形 157764"/>
          <p:cNvSpPr/>
          <p:nvPr/>
        </p:nvSpPr>
        <p:spPr>
          <a:xfrm>
            <a:off x="7284240" y="45910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/ɒ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矩形 157765"/>
          <p:cNvSpPr/>
          <p:nvPr/>
        </p:nvSpPr>
        <p:spPr>
          <a:xfrm>
            <a:off x="4023720" y="4508640"/>
            <a:ext cx="11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/əʊ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矩形 157766"/>
          <p:cNvSpPr/>
          <p:nvPr/>
        </p:nvSpPr>
        <p:spPr>
          <a:xfrm>
            <a:off x="3965040" y="5373720"/>
            <a:ext cx="121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/ju: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矩形 157767"/>
          <p:cNvSpPr/>
          <p:nvPr/>
        </p:nvSpPr>
        <p:spPr>
          <a:xfrm>
            <a:off x="7717320" y="5454720"/>
            <a:ext cx="90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/ʊ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矩形 157768"/>
          <p:cNvSpPr/>
          <p:nvPr/>
        </p:nvSpPr>
        <p:spPr>
          <a:xfrm>
            <a:off x="8389800" y="285264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/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0" name="SU3 4c.mp3" descr=""/>
          <p:cNvPicPr/>
          <p:nvPr/>
        </p:nvPicPr>
        <p:blipFill>
          <a:blip r:embed="rId1"/>
          <a:stretch/>
        </p:blipFill>
        <p:spPr>
          <a:xfrm>
            <a:off x="8439120" y="100980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1301" name="Text Box 24"/>
          <p:cNvSpPr/>
          <p:nvPr/>
        </p:nvSpPr>
        <p:spPr>
          <a:xfrm>
            <a:off x="1747080" y="203508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10"/>
          <p:cNvSpPr/>
          <p:nvPr/>
        </p:nvSpPr>
        <p:spPr>
          <a:xfrm>
            <a:off x="7455960" y="21891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76" dur="indefinite" restart="never" nodeType="tmRoot">
          <p:childTnLst>
            <p:seq>
              <p:cTn id="1577" dur="indefinite" nodeType="mainSeq">
                <p:childTnLst>
                  <p:par>
                    <p:cTn id="1578" fill="hold">
                      <p:stCondLst>
                        <p:cond delay="0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1" dur="130168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3" name="图片 136193" descr="20050614104725534"/>
          <p:cNvPicPr/>
          <p:nvPr/>
        </p:nvPicPr>
        <p:blipFill>
          <a:blip r:embed="rId1"/>
          <a:stretch/>
        </p:blipFill>
        <p:spPr>
          <a:xfrm>
            <a:off x="826920" y="419040"/>
            <a:ext cx="7823520" cy="6289560"/>
          </a:xfrm>
          <a:prstGeom prst="rect">
            <a:avLst/>
          </a:prstGeom>
          <a:ln w="0">
            <a:noFill/>
          </a:ln>
        </p:spPr>
      </p:pic>
      <p:sp>
        <p:nvSpPr>
          <p:cNvPr id="1304" name="椭圆 136194"/>
          <p:cNvSpPr/>
          <p:nvPr/>
        </p:nvSpPr>
        <p:spPr>
          <a:xfrm>
            <a:off x="1332000" y="1125360"/>
            <a:ext cx="718920" cy="648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4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文本框 136195"/>
          <p:cNvSpPr/>
          <p:nvPr/>
        </p:nvSpPr>
        <p:spPr>
          <a:xfrm>
            <a:off x="1465200" y="1017720"/>
            <a:ext cx="599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Listen and read the chant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cc0066"/>
                </a:solidFill>
                <a:latin typeface="Times New Roman"/>
              </a:rPr>
              <a:t>听录音，读儿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文本框 136196"/>
          <p:cNvSpPr/>
          <p:nvPr/>
        </p:nvSpPr>
        <p:spPr>
          <a:xfrm>
            <a:off x="1471320" y="2063880"/>
            <a:ext cx="59461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-E-I-O-U,           A-E-I-O-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-E-I-O-U.           A in Grac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 in Dale;              E in gree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E in evening;         I in whit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I in hi;                   O in no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O in OK;               U in b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U in ruler.             A-E-I-O-U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-E-I-O-U,           A-E-I-O-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7" name="SU3 4d.mp3" descr=""/>
          <p:cNvPicPr/>
          <p:nvPr/>
        </p:nvPicPr>
        <p:blipFill>
          <a:blip r:embed="rId2"/>
          <a:stretch/>
        </p:blipFill>
        <p:spPr>
          <a:xfrm>
            <a:off x="6588000" y="163836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82" dur="indefinite" restart="never" nodeType="tmRoot">
          <p:childTnLst>
            <p:seq>
              <p:cTn id="1583" dur="indefinite" nodeType="mainSeq">
                <p:childTnLst>
                  <p:par>
                    <p:cTn id="1584" fill="hold">
                      <p:stCondLst>
                        <p:cond delay="0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7" dur="52480" fill="hold"/>
                                        <p:tgtEl>
                                          <p:spTgt spid="1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矩形 141313"/>
          <p:cNvSpPr/>
          <p:nvPr/>
        </p:nvSpPr>
        <p:spPr>
          <a:xfrm>
            <a:off x="1873440" y="1331280"/>
            <a:ext cx="5121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: ________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: It’s ______ap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: What _______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: Gre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:  ______ it,ple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: G-R-E-E-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文本框 141315"/>
          <p:cNvSpPr/>
          <p:nvPr/>
        </p:nvSpPr>
        <p:spPr>
          <a:xfrm>
            <a:off x="4208040" y="6951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补全下面对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文本框 141316"/>
          <p:cNvSpPr/>
          <p:nvPr/>
        </p:nvSpPr>
        <p:spPr>
          <a:xfrm>
            <a:off x="2434320" y="1411200"/>
            <a:ext cx="176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What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文本框 141317"/>
          <p:cNvSpPr/>
          <p:nvPr/>
        </p:nvSpPr>
        <p:spPr>
          <a:xfrm>
            <a:off x="3410280" y="2127240"/>
            <a:ext cx="7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文本框 141318"/>
          <p:cNvSpPr/>
          <p:nvPr/>
        </p:nvSpPr>
        <p:spPr>
          <a:xfrm>
            <a:off x="3942720" y="2847960"/>
            <a:ext cx="128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o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文本框 141319"/>
          <p:cNvSpPr/>
          <p:nvPr/>
        </p:nvSpPr>
        <p:spPr>
          <a:xfrm>
            <a:off x="2955240" y="4340160"/>
            <a:ext cx="125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p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88" dur="indefinite" restart="never" nodeType="tmRoot">
          <p:childTnLst>
            <p:seq>
              <p:cTn id="1589" dur="indefinite" nodeType="mainSeq">
                <p:childTnLst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4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9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4" name="图片 137217" descr="20050605202126523"/>
          <p:cNvPicPr/>
          <p:nvPr/>
        </p:nvPicPr>
        <p:blipFill>
          <a:blip r:embed="rId1"/>
          <a:stretch/>
        </p:blipFill>
        <p:spPr>
          <a:xfrm>
            <a:off x="6659640" y="3716280"/>
            <a:ext cx="1493640" cy="2235240"/>
          </a:xfrm>
          <a:prstGeom prst="rect">
            <a:avLst/>
          </a:prstGeom>
          <a:ln w="0">
            <a:noFill/>
          </a:ln>
        </p:spPr>
      </p:pic>
      <p:pic>
        <p:nvPicPr>
          <p:cNvPr id="1315" name="图片 137218" descr="20050605201724343"/>
          <p:cNvPicPr/>
          <p:nvPr/>
        </p:nvPicPr>
        <p:blipFill>
          <a:blip r:embed="rId2"/>
          <a:stretch/>
        </p:blipFill>
        <p:spPr>
          <a:xfrm>
            <a:off x="4788000" y="3716280"/>
            <a:ext cx="1876320" cy="2249640"/>
          </a:xfrm>
          <a:prstGeom prst="rect">
            <a:avLst/>
          </a:prstGeom>
          <a:ln w="0">
            <a:noFill/>
          </a:ln>
        </p:spPr>
      </p:pic>
      <p:sp>
        <p:nvSpPr>
          <p:cNvPr id="1316" name="矩形 16"/>
          <p:cNvSpPr/>
          <p:nvPr/>
        </p:nvSpPr>
        <p:spPr>
          <a:xfrm>
            <a:off x="371520" y="1906560"/>
            <a:ext cx="785016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: Good morning, Hel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: Good _________, Ale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: What ______ this in Englis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: It’s a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: Spell it, pl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:_____________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: What color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: It’s ________________ .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矩形 20"/>
          <p:cNvSpPr/>
          <p:nvPr/>
        </p:nvSpPr>
        <p:spPr>
          <a:xfrm>
            <a:off x="2064600" y="2316240"/>
            <a:ext cx="20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o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矩形 17"/>
          <p:cNvSpPr/>
          <p:nvPr/>
        </p:nvSpPr>
        <p:spPr>
          <a:xfrm>
            <a:off x="2812320" y="2963880"/>
            <a:ext cx="52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矩形 18"/>
          <p:cNvSpPr/>
          <p:nvPr/>
        </p:nvSpPr>
        <p:spPr>
          <a:xfrm>
            <a:off x="2335320" y="3429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k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0" name="图片 137224" descr="t3t"/>
          <p:cNvPicPr/>
          <p:nvPr/>
        </p:nvPicPr>
        <p:blipFill>
          <a:blip r:embed="rId3"/>
          <a:stretch/>
        </p:blipFill>
        <p:spPr>
          <a:xfrm rot="7449000">
            <a:off x="5860440" y="4082760"/>
            <a:ext cx="1317600" cy="584280"/>
          </a:xfrm>
          <a:prstGeom prst="rect">
            <a:avLst/>
          </a:prstGeom>
          <a:ln w="0">
            <a:noFill/>
          </a:ln>
        </p:spPr>
      </p:pic>
      <p:sp>
        <p:nvSpPr>
          <p:cNvPr id="1321" name="文本框 137225"/>
          <p:cNvSpPr/>
          <p:nvPr/>
        </p:nvSpPr>
        <p:spPr>
          <a:xfrm>
            <a:off x="1262160" y="457848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K-E-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文本框 137226"/>
          <p:cNvSpPr/>
          <p:nvPr/>
        </p:nvSpPr>
        <p:spPr>
          <a:xfrm>
            <a:off x="1584360" y="5732640"/>
            <a:ext cx="413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yellow and or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文本框 137227"/>
          <p:cNvSpPr/>
          <p:nvPr/>
        </p:nvSpPr>
        <p:spPr>
          <a:xfrm>
            <a:off x="784440" y="539640"/>
            <a:ext cx="678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Times New Roman"/>
              </a:rPr>
              <a:t>Complete the following dialo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文本框 137228"/>
          <p:cNvSpPr/>
          <p:nvPr/>
        </p:nvSpPr>
        <p:spPr>
          <a:xfrm>
            <a:off x="4300920" y="11620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99"/>
                </a:solidFill>
                <a:latin typeface="Times New Roman"/>
              </a:rPr>
              <a:t>看图，完成下面对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10" dur="indefinite" restart="never" nodeType="tmRoot">
          <p:childTnLst>
            <p:seq>
              <p:cTn id="1611" dur="indefinite" nodeType="mainSeq">
                <p:childTnLst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TextBox 7"/>
          <p:cNvSpPr/>
          <p:nvPr/>
        </p:nvSpPr>
        <p:spPr>
          <a:xfrm>
            <a:off x="-66240" y="-2700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e79"/>
                </a:solidFill>
                <a:latin typeface="方正姚体"/>
                <a:ea typeface="方正姚体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6" name="图片 5" descr="图标2.jpg"/>
          <p:cNvPicPr/>
          <p:nvPr/>
        </p:nvPicPr>
        <p:blipFill>
          <a:blip r:embed="rId1"/>
          <a:stretch/>
        </p:blipFill>
        <p:spPr>
          <a:xfrm>
            <a:off x="7308720" y="4724280"/>
            <a:ext cx="1459080" cy="1747800"/>
          </a:xfrm>
          <a:prstGeom prst="rect">
            <a:avLst/>
          </a:prstGeom>
          <a:ln w="0">
            <a:noFill/>
          </a:ln>
        </p:spPr>
      </p:pic>
      <p:sp>
        <p:nvSpPr>
          <p:cNvPr id="1327" name="WordArt 12"/>
          <p:cNvSpPr txBox="1"/>
          <p:nvPr/>
        </p:nvSpPr>
        <p:spPr>
          <a:xfrm>
            <a:off x="2556000" y="476280"/>
            <a:ext cx="3671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Homework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8" name="Text Box 5"/>
          <p:cNvSpPr/>
          <p:nvPr/>
        </p:nvSpPr>
        <p:spPr>
          <a:xfrm>
            <a:off x="539640" y="155736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Oral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并熟记本单元的词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朗读并背诵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3b 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3d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上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Writt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(1) 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抄写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3b 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3d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上的句子一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(2) 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编一段新的对话，写在作业本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(3) 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背诵并默写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26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个字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8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6" name="ShockwaveFlash1"/>
          <p:cNvGraphicFramePr/>
          <p:nvPr/>
        </p:nvGraphicFramePr>
        <p:xfrm>
          <a:off x="0" y="0"/>
          <a:ext cx="9142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9" name="Picture 5" descr="未标题-1"/>
          <p:cNvPicPr/>
          <p:nvPr/>
        </p:nvPicPr>
        <p:blipFill>
          <a:blip r:embed="rId1"/>
          <a:stretch/>
        </p:blipFill>
        <p:spPr>
          <a:xfrm>
            <a:off x="2271600" y="1103400"/>
            <a:ext cx="5105520" cy="1263600"/>
          </a:xfrm>
          <a:prstGeom prst="rect">
            <a:avLst/>
          </a:prstGeom>
          <a:ln w="0">
            <a:noFill/>
          </a:ln>
        </p:spPr>
      </p:pic>
      <p:sp>
        <p:nvSpPr>
          <p:cNvPr id="1330" name="Text Box 3"/>
          <p:cNvSpPr/>
          <p:nvPr/>
        </p:nvSpPr>
        <p:spPr>
          <a:xfrm>
            <a:off x="1487520" y="3051000"/>
            <a:ext cx="69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f273d"/>
                </a:solidFill>
                <a:latin typeface="微软雅黑"/>
                <a:ea typeface="微软雅黑"/>
              </a:rPr>
              <a:t>更多精彩内容，微信扫描二维码获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1" name="Text Box 3" descr=""/>
          <p:cNvPicPr/>
          <p:nvPr/>
        </p:nvPicPr>
        <p:blipFill>
          <a:blip r:embed="rId2"/>
          <a:stretch/>
        </p:blipFill>
        <p:spPr>
          <a:xfrm>
            <a:off x="828720" y="4479840"/>
            <a:ext cx="4376520" cy="60480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1" descr="qrcode_for_gh_7fdfe855644d_258(1)"/>
          <p:cNvPicPr/>
          <p:nvPr/>
        </p:nvPicPr>
        <p:blipFill>
          <a:blip r:embed="rId3"/>
          <a:stretch/>
        </p:blipFill>
        <p:spPr>
          <a:xfrm>
            <a:off x="5684760" y="3933720"/>
            <a:ext cx="17701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fill="hold">
                      <p:stCondLst>
                        <p:cond delay="0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500"/>
                            </p:stCondLst>
                            <p:childTnLst>
                              <p:par>
                                <p:cTn id="16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TextBox 7"/>
          <p:cNvSpPr/>
          <p:nvPr/>
        </p:nvSpPr>
        <p:spPr>
          <a:xfrm>
            <a:off x="-66240" y="-2700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e79"/>
                </a:solidFill>
                <a:latin typeface="方正姚体"/>
                <a:ea typeface="方正姚体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4" name="图片 5" descr="图标2.jpg"/>
          <p:cNvPicPr/>
          <p:nvPr/>
        </p:nvPicPr>
        <p:blipFill>
          <a:blip r:embed="rId1"/>
          <a:stretch/>
        </p:blipFill>
        <p:spPr>
          <a:xfrm>
            <a:off x="7308720" y="4724280"/>
            <a:ext cx="1459080" cy="1747800"/>
          </a:xfrm>
          <a:prstGeom prst="rect">
            <a:avLst/>
          </a:prstGeom>
          <a:ln w="0">
            <a:noFill/>
          </a:ln>
        </p:spPr>
      </p:pic>
      <p:sp>
        <p:nvSpPr>
          <p:cNvPr id="1335" name="WordArt 12"/>
          <p:cNvSpPr txBox="1"/>
          <p:nvPr/>
        </p:nvSpPr>
        <p:spPr>
          <a:xfrm>
            <a:off x="2556000" y="476280"/>
            <a:ext cx="3671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Homework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36" name="Text Box 3"/>
          <p:cNvSpPr/>
          <p:nvPr/>
        </p:nvSpPr>
        <p:spPr>
          <a:xfrm>
            <a:off x="611280" y="1628640"/>
            <a:ext cx="792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r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朗读第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页上的单词和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ritt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抄写第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页上的单词三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抄写第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页图片上的句子一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9bd5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抄写字母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z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及字母缩写三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2" dur="indefinite" restart="never" nodeType="tmRoot">
          <p:childTnLst>
            <p:seq>
              <p:cTn id="1663" dur="indefinite" nodeType="mainSeq">
                <p:childTnLst>
                  <p:par>
                    <p:cTn id="1664" fill="hold">
                      <p:stCondLst>
                        <p:cond delay="0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Picture 5" descr="未标题-1"/>
          <p:cNvPicPr/>
          <p:nvPr/>
        </p:nvPicPr>
        <p:blipFill>
          <a:blip r:embed="rId1"/>
          <a:stretch/>
        </p:blipFill>
        <p:spPr>
          <a:xfrm>
            <a:off x="2271600" y="1103400"/>
            <a:ext cx="5105520" cy="1263600"/>
          </a:xfrm>
          <a:prstGeom prst="rect">
            <a:avLst/>
          </a:prstGeom>
          <a:ln w="0">
            <a:noFill/>
          </a:ln>
        </p:spPr>
      </p:pic>
      <p:sp>
        <p:nvSpPr>
          <p:cNvPr id="1338" name="Text Box 3"/>
          <p:cNvSpPr/>
          <p:nvPr/>
        </p:nvSpPr>
        <p:spPr>
          <a:xfrm>
            <a:off x="1487520" y="3051000"/>
            <a:ext cx="69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f273d"/>
                </a:solidFill>
                <a:latin typeface="微软雅黑"/>
                <a:ea typeface="微软雅黑"/>
              </a:rPr>
              <a:t>更多精彩内容，微信扫描二维码获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9" name="Text Box 3" descr=""/>
          <p:cNvPicPr/>
          <p:nvPr/>
        </p:nvPicPr>
        <p:blipFill>
          <a:blip r:embed="rId2"/>
          <a:stretch/>
        </p:blipFill>
        <p:spPr>
          <a:xfrm>
            <a:off x="828720" y="4479840"/>
            <a:ext cx="4376520" cy="604800"/>
          </a:xfrm>
          <a:prstGeom prst="rect">
            <a:avLst/>
          </a:prstGeom>
          <a:ln w="0">
            <a:noFill/>
          </a:ln>
        </p:spPr>
      </p:pic>
      <p:pic>
        <p:nvPicPr>
          <p:cNvPr id="1340" name="图片 1" descr="qrcode_for_gh_7fdfe855644d_258(1)"/>
          <p:cNvPicPr/>
          <p:nvPr/>
        </p:nvPicPr>
        <p:blipFill>
          <a:blip r:embed="rId3"/>
          <a:stretch/>
        </p:blipFill>
        <p:spPr>
          <a:xfrm>
            <a:off x="5684760" y="3933720"/>
            <a:ext cx="17701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0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2" descr="48e423f78dcc2c0fbd310948"/>
          <p:cNvPicPr/>
          <p:nvPr/>
        </p:nvPicPr>
        <p:blipFill>
          <a:blip r:embed="rId1"/>
          <a:srcRect l="0" t="0" r="0" b="43248"/>
          <a:stretch/>
        </p:blipFill>
        <p:spPr>
          <a:xfrm>
            <a:off x="174600" y="1041480"/>
            <a:ext cx="5008680" cy="5411880"/>
          </a:xfrm>
          <a:prstGeom prst="rect">
            <a:avLst/>
          </a:prstGeom>
          <a:ln w="0">
            <a:noFill/>
          </a:ln>
        </p:spPr>
      </p:pic>
      <p:sp>
        <p:nvSpPr>
          <p:cNvPr id="869" name="Line 3"/>
          <p:cNvSpPr/>
          <p:nvPr/>
        </p:nvSpPr>
        <p:spPr>
          <a:xfrm flipH="1" flipV="1">
            <a:off x="3995640" y="3428640"/>
            <a:ext cx="3097440" cy="1150920"/>
          </a:xfrm>
          <a:prstGeom prst="line">
            <a:avLst/>
          </a:prstGeom>
          <a:ln w="633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4"/>
          <p:cNvSpPr/>
          <p:nvPr/>
        </p:nvSpPr>
        <p:spPr>
          <a:xfrm flipH="1" flipV="1">
            <a:off x="4211640" y="2852640"/>
            <a:ext cx="2881440" cy="1152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5"/>
          <p:cNvSpPr/>
          <p:nvPr/>
        </p:nvSpPr>
        <p:spPr>
          <a:xfrm flipH="1" flipV="1">
            <a:off x="4211280" y="2420640"/>
            <a:ext cx="2592360" cy="93492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6"/>
          <p:cNvSpPr/>
          <p:nvPr/>
        </p:nvSpPr>
        <p:spPr>
          <a:xfrm flipH="1" flipV="1">
            <a:off x="3924360" y="2204640"/>
            <a:ext cx="3024000" cy="14292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"/>
          <p:cNvSpPr/>
          <p:nvPr/>
        </p:nvSpPr>
        <p:spPr>
          <a:xfrm flipH="1">
            <a:off x="4716000" y="133992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8"/>
          <p:cNvSpPr/>
          <p:nvPr/>
        </p:nvSpPr>
        <p:spPr>
          <a:xfrm flipH="1" flipV="1">
            <a:off x="1547640" y="2062080"/>
            <a:ext cx="2664000" cy="316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9"/>
          <p:cNvSpPr/>
          <p:nvPr/>
        </p:nvSpPr>
        <p:spPr>
          <a:xfrm>
            <a:off x="2987640" y="4762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 rainbow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彩虹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10"/>
          <p:cNvSpPr/>
          <p:nvPr/>
        </p:nvSpPr>
        <p:spPr>
          <a:xfrm>
            <a:off x="3995640" y="5013360"/>
            <a:ext cx="1728720" cy="72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1"/>
          <p:cNvSpPr/>
          <p:nvPr/>
        </p:nvSpPr>
        <p:spPr>
          <a:xfrm>
            <a:off x="3995640" y="5013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wh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2"/>
          <p:cNvSpPr/>
          <p:nvPr/>
        </p:nvSpPr>
        <p:spPr>
          <a:xfrm>
            <a:off x="6912000" y="4292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cc0099"/>
                </a:solidFill>
                <a:latin typeface="Comic Sans MS"/>
              </a:rPr>
              <a:t>pur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13"/>
          <p:cNvSpPr/>
          <p:nvPr/>
        </p:nvSpPr>
        <p:spPr>
          <a:xfrm>
            <a:off x="7093080" y="364500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b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4"/>
          <p:cNvSpPr/>
          <p:nvPr/>
        </p:nvSpPr>
        <p:spPr>
          <a:xfrm>
            <a:off x="6588000" y="29955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g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5"/>
          <p:cNvSpPr/>
          <p:nvPr/>
        </p:nvSpPr>
        <p:spPr>
          <a:xfrm>
            <a:off x="6516720" y="9079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16"/>
          <p:cNvSpPr/>
          <p:nvPr/>
        </p:nvSpPr>
        <p:spPr>
          <a:xfrm>
            <a:off x="6588000" y="2131920"/>
            <a:ext cx="2305080" cy="792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7"/>
          <p:cNvSpPr/>
          <p:nvPr/>
        </p:nvSpPr>
        <p:spPr>
          <a:xfrm>
            <a:off x="6877080" y="2131920"/>
            <a:ext cx="18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el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18"/>
          <p:cNvSpPr/>
          <p:nvPr/>
        </p:nvSpPr>
        <p:spPr>
          <a:xfrm flipH="1">
            <a:off x="4284360" y="1771560"/>
            <a:ext cx="2158920" cy="7164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19"/>
          <p:cNvSpPr/>
          <p:nvPr/>
        </p:nvSpPr>
        <p:spPr>
          <a:xfrm>
            <a:off x="6516720" y="1413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Comic Sans MS"/>
              </a:rPr>
              <a:t>or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7"/>
          <p:cNvSpPr/>
          <p:nvPr/>
        </p:nvSpPr>
        <p:spPr>
          <a:xfrm>
            <a:off x="-108000" y="-27000"/>
            <a:ext cx="21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e79"/>
                </a:solidFill>
                <a:latin typeface="方正姚体"/>
                <a:ea typeface="方正姚体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" descr="7746704cd5cc24f2d0c86a3f"/>
          <p:cNvPicPr/>
          <p:nvPr/>
        </p:nvPicPr>
        <p:blipFill>
          <a:blip r:embed="rId1"/>
          <a:srcRect l="0" t="0" r="0" b="29940"/>
          <a:stretch/>
        </p:blipFill>
        <p:spPr>
          <a:xfrm>
            <a:off x="299880" y="692280"/>
            <a:ext cx="1006560" cy="151128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3" descr="tzzzzywc633060"/>
          <p:cNvPicPr/>
          <p:nvPr/>
        </p:nvPicPr>
        <p:blipFill>
          <a:blip r:embed="rId2"/>
          <a:stretch/>
        </p:blipFill>
        <p:spPr>
          <a:xfrm>
            <a:off x="6732720" y="4579920"/>
            <a:ext cx="915840" cy="93492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4" descr="070214081849923"/>
          <p:cNvPicPr/>
          <p:nvPr/>
        </p:nvPicPr>
        <p:blipFill>
          <a:blip r:embed="rId3"/>
          <a:stretch/>
        </p:blipFill>
        <p:spPr>
          <a:xfrm>
            <a:off x="3564000" y="4003560"/>
            <a:ext cx="1512720" cy="135108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5" descr="钢笔">
            <a:hlinkClick r:id="rId4"/>
          </p:cNvPr>
          <p:cNvPicPr/>
          <p:nvPr/>
        </p:nvPicPr>
        <p:blipFill>
          <a:blip r:embed="rId5"/>
          <a:srcRect l="19253" t="8702" r="17083" b="17462"/>
          <a:stretch/>
        </p:blipFill>
        <p:spPr>
          <a:xfrm>
            <a:off x="5435640" y="4219560"/>
            <a:ext cx="1103400" cy="1366920"/>
          </a:xfrm>
          <a:prstGeom prst="rect">
            <a:avLst/>
          </a:prstGeom>
          <a:ln w="0">
            <a:noFill/>
          </a:ln>
        </p:spPr>
      </p:pic>
      <p:sp>
        <p:nvSpPr>
          <p:cNvPr id="891" name="Text Box 6"/>
          <p:cNvSpPr/>
          <p:nvPr/>
        </p:nvSpPr>
        <p:spPr>
          <a:xfrm>
            <a:off x="1979640" y="83664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: What c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or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it?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7"/>
          <p:cNvSpPr/>
          <p:nvPr/>
        </p:nvSpPr>
        <p:spPr>
          <a:xfrm>
            <a:off x="2050920" y="2203560"/>
            <a:ext cx="30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: It’s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8"/>
          <p:cNvSpPr/>
          <p:nvPr/>
        </p:nvSpPr>
        <p:spPr>
          <a:xfrm>
            <a:off x="395280" y="2276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9"/>
          <p:cNvSpPr/>
          <p:nvPr/>
        </p:nvSpPr>
        <p:spPr>
          <a:xfrm>
            <a:off x="468360" y="2708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0"/>
          <p:cNvSpPr/>
          <p:nvPr/>
        </p:nvSpPr>
        <p:spPr>
          <a:xfrm>
            <a:off x="4140360" y="14842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1"/>
          <p:cNvSpPr/>
          <p:nvPr/>
        </p:nvSpPr>
        <p:spPr>
          <a:xfrm>
            <a:off x="324000" y="4653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Picture 12" descr="SP_057"/>
          <p:cNvPicPr/>
          <p:nvPr/>
        </p:nvPicPr>
        <p:blipFill>
          <a:blip r:embed="rId6"/>
          <a:stretch/>
        </p:blipFill>
        <p:spPr>
          <a:xfrm>
            <a:off x="1979640" y="3716280"/>
            <a:ext cx="1160280" cy="1800360"/>
          </a:xfrm>
          <a:prstGeom prst="rect">
            <a:avLst/>
          </a:prstGeom>
          <a:ln w="0">
            <a:noFill/>
          </a:ln>
        </p:spPr>
      </p:pic>
      <p:sp>
        <p:nvSpPr>
          <p:cNvPr id="898" name="Text Box 13"/>
          <p:cNvSpPr/>
          <p:nvPr/>
        </p:nvSpPr>
        <p:spPr>
          <a:xfrm>
            <a:off x="1835280" y="5516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4"/>
          <p:cNvSpPr/>
          <p:nvPr/>
        </p:nvSpPr>
        <p:spPr>
          <a:xfrm>
            <a:off x="3564000" y="5516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5"/>
          <p:cNvSpPr/>
          <p:nvPr/>
        </p:nvSpPr>
        <p:spPr>
          <a:xfrm>
            <a:off x="5292720" y="5516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6"/>
          <p:cNvSpPr/>
          <p:nvPr/>
        </p:nvSpPr>
        <p:spPr>
          <a:xfrm>
            <a:off x="6443640" y="5516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7"/>
          <p:cNvSpPr/>
          <p:nvPr/>
        </p:nvSpPr>
        <p:spPr>
          <a:xfrm>
            <a:off x="7740720" y="44355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8"/>
          <p:cNvSpPr/>
          <p:nvPr/>
        </p:nvSpPr>
        <p:spPr>
          <a:xfrm>
            <a:off x="7524720" y="19875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Picture 19" descr="u=1148168934,392251846&amp;fm=0&amp;gp=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40720" y="763560"/>
            <a:ext cx="1071360" cy="1295280"/>
          </a:xfrm>
          <a:prstGeom prst="rect">
            <a:avLst/>
          </a:prstGeom>
          <a:ln w="0">
            <a:noFill/>
          </a:ln>
        </p:spPr>
      </p:pic>
      <p:sp>
        <p:nvSpPr>
          <p:cNvPr id="905" name="Text Box 20"/>
          <p:cNvSpPr/>
          <p:nvPr/>
        </p:nvSpPr>
        <p:spPr>
          <a:xfrm>
            <a:off x="5724360" y="3284640"/>
            <a:ext cx="15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1"/>
          <p:cNvSpPr/>
          <p:nvPr/>
        </p:nvSpPr>
        <p:spPr>
          <a:xfrm>
            <a:off x="468360" y="515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ə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Picture 22" descr="MCj03871560000[1]"/>
          <p:cNvPicPr/>
          <p:nvPr/>
        </p:nvPicPr>
        <p:blipFill>
          <a:blip r:embed="rId9"/>
          <a:stretch/>
        </p:blipFill>
        <p:spPr>
          <a:xfrm>
            <a:off x="7354800" y="2635200"/>
            <a:ext cx="1789200" cy="178920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23" descr="MCj04348720000[1]"/>
          <p:cNvPicPr/>
          <p:nvPr/>
        </p:nvPicPr>
        <p:blipFill>
          <a:blip r:embed="rId10"/>
          <a:stretch/>
        </p:blipFill>
        <p:spPr>
          <a:xfrm>
            <a:off x="395280" y="33559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24" descr="MCj04078560000[1]"/>
          <p:cNvPicPr/>
          <p:nvPr/>
        </p:nvPicPr>
        <p:blipFill>
          <a:blip r:embed="rId11"/>
          <a:stretch/>
        </p:blipFill>
        <p:spPr>
          <a:xfrm>
            <a:off x="5796000" y="1771560"/>
            <a:ext cx="1387440" cy="1676520"/>
          </a:xfrm>
          <a:prstGeom prst="rect">
            <a:avLst/>
          </a:prstGeom>
          <a:ln w="0">
            <a:noFill/>
          </a:ln>
        </p:spPr>
      </p:pic>
      <p:sp>
        <p:nvSpPr>
          <p:cNvPr id="910" name="Text Box 25"/>
          <p:cNvSpPr/>
          <p:nvPr/>
        </p:nvSpPr>
        <p:spPr>
          <a:xfrm>
            <a:off x="2124000" y="5877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26"/>
          <p:cNvSpPr/>
          <p:nvPr/>
        </p:nvSpPr>
        <p:spPr>
          <a:xfrm>
            <a:off x="3995640" y="5877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27"/>
          <p:cNvSpPr/>
          <p:nvPr/>
        </p:nvSpPr>
        <p:spPr>
          <a:xfrm>
            <a:off x="5580000" y="5877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28"/>
          <p:cNvSpPr/>
          <p:nvPr/>
        </p:nvSpPr>
        <p:spPr>
          <a:xfrm>
            <a:off x="6156360" y="3645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9"/>
          <p:cNvSpPr/>
          <p:nvPr/>
        </p:nvSpPr>
        <p:spPr>
          <a:xfrm>
            <a:off x="7740720" y="23479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ə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30"/>
          <p:cNvSpPr/>
          <p:nvPr/>
        </p:nvSpPr>
        <p:spPr>
          <a:xfrm>
            <a:off x="8101080" y="4940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31"/>
          <p:cNvSpPr/>
          <p:nvPr/>
        </p:nvSpPr>
        <p:spPr>
          <a:xfrm rot="10800000">
            <a:off x="6300720" y="5948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32"/>
          <p:cNvSpPr/>
          <p:nvPr/>
        </p:nvSpPr>
        <p:spPr>
          <a:xfrm>
            <a:off x="6804000" y="5877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Text Box 2"/>
          <p:cNvSpPr/>
          <p:nvPr/>
        </p:nvSpPr>
        <p:spPr>
          <a:xfrm>
            <a:off x="2556000" y="2997360"/>
            <a:ext cx="4103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 color</a:t>
            </a:r>
            <a:r>
              <a:rPr b="1" lang="en-US" sz="36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it?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"/>
          <p:cNvSpPr/>
          <p:nvPr/>
        </p:nvSpPr>
        <p:spPr>
          <a:xfrm>
            <a:off x="2556000" y="3500280"/>
            <a:ext cx="303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It’s  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4"/>
          <p:cNvSpPr/>
          <p:nvPr/>
        </p:nvSpPr>
        <p:spPr>
          <a:xfrm>
            <a:off x="468360" y="4365720"/>
            <a:ext cx="1871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Arial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5"/>
          <p:cNvSpPr/>
          <p:nvPr/>
        </p:nvSpPr>
        <p:spPr>
          <a:xfrm>
            <a:off x="2411280" y="5157720"/>
            <a:ext cx="1871640" cy="122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6"/>
          <p:cNvSpPr/>
          <p:nvPr/>
        </p:nvSpPr>
        <p:spPr>
          <a:xfrm>
            <a:off x="4572000" y="5084640"/>
            <a:ext cx="1871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b0f0"/>
                </a:solidFill>
                <a:latin typeface="Arial"/>
              </a:rPr>
              <a:t>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val 7"/>
          <p:cNvSpPr/>
          <p:nvPr/>
        </p:nvSpPr>
        <p:spPr>
          <a:xfrm>
            <a:off x="6588000" y="4292640"/>
            <a:ext cx="1871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8000"/>
                </a:solidFill>
                <a:latin typeface="Arial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8"/>
          <p:cNvSpPr/>
          <p:nvPr/>
        </p:nvSpPr>
        <p:spPr>
          <a:xfrm>
            <a:off x="7093080" y="2708280"/>
            <a:ext cx="1871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9"/>
          <p:cNvSpPr/>
          <p:nvPr/>
        </p:nvSpPr>
        <p:spPr>
          <a:xfrm>
            <a:off x="6948360" y="1197000"/>
            <a:ext cx="1871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10"/>
          <p:cNvSpPr/>
          <p:nvPr/>
        </p:nvSpPr>
        <p:spPr>
          <a:xfrm>
            <a:off x="179280" y="1197000"/>
            <a:ext cx="1871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11"/>
          <p:cNvSpPr/>
          <p:nvPr/>
        </p:nvSpPr>
        <p:spPr>
          <a:xfrm>
            <a:off x="250920" y="2781360"/>
            <a:ext cx="1871640" cy="122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2"/>
          <p:cNvSpPr/>
          <p:nvPr/>
        </p:nvSpPr>
        <p:spPr>
          <a:xfrm>
            <a:off x="2556000" y="1844640"/>
            <a:ext cx="4103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s this?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3"/>
          <p:cNvSpPr/>
          <p:nvPr/>
        </p:nvSpPr>
        <p:spPr>
          <a:xfrm>
            <a:off x="2556000" y="2421000"/>
            <a:ext cx="303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It’s  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Picture 2" descr="1"/>
          <p:cNvPicPr/>
          <p:nvPr/>
        </p:nvPicPr>
        <p:blipFill>
          <a:blip r:embed="rId1"/>
          <a:stretch/>
        </p:blipFill>
        <p:spPr>
          <a:xfrm>
            <a:off x="3787920" y="1341360"/>
            <a:ext cx="4662360" cy="49719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3"/>
          <p:cNvSpPr/>
          <p:nvPr/>
        </p:nvSpPr>
        <p:spPr>
          <a:xfrm>
            <a:off x="142920" y="40464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a  Look at the picture. Write the letter for each col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val 4"/>
          <p:cNvSpPr/>
          <p:nvPr/>
        </p:nvSpPr>
        <p:spPr>
          <a:xfrm>
            <a:off x="826920" y="1341360"/>
            <a:ext cx="503280" cy="35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Oval 5"/>
          <p:cNvSpPr/>
          <p:nvPr/>
        </p:nvSpPr>
        <p:spPr>
          <a:xfrm>
            <a:off x="826920" y="1844640"/>
            <a:ext cx="50328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Oval 6"/>
          <p:cNvSpPr/>
          <p:nvPr/>
        </p:nvSpPr>
        <p:spPr>
          <a:xfrm>
            <a:off x="826920" y="2349360"/>
            <a:ext cx="503280" cy="358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7"/>
          <p:cNvSpPr/>
          <p:nvPr/>
        </p:nvSpPr>
        <p:spPr>
          <a:xfrm>
            <a:off x="826920" y="2924280"/>
            <a:ext cx="503280" cy="35856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8"/>
          <p:cNvSpPr/>
          <p:nvPr/>
        </p:nvSpPr>
        <p:spPr>
          <a:xfrm>
            <a:off x="826920" y="3500280"/>
            <a:ext cx="503280" cy="358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val 9"/>
          <p:cNvSpPr/>
          <p:nvPr/>
        </p:nvSpPr>
        <p:spPr>
          <a:xfrm>
            <a:off x="826920" y="4076640"/>
            <a:ext cx="50328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val 10"/>
          <p:cNvSpPr/>
          <p:nvPr/>
        </p:nvSpPr>
        <p:spPr>
          <a:xfrm>
            <a:off x="826920" y="4581360"/>
            <a:ext cx="503280" cy="358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11"/>
          <p:cNvSpPr/>
          <p:nvPr/>
        </p:nvSpPr>
        <p:spPr>
          <a:xfrm>
            <a:off x="826920" y="5157720"/>
            <a:ext cx="503280" cy="358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2"/>
          <p:cNvSpPr/>
          <p:nvPr/>
        </p:nvSpPr>
        <p:spPr>
          <a:xfrm>
            <a:off x="1692360" y="1411200"/>
            <a:ext cx="12952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13"/>
          <p:cNvSpPr/>
          <p:nvPr/>
        </p:nvSpPr>
        <p:spPr>
          <a:xfrm>
            <a:off x="1908000" y="1268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4"/>
          <p:cNvSpPr/>
          <p:nvPr/>
        </p:nvSpPr>
        <p:spPr>
          <a:xfrm>
            <a:off x="1908000" y="17715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5"/>
          <p:cNvSpPr/>
          <p:nvPr/>
        </p:nvSpPr>
        <p:spPr>
          <a:xfrm>
            <a:off x="1908000" y="23479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6"/>
          <p:cNvSpPr/>
          <p:nvPr/>
        </p:nvSpPr>
        <p:spPr>
          <a:xfrm>
            <a:off x="1908000" y="2924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7"/>
          <p:cNvSpPr/>
          <p:nvPr/>
        </p:nvSpPr>
        <p:spPr>
          <a:xfrm>
            <a:off x="1908000" y="342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8"/>
          <p:cNvSpPr/>
          <p:nvPr/>
        </p:nvSpPr>
        <p:spPr>
          <a:xfrm>
            <a:off x="1908000" y="4005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9"/>
          <p:cNvSpPr/>
          <p:nvPr/>
        </p:nvSpPr>
        <p:spPr>
          <a:xfrm>
            <a:off x="1908000" y="4508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20"/>
          <p:cNvSpPr/>
          <p:nvPr/>
        </p:nvSpPr>
        <p:spPr>
          <a:xfrm>
            <a:off x="1908000" y="5084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7"/>
          <p:cNvSpPr/>
          <p:nvPr/>
        </p:nvSpPr>
        <p:spPr>
          <a:xfrm>
            <a:off x="-102960" y="-2700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e79"/>
                </a:solidFill>
                <a:latin typeface="方正姚体"/>
                <a:ea typeface="方正姚体"/>
              </a:rPr>
              <a:t>Conso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 Box 2"/>
          <p:cNvSpPr/>
          <p:nvPr/>
        </p:nvSpPr>
        <p:spPr>
          <a:xfrm>
            <a:off x="108000" y="450720"/>
            <a:ext cx="771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b  Listen and repeat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录音并跟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Picture 3" descr="pic_128277"/>
          <p:cNvPicPr/>
          <p:nvPr/>
        </p:nvPicPr>
        <p:blipFill>
          <a:blip r:embed="rId1"/>
          <a:srcRect l="22665" t="26045" r="34312" b="46197"/>
          <a:stretch/>
        </p:blipFill>
        <p:spPr>
          <a:xfrm>
            <a:off x="412920" y="966960"/>
            <a:ext cx="4951080" cy="3111480"/>
          </a:xfrm>
          <a:prstGeom prst="rect">
            <a:avLst/>
          </a:prstGeom>
          <a:ln w="0">
            <a:noFill/>
          </a:ln>
        </p:spPr>
      </p:pic>
      <p:sp>
        <p:nvSpPr>
          <p:cNvPr id="952" name="AutoShape 4"/>
          <p:cNvSpPr/>
          <p:nvPr/>
        </p:nvSpPr>
        <p:spPr>
          <a:xfrm>
            <a:off x="179280" y="1123920"/>
            <a:ext cx="2376720" cy="433440"/>
          </a:xfrm>
          <a:prstGeom prst="wedgeEllipseCallout">
            <a:avLst>
              <a:gd name="adj1" fmla="val 23166"/>
              <a:gd name="adj2" fmla="val 91824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at’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AutoShape 5"/>
          <p:cNvSpPr/>
          <p:nvPr/>
        </p:nvSpPr>
        <p:spPr>
          <a:xfrm>
            <a:off x="3797280" y="1123920"/>
            <a:ext cx="1495440" cy="433440"/>
          </a:xfrm>
          <a:prstGeom prst="wedgeEllipseCallout">
            <a:avLst>
              <a:gd name="adj1" fmla="val -23458"/>
              <a:gd name="adj2" fmla="val 88995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t’s V.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AutoShape 6"/>
          <p:cNvSpPr/>
          <p:nvPr/>
        </p:nvSpPr>
        <p:spPr>
          <a:xfrm>
            <a:off x="250920" y="3676680"/>
            <a:ext cx="3241440" cy="617400"/>
          </a:xfrm>
          <a:prstGeom prst="wedgeEllipseCallout">
            <a:avLst>
              <a:gd name="adj1" fmla="val 967"/>
              <a:gd name="adj2" fmla="val -88106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at color is it?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utoShape 7"/>
          <p:cNvSpPr/>
          <p:nvPr/>
        </p:nvSpPr>
        <p:spPr>
          <a:xfrm>
            <a:off x="2556000" y="3213000"/>
            <a:ext cx="1855800" cy="432000"/>
          </a:xfrm>
          <a:prstGeom prst="wedgeEllipseCallout">
            <a:avLst>
              <a:gd name="adj1" fmla="val 0"/>
              <a:gd name="adj2" fmla="val -108175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t’s r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Picture 8" descr=""/>
          <p:cNvPicPr/>
          <p:nvPr/>
        </p:nvPicPr>
        <p:blipFill>
          <a:blip r:embed="rId2"/>
          <a:stretch/>
        </p:blipFill>
        <p:spPr>
          <a:xfrm>
            <a:off x="4675320" y="2676600"/>
            <a:ext cx="4221000" cy="3848040"/>
          </a:xfrm>
          <a:prstGeom prst="rect">
            <a:avLst/>
          </a:prstGeom>
          <a:ln w="0">
            <a:noFill/>
          </a:ln>
        </p:spPr>
      </p:pic>
      <p:sp>
        <p:nvSpPr>
          <p:cNvPr id="957" name="AutoShape 9"/>
          <p:cNvSpPr/>
          <p:nvPr/>
        </p:nvSpPr>
        <p:spPr>
          <a:xfrm>
            <a:off x="4140360" y="3591000"/>
            <a:ext cx="2273040" cy="799920"/>
          </a:xfrm>
          <a:prstGeom prst="wedgeEllipseCallout">
            <a:avLst>
              <a:gd name="adj1" fmla="val 26046"/>
              <a:gd name="adj2" fmla="val 82935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at’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a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AutoShape 10"/>
          <p:cNvSpPr/>
          <p:nvPr/>
        </p:nvSpPr>
        <p:spPr>
          <a:xfrm>
            <a:off x="7608960" y="4629240"/>
            <a:ext cx="1287360" cy="554040"/>
          </a:xfrm>
          <a:prstGeom prst="wedgeEllipseCallout">
            <a:avLst>
              <a:gd name="adj1" fmla="val 8092"/>
              <a:gd name="adj2" fmla="val -84314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t’s Z.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1"/>
          <p:cNvSpPr/>
          <p:nvPr/>
        </p:nvSpPr>
        <p:spPr>
          <a:xfrm>
            <a:off x="3780000" y="5576760"/>
            <a:ext cx="2633400" cy="839880"/>
          </a:xfrm>
          <a:prstGeom prst="wedgeEllipseCallout">
            <a:avLst>
              <a:gd name="adj1" fmla="val 30402"/>
              <a:gd name="adj2" fmla="val -83333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at color is it?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AutoShape 12"/>
          <p:cNvSpPr/>
          <p:nvPr/>
        </p:nvSpPr>
        <p:spPr>
          <a:xfrm>
            <a:off x="6804000" y="5932440"/>
            <a:ext cx="2092320" cy="592200"/>
          </a:xfrm>
          <a:prstGeom prst="wedgeEllipseCallout">
            <a:avLst>
              <a:gd name="adj1" fmla="val 10449"/>
              <a:gd name="adj2" fmla="val -113074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t’s black.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3"/>
          <p:cNvSpPr/>
          <p:nvPr/>
        </p:nvSpPr>
        <p:spPr>
          <a:xfrm>
            <a:off x="539640" y="5013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s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指近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4"/>
          <p:cNvSpPr/>
          <p:nvPr/>
        </p:nvSpPr>
        <p:spPr>
          <a:xfrm>
            <a:off x="5796000" y="1413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at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指远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SU3 1b.mp3" descr=""/>
          <p:cNvPicPr/>
          <p:nvPr/>
        </p:nvPicPr>
        <p:blipFill>
          <a:blip r:embed="rId3"/>
          <a:stretch/>
        </p:blipFill>
        <p:spPr>
          <a:xfrm>
            <a:off x="8078760" y="50472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9" dur="30432" fill="hold"/>
                                        <p:tgtEl>
                                          <p:spTgt spid="9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04:38:03Z</dcterms:created>
  <dc:creator>Administrator</dc:creator>
  <dc:description/>
  <cp:keywords/>
  <dc:language>en-US</dc:language>
  <cp:lastModifiedBy>XTZJ</cp:lastModifiedBy>
  <dcterms:modified xsi:type="dcterms:W3CDTF">2018-09-09T08:36:57Z</dcterms:modified>
  <cp:revision>220</cp:revision>
  <dc:subject/>
  <dc:title>优翼课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</Properties>
</file>